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07D4-6544-42FA-B94E-55065C265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1CB9-A9F6-42FF-AC56-27DDFA3B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43C31-FFE5-4B50-9012-9F131F688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EA8C3-7E7E-419F-B2FA-327F349B0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FFF8-7331-49D3-808D-F61F9B62D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4CBEC-EE89-4DF0-9353-E6057F5C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3A794-A4CA-4D65-9AF6-7D858215E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D4A3-9F8E-4804-A8D8-6178B502A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5561-6CC6-4A98-B47E-B3F11073B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E2CA-6CF6-49FB-8A05-E908180D0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BAAA2-AF13-4ABA-89B6-BD60C9F6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1217-3B9F-4D53-8592-618CBAC5D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A22F-FAA8-45AC-B720-177802464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2BDE-EAF3-4E7F-85DA-F3B71B791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of Pension and conditions for payment of Family Pen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8B05-2D5E-4E82-B76E-3A28020D1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or the pensioner against whom departmental or judicial proceedings referred to in Rule 9 of CCS (Pension) Rules, 1972, are pending shall not be eligible to commute a fraction of his pension during the tendency of such proceedings. (Rule 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B75C-084F-4380-9A20-BDBE7D087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pplication for commutation should be made to Head of office in the prescribed form after the date of retirement. However, if the retirement is on superannuation, he may submit the application before the date of superannuation. (Rules 13 and 1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304812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D11C-D6C1-4BF4-BF9F-A5DED6119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c00000"/>
                </a:solidFill>
                <a:latin typeface="Arial"/>
              </a:rPr>
              <a:t>applicant should make a nomination in the prescribed </a:t>
            </a:r>
            <a:r>
              <a:rPr b="0" lang="en-US" sz="3200" spc="-1" strike="noStrike">
                <a:solidFill>
                  <a:srgbClr val="000000"/>
                </a:solidFill>
                <a:latin typeface="Arial"/>
              </a:rPr>
              <a:t>form, along with his application for commutation, conferring on one or more persons the right to receive the commuted value of pension in case he dies without receiving the commuted value on or after the date on which the commutation </a:t>
            </a:r>
            <a:r>
              <a:rPr b="0" lang="en-US" sz="3200" spc="-1" strike="noStrike">
                <a:solidFill>
                  <a:srgbClr val="c00000"/>
                </a:solidFill>
                <a:latin typeface="Arial"/>
              </a:rPr>
              <a:t>became absolu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132D-864F-4F4B-A44A-1618A7F60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05" name="PlaceHolder 2"/>
          <p:cNvSpPr>
            <a:spLocks noGrp="1"/>
          </p:cNvSpPr>
          <p:nvPr>
            <p:ph/>
          </p:nvPr>
        </p:nvSpPr>
        <p:spPr>
          <a:xfrm>
            <a:off x="0" y="685800"/>
            <a:ext cx="9144000" cy="5440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tation without Medical Certifica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 superannuation pension under Rule 35.</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 retiring pension under Rule 36</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pension on absorption in or under a corporation or company or body in terms of Rule 37.</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 compensation pension on abolition of permanent pos under Rule 39</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 pension in whole or in part on the finalization of the departmental or judicial proceedings referred to in Rule 9 and issue of final orders thereon. (Rule 12)</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n applicant who applies for commutation of pension within one year of the date of his retirement but his application is received by the Head of Office after one year of the date of his retirement, shall not be eligible to get his pension commuted, without medical exa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1310-523B-4855-945B-6D8375241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mutation with Medical Certificate:</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 Those who retire on invalid pension under Rule 38.</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b) Those who are compulsorily retired from service as penalty and granted pension under Rule 40.</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 Those who are in receipt of Compassionate Allowance under Rule 41.</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d) The category of pensioner's referred to in “Commutation without medical certificate” above, if they apply for commutation after one year from the date of their retirement. (Rule 18)</a:t>
            </a:r>
            <a:endParaRPr b="0" lang="en-US" sz="2400" spc="-1" strike="noStrike">
              <a:solidFill>
                <a:srgbClr val="000000"/>
              </a:solidFill>
              <a:latin typeface="Arial"/>
            </a:endParaRPr>
          </a:p>
          <a:p>
            <a:pPr marL="343080" indent="-34308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mmutation applied one year after reti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109E-1913-4DCA-A02D-F21B35AF4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ommuted value of pension as finally calculated should be rounded off to the next higher rupee. (GID (1), below Rule 8, Appx.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9732-7857-4485-B9B4-7514936E7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duction in pension on account of commutation</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duction in the amount of pension on account of commutation will be operative from the date of receipt of the commuted value of pension or at the end of three months after issue of authority by the Accounts Officer for payment of commuted value of pension, whichever is earlier. In the case of retirement on superannuation and the commuted value of pension becomes payable on the day following the date of retirement, the reduction will be operative from the inception of pension.(Rule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304812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09D7-6D6D-4AAF-847E-E13D64727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s where medical examination is not necessar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ervant after retirement should submit his application for commutation in Form 1 to the Head of Office where he served last before retirement. The Head of Office should initial the application indicating the date of its receipt and process the same and forward it to the Accounts Officer who will issue payment authority after necessary che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312408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8F23-5917-47C4-8821-F8B38EA68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requiring Medical Examinations:</a:t>
            </a:r>
            <a:r>
              <a:rPr b="0" lang="en-US" sz="2000" spc="-1" strike="noStrike">
                <a:solidFill>
                  <a:srgbClr val="000000"/>
                </a:solidFill>
                <a:latin typeface="Arial"/>
              </a:rPr>
              <a:t> The Government servant or pensioner desiring to commute a fraction of his pension shall submit an application in the prescribed Form 2 to the Head of Office under whom he is serving.</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The Head of Office on receipt of the application shall acknowledge it immediately and forward the application to the Accounts Officer for completing Part-IV of the application and retransmission to him.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ounts Officer after completing Part-IV of the application shall return the application to the Head of Office.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receipt back, the Head of Office shall address the concerned Chief Medical Authority in Form 3 and forward to him (a) Form 2 with Part-IV duly completed in original; (b) two copies of the applicant's photograph of which one shall be an attested copy; (c)a copy of Form 4 with a spare copy of Part-II of that Form; and (d) report or statement or the applicant's  case if he has been granted invalid pens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3048120" cy="595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BB93-3BBD-48DE-9764-5D03CF86A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dure for Commutation of Pension</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hall also endorse a copy of the letter addressed to the Chief Medical Authority to the applicant and the Accounts Officer.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ef Medical Authority shall arrange for the medical examination of the applicant by the appropriate Medical Authority and also give intimation to the applicant to appear for the Medical Examination.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l Authority after examination of the applicant shall, without delay, forward to the Accounts Officer his medical repor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s Officer, on receipt of the Medical Report shall, without delay, issue an order to the Pension Disbursing Authority concerned for the payment of the commuted value of the pen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50D0-8949-4AB6-B7E6-F4A30EA51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entral Government employee is permitted to commute a portion of his pension and receive a lump sum amount in lieu of surrender a portion of the pens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167520"/>
            <a:ext cx="3048120" cy="554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A375-7D51-4005-9BD3-CE3B0A134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commuted value of pension</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p sum payable to an applicant shall be calculated in accordance with the table of the values applicable to him on the date on which the commutation becomes absolute. The amount of commuted value should be rounded off to the next higher rup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CD57-4DA2-4190-B76E-080291E46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of provisional pension</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to whom, pending assessment of final pension, provisional pension has been sanctioned under Rule 64 of CCS (Pension) Rules, shall be eligible to commute a fraction of such provisional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668F-218C-4BBB-9B7E-090EBAAFD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trospective revision of final pension</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nt who has commuted a fraction of his final pension and after commutation his pension has been revised and enhanced retrospectively as a result of Government's decision, the applicant shall be paid the difference between the commuted value determined with reference to the enhanced pension and the commuted value already author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312408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2536-E52A-40B1-A65D-1654BA757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toration of commuted portion of pension after 15 year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ted portion of pension shall be restored after completion of fifteen years from the date of retirement if the commutation is simultaneous with retirement. In other cases, the commuted portion of pension will be restored after fifteen years from the date of commu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819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C18D-9B83-4617-9214-A8C7FC5C6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ath of the pensioner before receiving the commuted valu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ensioner dies without receiving the commuted value on or after the date on which commutation became absolute, the commuted value shall be paid to his nominee(s). If there is no such nomination, the commuted value will be paid to the family members, it shall be paid to his '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C321-FB56-4DBE-A976-BDC9E73B0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value to be entered in both halves of PPO</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e on which the payment of the commuted value of pension was made to the applicant or the commuted value was credited to the applicant's account shall be entered in both halves of the Pension Payment Order by the Disbursing Authority under intimation to the Accounts Officer who authorized the payment of commuted value of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F1D6-4F43-49B0-B9B1-D0B872C64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lculation of Dearness Relief payable to pensioners</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ness Relief admissible to pensioners will be calculated on the original amount of pension even after commutation of a portion of the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7101-0E1E-4D9D-8377-3016A0DBD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tation amount not taxable under IT Act</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p sum amount received on commutation of pension is not liable to be taxed under Income Tax 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8875-7178-49D8-96B2-7CC8FC963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Pen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1964, Scheme gives a life pension to the widow/widower of the Government Servan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his scheme has been extended from 22.09.1977 also to Government Servant on pensionable establishments who retired/died before 31.12.1963 as also to those who were alive on 31.12.1963 but had opted out of this scheme; vide Rule 54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36E0-AB29-4C7A-9246-57623DEAC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is admissible to the family of a deceased Government Servant, where he die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c00000"/>
                </a:solidFill>
                <a:latin typeface="Arial"/>
              </a:rPr>
              <a:t>after completion of one year’s continuous service or before completion of one year of continuous service if the deceased Government Servant immediately prior to his appointment was medically examined and declared fit for government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EC9C-16FA-49C4-9346-DFEBF9C80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ides, in the event of death of a Government Servant while in service or the death of a Central Government pensioner, his/her family is entitled to Family Pen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5280"/>
            <a:ext cx="32004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E779-8904-401A-99EF-6AD71319A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tirement from service and was in receipt of pension on the date of death. A Government Servant who retires from service before completing 10 years 'qualifying service  is not entitled for the payment of pension; but is entitled to only Service Gratuity. If such a person dies after retirement his family will not be eligible for the grant of Family Pension, 196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245280"/>
            <a:ext cx="2895480" cy="44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C764-28B3-4BB4-A59A-8D6E6B563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whom admissible</a:t>
            </a:r>
            <a:endParaRPr b="0" lang="en-US" sz="4400" spc="-1" strike="noStrike">
              <a:solidFill>
                <a:srgbClr val="000000"/>
              </a:solidFill>
              <a:latin typeface="Arial"/>
            </a:endParaRPr>
          </a:p>
        </p:txBody>
      </p:sp>
      <p:sp>
        <p:nvSpPr>
          <p:cNvPr id="19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mily Pension is not admissible</a:t>
            </a:r>
            <a:r>
              <a:rPr b="0" lang="en-US" sz="2600" spc="-1" strike="noStrike">
                <a:solidFill>
                  <a:srgbClr val="000000"/>
                </a:solidFill>
                <a:latin typeface="Arial"/>
              </a:rPr>
              <a:t> to a person who is already in receipt of family pension or is eligible thereof under any other rules of the Central Government or a State Government and/or Public sector Undertaking/ Autonomous Body/Local Fund under the Central or State Government. </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c00000"/>
                </a:solidFill>
                <a:latin typeface="Arial"/>
              </a:rPr>
              <a:t>Exception :-</a:t>
            </a:r>
            <a:endParaRPr b="0" lang="en-US" sz="2600" spc="-1" strike="noStrike">
              <a:solidFill>
                <a:srgbClr val="000000"/>
              </a:solidFill>
              <a:latin typeface="Arial"/>
            </a:endParaRPr>
          </a:p>
          <a:p>
            <a:pPr marL="343080" indent="-34308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llowed in the </a:t>
            </a:r>
            <a:r>
              <a:rPr b="0" lang="en-US" sz="2600" spc="-1" strike="noStrike">
                <a:solidFill>
                  <a:srgbClr val="000000"/>
                </a:solidFill>
                <a:latin typeface="Arial"/>
              </a:rPr>
              <a:t>event of death of a re-employed pensioner, in service or after retirement. The financial benefits for the past cases however is with effect from 24th September, 2012. </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1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9702-3140-4560-AE61-A099B9D8A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Family Pensio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 the case of Government Servant who retire from service or die while in service on or after 1st January, 1996, Family Pension, 1964, shall be calculated at a uniform rate of 30% of basic pay  in all cases subject to a minimum of Rs.9000.00-p.m (i) after completion of one year continuous service or (ii) before completion of one year service provided that the Government servant concerned, prior to his appointment to GS was medically examined by appropriate medical authority and declared fit for govt. service (iii) after retirement from service and was on the date of death  in receipt</a:t>
            </a:r>
            <a:r>
              <a:rPr b="0" lang="en-US" sz="2400" spc="-1" strike="noStrike">
                <a:solidFill>
                  <a:srgbClr val="000000"/>
                </a:solidFill>
                <a:latin typeface="Arial"/>
              </a:rPr>
              <a:t> </a:t>
            </a:r>
            <a:r>
              <a:rPr b="0" lang="en-US" sz="2400" spc="-1" strike="noStrike">
                <a:solidFill>
                  <a:srgbClr val="ff0000"/>
                </a:solidFill>
                <a:latin typeface="Arial"/>
              </a:rPr>
              <a:t>of a pension or compassionate allowance [Rule 54(2</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3581-5FCC-4C0B-B7D5-380E57195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er scale of family pen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 Government Servant, who is not governed by the Workmen's Compensation Act 1923 dies </a:t>
            </a:r>
            <a:r>
              <a:rPr b="0" lang="en-US" sz="2800" spc="-1" strike="noStrike" u="sng">
                <a:solidFill>
                  <a:srgbClr val="000000"/>
                </a:solidFill>
                <a:uFillTx/>
                <a:latin typeface="Arial"/>
              </a:rPr>
              <a:t>while in service </a:t>
            </a:r>
            <a:r>
              <a:rPr b="0" lang="en-US" sz="2800" spc="-1" strike="noStrike">
                <a:solidFill>
                  <a:srgbClr val="000000"/>
                </a:solidFill>
                <a:latin typeface="Arial"/>
              </a:rPr>
              <a:t>on or after 01.01.2016 having rendered not less than seven years continuous service the family pension payable to the family of the deceased Government Servant shall be equal to 50% of the pay last drawn by the Government Servant or twice the family pension admissible at normal rated, whichever is less </a:t>
            </a:r>
            <a:r>
              <a:rPr b="0" lang="en-US" sz="3200" spc="-1" strike="noStrike">
                <a:solidFill>
                  <a:srgbClr val="000000"/>
                </a:solidFill>
                <a:latin typeface="Arial"/>
              </a:rPr>
              <a:t>payable for a period of ten year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AB6B-8C04-46E1-B57E-06876FDD9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er scale of family pension</a:t>
            </a:r>
            <a:br>
              <a:rPr sz="4000"/>
            </a:br>
            <a:r>
              <a:rPr b="1" lang="en-US" sz="2800" spc="-1" strike="noStrike">
                <a:solidFill>
                  <a:srgbClr val="000000"/>
                </a:solidFill>
                <a:latin typeface="Arial"/>
              </a:rPr>
              <a:t>(death after retirement)</a:t>
            </a:r>
            <a:endParaRPr b="0" lang="en-US" sz="2800" spc="-1" strike="noStrike">
              <a:solidFill>
                <a:srgbClr val="000000"/>
              </a:solidFill>
              <a:latin typeface="Arial"/>
            </a:endParaRPr>
          </a:p>
        </p:txBody>
      </p:sp>
      <p:sp>
        <p:nvSpPr>
          <p:cNvPr id="210" name="PlaceHolder 2"/>
          <p:cNvSpPr>
            <a:spLocks noGrp="1"/>
          </p:cNvSpPr>
          <p:nvPr>
            <p:ph/>
          </p:nvPr>
        </p:nvSpPr>
        <p:spPr>
          <a:xfrm>
            <a:off x="457200" y="1599840"/>
            <a:ext cx="8229600" cy="4645080"/>
          </a:xfrm>
          <a:prstGeom prst="rect">
            <a:avLst/>
          </a:prstGeom>
          <a:noFill/>
          <a:ln w="0">
            <a:noFill/>
          </a:ln>
        </p:spPr>
        <p:txBody>
          <a:bodyPr anchor="t">
            <a:normAutofit fontScale="98000"/>
          </a:bodyPr>
          <a:p>
            <a:pPr marL="335880" indent="-3358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higher rate of family pension is payable from the date following the date of death of the Government Servant for a period of seven years or for the period up to date on which the deceased Government Servant would have attained the age of 67 years had he survived, whichever is earlier. </a:t>
            </a:r>
            <a:endParaRPr b="0" lang="en-US" sz="2700" spc="-1" strike="noStrike">
              <a:solidFill>
                <a:srgbClr val="000000"/>
              </a:solidFill>
              <a:latin typeface="Arial"/>
            </a:endParaRPr>
          </a:p>
          <a:p>
            <a:pPr marL="335880" indent="-335880" algn="just">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Arial"/>
              </a:rPr>
              <a:t>Parents wholly dependent on GS, having been included in definition of family are eligible for family pension at ordinary rates only as per Rule54(2) read with G.I Deptt of pensions and pw OM 45/51/97-P&amp;P.W.(E) vol II dated 19-04-2002</a:t>
            </a:r>
            <a:r>
              <a:rPr b="0" lang="en-US" sz="2700" spc="-1" strike="noStrike">
                <a:solidFill>
                  <a:srgbClr val="000000"/>
                </a:solidFill>
                <a:latin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8529-873B-4748-B285-0B37FD37B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mal of family pension</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expiry of the aforesaid initial period, the family pension payable shall be at the normal r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86F-8AA0-4FD1-BA78-55AEE6DFE8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ubling and rounding off of family pension</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family pension shall be fixed at monthly rates and be expressed in whole rupees, any fraction of a rupee being rounded off to the next higher rupee. In respect of family pension payable at higher rate under, the rounding off has to be done at the final stage, i.e., after doubling the family pen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BEAB-A16E-49FB-AF56-80F7D1E34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ing off  when divisible to more than one beneficiary</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family pension is divisible to more than one beneficiary, the fraction of a rupee, if any, in each share should be rounded off to the next higher rupee; but the total of all the shares should not exceed the maximum amount of family pension, i.e., 75000 p.m in the case of enhanced rate of family p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BFC3-7D1B-4EAC-9FE1-E8CD364B1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ition of 'pay' for family pension</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for this purpose means the emoluments as specified in Rule 33, i.e, the pay as defined in Rule 9(21) (a) (i) of the Fundamental Rules, non-practising allowance and </a:t>
            </a:r>
            <a:r>
              <a:rPr b="0" lang="en-US" sz="3200" spc="-1" strike="noStrike">
                <a:solidFill>
                  <a:srgbClr val="c00000"/>
                </a:solidFill>
                <a:latin typeface="Arial"/>
              </a:rPr>
              <a:t>stagnation</a:t>
            </a:r>
            <a:r>
              <a:rPr b="0" lang="en-US" sz="3200" spc="-1" strike="noStrike">
                <a:solidFill>
                  <a:srgbClr val="000000"/>
                </a:solidFill>
                <a:latin typeface="Arial"/>
              </a:rPr>
              <a:t> increment, if any, which the person was drawing on the date of his death while in service or immediately before retir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457200" y="6245280"/>
            <a:ext cx="3276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F043-627A-47E6-96A1-334A75AEF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whom family pension payable</a:t>
            </a:r>
            <a:endParaRPr b="0" lang="en-US" sz="40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pension is payable to the family of the deceased Government servant/ pensioner.' Family ' means-</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fe (whether the marriage took place before or after retirement) in the case of male Government servant.</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Husband (whether the marriage took place before or after retirement) in the case of female Government servant.</a:t>
            </a:r>
            <a:endParaRPr b="0" lang="en-US" sz="2800" spc="-1" strike="noStrike">
              <a:solidFill>
                <a:srgbClr val="000000"/>
              </a:solidFill>
              <a:latin typeface="Arial"/>
            </a:endParaRPr>
          </a:p>
          <a:p>
            <a:pPr marL="660240" indent="-660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Unmarried son(s) (born before or after retirement) who have not attained the age of 2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8F84-0977-4EE1-BE30-511D46BEA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ring this session we will discuss the procedure for commutation of pension and also discuss the conditions for payment of Family Pension and the amount of Family Pension admissible to Central Government employees or pensioners who die while in service or after retir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457200" y="6245280"/>
            <a:ext cx="2971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ADED-775B-4B69-9E4F-9D8594D13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whom family pension payable</a:t>
            </a:r>
            <a:endParaRPr b="0" lang="en-US" sz="4000" spc="-1" strike="noStrike">
              <a:solidFill>
                <a:srgbClr val="000000"/>
              </a:solidFill>
              <a:latin typeface="Arial"/>
            </a:endParaRPr>
          </a:p>
        </p:txBody>
      </p:sp>
      <p:sp>
        <p:nvSpPr>
          <p:cNvPr id="240" name="PlaceHolder 2"/>
          <p:cNvSpPr>
            <a:spLocks noGrp="1"/>
          </p:cNvSpPr>
          <p:nvPr>
            <p:ph/>
          </p:nvPr>
        </p:nvSpPr>
        <p:spPr>
          <a:xfrm>
            <a:off x="228240" y="1600200"/>
            <a:ext cx="8458200" cy="4525920"/>
          </a:xfrm>
          <a:prstGeom prst="rect">
            <a:avLst/>
          </a:prstGeom>
          <a:noFill/>
          <a:ln w="0">
            <a:noFill/>
          </a:ln>
        </p:spPr>
        <p:txBody>
          <a:bodyPr anchor="t">
            <a:normAutofit/>
          </a:bodyPr>
          <a:p>
            <a:pPr marL="660240" indent="-6602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unmarried daughter(s)/Widowed daughters/ Divorced daughters (born before or after retirement) without any age restriction.</a:t>
            </a:r>
            <a:endParaRPr b="0" lang="en-US" sz="2800" spc="-1" strike="noStrike">
              <a:solidFill>
                <a:srgbClr val="000000"/>
              </a:solidFill>
              <a:latin typeface="Arial"/>
            </a:endParaRPr>
          </a:p>
          <a:p>
            <a:pPr marL="660240" indent="-6602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ho were wholly dependent on the Government servant when he/she was alive, provided that the deceased Government servant had left behind neither a widow/widower nor an eligible son or daughter or a widowed/ divorced daughter and that the earnings of the parents is not more than minimum pension plus dearness relief (min pension is 9000.00+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457200" y="6245280"/>
            <a:ext cx="31240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3B5F-3034-4019-A8E8-779385868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45"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In the case of a widow or widower, up-to-date of death or re-marriage, whichever is earlie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In the case of an unmarried son/unmarried daughter, until he/she attains the age of 25 years or up to date of his/her marriage or till the date from which he/she starts earning a sum of Rs 9000.00 (ltd to min Pension admissible amount) or more per month from employment in Government, private sector, self employment, etc., whichever is the earli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Date Placeholder 3"/>
          <p:cNvSpPr/>
          <p:nvPr/>
        </p:nvSpPr>
        <p:spPr>
          <a:xfrm>
            <a:off x="457200" y="6245280"/>
            <a:ext cx="32004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EE15-2EB0-4DB2-A479-35136A79B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00"/>
                </a:solidFill>
                <a:latin typeface="Arial"/>
              </a:rPr>
              <a:t>In the case of widowed (including widowed disabled)/divorced daughter(s) up to date of her re-marriage or till she starts earning more than a sum of Rs 9000 plus dearness relief on date per month from employment, etc., or death, whichever is the earliest. Such daughter shall not be required to come back to her parental hom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t>
            </a:r>
            <a:r>
              <a:rPr b="0" lang="en-US" sz="2800" spc="-1" strike="noStrike">
                <a:solidFill>
                  <a:srgbClr val="000000"/>
                </a:solidFill>
                <a:latin typeface="Arial"/>
              </a:rPr>
              <a:t>	</a:t>
            </a:r>
            <a:r>
              <a:rPr b="0" lang="en-US" sz="2800" spc="-1" strike="noStrike">
                <a:solidFill>
                  <a:srgbClr val="000000"/>
                </a:solidFill>
                <a:latin typeface="Arial"/>
              </a:rPr>
              <a:t>In the case of wholly dependent parent(s), till his/her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C5DD-4A4E-4FC7-B755-8EBFD7FCB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 for which family pension is payable </a:t>
            </a:r>
            <a:endParaRPr b="0" lang="en-US" sz="40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amily pension is payable to only one member of the family at a time except in cases where it is payable to more than one widow or where it is payable or twin children.</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t is first payable to the widow/widower till the date of her/his death or remarriage, whichever is earlier and thereafter to the eligible children. </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ligible male/female children of deceased Government Servants/pensioners will be entitled to family pension in the order of their birth irrespective of their sex and the younger of them will not be eligible unless the elder above him/her becomes ineligible. </a:t>
            </a:r>
            <a:endParaRPr b="0" lang="en-US" sz="2100" spc="-1" strike="noStrike">
              <a:solidFill>
                <a:srgbClr val="000000"/>
              </a:solidFill>
              <a:latin typeface="Arial"/>
            </a:endParaRPr>
          </a:p>
          <a:p>
            <a:pPr marL="343080" indent="-343080" algn="just">
              <a:lnSpc>
                <a:spcPct val="80000"/>
              </a:lnSpc>
              <a:spcBef>
                <a:spcPts val="5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a:rPr>
              <a:t>Wholly dependent parents will become eligible for family pension if the deceased Government Servant had left neither a widow/widower nor an eligible son or daughter or a widowed/divorced daughter and that the earning of the parents is not more than Rs.9000 per month.</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3"/>
          <p:cNvSpPr/>
          <p:nvPr/>
        </p:nvSpPr>
        <p:spPr>
          <a:xfrm>
            <a:off x="457200" y="6245280"/>
            <a:ext cx="33526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02EB-D209-4988-A97F-917848457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so payable to children from the void or voidable marriage</a:t>
            </a:r>
            <a:endParaRPr b="0" lang="en-US" sz="40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view of the fact that section 16 of the Hindu Marriage Act, 1995, as amended by Hindu Marriage Laws Act states" Notwithstanding that a marriage is null and void under Section 11, any child of such marriage who would have been legitimate if the marriage had been valid, shall be legitimate, Family Pension will be payable to such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89E2-2FD8-4976-82B0-04C5F45A4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ulation of family pension in the case of twin children</a:t>
            </a:r>
            <a:endParaRPr b="0" lang="en-US" sz="40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the case of eligible twin children, the family pension should be paid in equal shares. When one child ceases to be eligible, his/her share shall revert to the other child and both of them ceases to be eligible, the family pension shall be payable to the next eligible child/twin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457200" y="6245280"/>
            <a:ext cx="30481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2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5D59-22E7-4934-8785-89B3F4FCB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missible to handicapped children even beyond the prescribed age-limit</a:t>
            </a:r>
            <a:endParaRPr b="0" lang="en-US" sz="4000" spc="-1" strike="noStrike">
              <a:solidFill>
                <a:srgbClr val="000000"/>
              </a:solidFill>
              <a:latin typeface="Arial"/>
            </a:endParaRPr>
          </a:p>
        </p:txBody>
      </p:sp>
      <p:sp>
        <p:nvSpPr>
          <p:cNvPr id="27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n or daughter of a Government Servant is suffering from any disorder or disability of mind or is physically crippled or disable so ad to render him or her unable to earn a living even </a:t>
            </a:r>
            <a:r>
              <a:rPr b="0" lang="en-US" sz="2800" spc="-1" strike="noStrike">
                <a:solidFill>
                  <a:srgbClr val="c00000"/>
                </a:solidFill>
                <a:latin typeface="Arial"/>
              </a:rPr>
              <a:t>after attaining the prescribed age, family pension is payable  for life subject to provisions of order prescribed in Rule 54 of CCS(pension) Rules, 1972. Additional family pension is payable by the PDA as soon as pensioner’s age is from 80 years to 100 years as per Rule 49,GID(5</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A490-DC1C-4B52-9B6A-5D1ED5720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end of the session the trainees will be able to state the procedure for commutation of pension and also work out the family pension admissible to the family of a Central Government employee or pensioner who dies while in service or after reti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971800" cy="6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78A9-ED8C-4FA8-9703-80279EAC4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et of rules titled "Central Civil Services (Commutation of Pension) Rules, 1981" to regulate the commutation of Civil pensions granted under the provisions of the 'CCS (Pension) Rules, 1972', was notified with effect from Ist July, 1981. These rules provide for a portion of a Government servant's pension (and not family pension) being commuted for a lump sum pay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734B-30A6-49D5-9E9D-DEE6BC56A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ther words, a Government pensioner can surrender a portion of his monthly pension and in lieu get a lump sum pay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468F-39AB-497E-AF8B-B932EDBF9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is entitled to commute for a lump sum payment a faction not exceeding 40% of his pension. Fraction of a rupee will be ignored for the purpose of commutation. (Rule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taion of Pension and FP</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72AA-67CB-4311-8FE7-995FBE393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tation of Pen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overnment servant or the pensioner against whom departmental or judicial proceedings referred to in Rule 9 of CCS (Pension) Rules, 1972, are pending shall not be eligible to commute a fraction of his pension during the tendency of such proceedings. (Rule 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4:51:03Z</dcterms:created>
  <dc:creator> a g officejammu</dc:creator>
  <dc:description/>
  <dc:language>en-US</dc:language>
  <cp:lastModifiedBy>JP</cp:lastModifiedBy>
  <cp:lastPrinted>2019-07-04T13:09:51Z</cp:lastPrinted>
  <dcterms:modified xsi:type="dcterms:W3CDTF">2019-11-04T08:25:40Z</dcterms:modified>
  <cp:revision>74</cp:revision>
  <dc:subject/>
  <dc:title>Commutation of Pension and Family Pension </dc:title>
</cp:coreProperties>
</file>