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C02960-67F5-4C23-AFAA-986730434C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D64C7-E82B-46B3-B314-74FE5525D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28045F-99EE-4C6B-A6B9-333C7827E7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3EC70F-3941-4F6C-A2C2-0941007EE7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542B5-826C-43B9-851B-6A4176DD4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1342A-DE16-4D8A-9E45-C3691197D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75796-2E29-4B8C-BA38-0B09CB721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02626-AE22-46CF-93F5-6412A3635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DEC64-04A8-4AB0-8DCD-2988EF2A3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73A82-5692-4C24-8CE4-1E78C1FFE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BD64F-7ABC-47AA-A73D-494CACA07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E55D6-1A86-43C6-B15D-4AD92BB05A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1B967-D601-4864-8CE2-FD1848B191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4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0CBF3-C056-43A5-9B01-91B9A27CB0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xtraordinary Pens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8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49314-5BC0-4A5B-9D19-E65B5DF609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iteria for accepting disablement/death as due to Government Service</a:t>
            </a:r>
            <a:endParaRPr b="0" lang="en-US" sz="32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blement shall be accepted as due to Government service provided that it is certified that it is due to wound, injury, or disease which (i) is </a:t>
            </a:r>
            <a:r>
              <a:rPr b="0" lang="en-US" sz="3200" spc="-1" strike="noStrike">
                <a:solidFill>
                  <a:srgbClr val="c00000"/>
                </a:solidFill>
                <a:latin typeface="Arial"/>
              </a:rPr>
              <a:t>attributable to Government service, or (ii) existed before </a:t>
            </a:r>
            <a:r>
              <a:rPr b="0" lang="en-US" sz="3200" spc="-1" strike="noStrike">
                <a:solidFill>
                  <a:srgbClr val="000000"/>
                </a:solidFill>
                <a:latin typeface="Arial"/>
              </a:rPr>
              <a:t>or </a:t>
            </a:r>
            <a:r>
              <a:rPr b="0" lang="en-US" sz="3200" spc="-1" strike="noStrike">
                <a:solidFill>
                  <a:srgbClr val="c00000"/>
                </a:solidFill>
                <a:latin typeface="Arial"/>
              </a:rPr>
              <a:t>arose during Government service and had been and remains aggravated thereb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9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A0B01-CBEF-4E06-9109-BD2C2C18D7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iteria for accepting disablement/death as due to Government Service</a:t>
            </a:r>
            <a:endParaRPr b="0" lang="en-US" sz="32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ath shall be accepted due to Government service, provided it is certified that it was due to or hastened by (i) a wound, injury or disease which was attributable to Government service or (ii) the aggravation by Government service of a wound, injury or disease which existed before or arose during Government servi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9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9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B8492-4426-4667-9C2C-D8F1275783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iteria for accepting disablement/death as due to Government Service</a:t>
            </a:r>
            <a:endParaRPr b="0" lang="en-US" sz="32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shall be a casual connection between (i) disablement and Government service and (ii) death and Government service, for attributability or aggravation to be conced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10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F6499-5B2A-447F-93FE-1A0B2CC330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finitions</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Pay' </a:t>
            </a:r>
            <a:r>
              <a:rPr b="0" lang="en-US" sz="2800" spc="-1" strike="noStrike">
                <a:solidFill>
                  <a:srgbClr val="c00000"/>
                </a:solidFill>
                <a:latin typeface="Arial"/>
              </a:rPr>
              <a:t>for the purpose of these rules, means the basic pay as defined in FR 9 (21) (a) (i) and includes Stagnation Increment and Non-Practicing Allowance. Special Pay Personal pay etc. will not be taken into account.  During the period from 01.04.2004 to 31.12.2005, Dearness Allowance equal to 50% of 'Basic Pay' is treated as Dearness Pay and reckoned as pay for the purpo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10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0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55EC6-2D24-4D65-A061-E7A2DAD4C4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finitions</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mily' </a:t>
            </a:r>
            <a:r>
              <a:rPr b="0" lang="en-US" sz="3200" spc="-1" strike="noStrike">
                <a:solidFill>
                  <a:srgbClr val="000000"/>
                </a:solidFill>
                <a:latin typeface="Arial"/>
              </a:rPr>
              <a:t>in relation to a Government Servant means:-</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fe in the case of a Government Servant, or husband in the case of a female Government Serv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11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24D67-E2AA-42B0-9630-8094F26480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finitions</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judicially separated wife or husband, such separation not being granted on the ground of adultery and the person surviving was not held guilty of committing adultery.</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married Son who has not attained the age of twenty-five years </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married/dependent daughter life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11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1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E8B53-DB3A-4D07-9E00-8C0D415D45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 CCS (Extraordinary) Pension Rules for determining compensation payable for death or disability under different circumstances the cases are  categorized in five distinct categories viz A,B,C,D &amp; E</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enefits admissible are specified under each categ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12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2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B72C6-4D0A-41D2-BC88-B6449EB7AF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egory 'A':-</a:t>
            </a:r>
            <a:r>
              <a:rPr b="0" lang="en-US" sz="2800" spc="-1" strike="noStrike">
                <a:solidFill>
                  <a:srgbClr val="000000"/>
                </a:solidFill>
                <a:latin typeface="Arial"/>
              </a:rPr>
              <a:t> Death and disability due to normal causes not attributable to Government services. Examples would be chronic ailments like heart and renal diseases, prolonged illness, accidents while not on duty, etc.</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s covered under this category would continue to be covered under the normal existing provisions of CCS (Pension) Rules, 197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12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19561-0AB9-4574-B861-91EF357F31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vision in respect of Categories 'B' and 'C' are applicable to all Central Government Servant paid from Civil Estimates, other than those to whom the Workmen's Compensation Act, 1923 applies whereas the provision in respect of Categories 'D' and 'E' are applicable to all Central Government Servant including those to whom the Workmen's Compensation act, 1923, applies subject to certain adjustmen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13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C0CA6-4A3E-42A6-903B-710B40BE30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egory 'B':- </a:t>
            </a:r>
            <a:r>
              <a:rPr b="0" lang="en-US" sz="3200" spc="-1" strike="noStrike">
                <a:solidFill>
                  <a:srgbClr val="000000"/>
                </a:solidFill>
                <a:latin typeface="Arial"/>
              </a:rPr>
              <a:t>Death and disability due to causes which are accepted as attributable to or aggravated by Government service. Diseases contracted because of continued exposure to a hostile work environment, subjected to or occupational hazards resulting in death or disability would be examp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4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032FA-3D01-44B9-AC1B-A1873C548B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ssion Overview</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ides, the Central Civil Services (Pension) Rules, 1972, Central Government employees are also covered by the Central Civil Services (Extraordinary Pension) Rules, 193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13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3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2BE38-C888-47FB-B7CD-0861920575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a:t>
            </a:r>
            <a:endParaRPr b="0" lang="en-US" sz="4400" spc="-1" strike="noStrike">
              <a:solidFill>
                <a:srgbClr val="000000"/>
              </a:solidFill>
              <a:latin typeface="Arial"/>
            </a:endParaRPr>
          </a:p>
        </p:txBody>
      </p:sp>
      <p:sp>
        <p:nvSpPr>
          <p:cNvPr id="140" name="PlaceHolder 2"/>
          <p:cNvSpPr>
            <a:spLocks noGrp="1"/>
          </p:cNvSpPr>
          <p:nvPr>
            <p:ph/>
          </p:nvPr>
        </p:nvSpPr>
        <p:spPr>
          <a:xfrm>
            <a:off x="457200" y="762120"/>
            <a:ext cx="8229600" cy="5364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Arial"/>
              </a:rPr>
              <a:t>Disability Pension for Categories B &amp; C</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Arial"/>
              </a:rPr>
              <a:t>(a) Disability pension would comprise of a service element equal to 50% of the notional pay as on 01.01.2016 plus disability element equal to 30% of the same notional pay, for 100% disability.</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Arial"/>
              </a:rPr>
              <a:t>(b) For disability less than 100%, disability element shall be reduced proportionately subject to the provisions of Rule 8 of CCS(EOP)Rules and subject to minimum disability pension of Rs. 18,000/- per month</a:t>
            </a:r>
            <a:r>
              <a:rPr b="0" lang="en-US" sz="2800" spc="-1" strike="noStrike">
                <a:solidFill>
                  <a:srgbClr val="000000"/>
                </a:solidFill>
                <a:latin typeface="Arial"/>
              </a:rPr>
              <a:t> (w.e.f 01.01.201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14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7EAE3-6B79-4109-BC62-F80349FC6F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mily Pension- </a:t>
            </a:r>
            <a:r>
              <a:rPr b="0" lang="en-US" sz="2800" spc="-1" strike="noStrike">
                <a:solidFill>
                  <a:srgbClr val="000000"/>
                </a:solidFill>
                <a:latin typeface="Arial"/>
              </a:rPr>
              <a:t>(1) Distinction between widow without children or those with children, for determination of the quantum of extraordinary family pension is abolished. The quantum of monthly extraordinary family pension for all categories of widows shall be </a:t>
            </a:r>
            <a:r>
              <a:rPr b="0" lang="en-US" sz="1800" spc="-1" strike="noStrike">
                <a:solidFill>
                  <a:srgbClr val="000000"/>
                </a:solidFill>
                <a:latin typeface="Arial"/>
              </a:rPr>
              <a:t>(w.e.f 01.01.2016)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40% of basic Pay subject to a minimum of Rs 11700.00 p.m if the deceased Government Servant was not holding a pensionable post.</a:t>
            </a: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60% of 'Basic Pay' subject to a minimum of Rs 18000 p.m if the deceased Government Servant was holding a pensionable po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14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97F7E-88CB-42B7-B9B1-6D531EB69B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a:t>
            </a:r>
            <a:endParaRPr b="0" lang="en-US" sz="4400" spc="-1" strike="noStrike">
              <a:solidFill>
                <a:srgbClr val="000000"/>
              </a:solidFill>
              <a:latin typeface="Arial"/>
            </a:endParaRPr>
          </a:p>
        </p:txBody>
      </p:sp>
      <p:sp>
        <p:nvSpPr>
          <p:cNvPr id="150" name="PlaceHolder 2"/>
          <p:cNvSpPr>
            <a:spLocks noGrp="1"/>
          </p:cNvSpPr>
          <p:nvPr>
            <p:ph/>
          </p:nvPr>
        </p:nvSpPr>
        <p:spPr>
          <a:xfrm>
            <a:off x="228240" y="1600200"/>
            <a:ext cx="89154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ability Pension limits (w.e.f  01.01.201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ll categories ( ie. category ,B,C,D and E ) – minimum Rs.18,000 per month</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Arial"/>
              </a:rPr>
              <a:t>The limit of maximum pension and family pension would not be applicable for disability pension under CCS(EOP)Ru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15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5D831-98B9-4970-BB59-B1EF883C5F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a:t>
            </a:r>
            <a:endParaRPr b="0" lang="en-US" sz="4400" spc="-1" strike="noStrike">
              <a:solidFill>
                <a:srgbClr val="000000"/>
              </a:solidFill>
              <a:latin typeface="Arial"/>
            </a:endParaRPr>
          </a:p>
        </p:txBody>
      </p:sp>
      <p:sp>
        <p:nvSpPr>
          <p:cNvPr id="155"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case where the widow dies or remarries, the children shall be paid family pension at the rates mentioned at (a) or (b) above, as applicable, and the same rate shall also apply to fatherless/motherless children. In both cases, family pension shall be paid to children for the period during which they would have been eligible for family pension under the CCS (Pension) Rules.</a:t>
            </a: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pendent parents/brothers/sisters, etc., shall be paid family pension at one-half the rate applicable to widows/fatherless or motherless childre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15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6CC11-F507-4E73-AC81-5720050CFE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a:t>
            </a: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pendent pension:- </a:t>
            </a:r>
            <a:r>
              <a:rPr b="0" lang="en-US" sz="2800" spc="-1" strike="noStrike">
                <a:solidFill>
                  <a:srgbClr val="000000"/>
                </a:solidFill>
                <a:latin typeface="Arial"/>
              </a:rPr>
              <a:t>If the deceased Government Servant has left neither a widow/widower nor a child, an award may be made to his/her father and mother individually or jointly and in absence of the father and the mother to minor brother(s) and sister(s), individually or collectively, if they were largely dependent on the Government Servant for support and are in pecuniary need. The Dependent Pension will be at one-half the rate applicable to the widow.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16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138C3-4AFD-4DC4-952D-85010DF4FF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a:t>
            </a: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egory 'C':- </a:t>
            </a:r>
            <a:r>
              <a:rPr b="0" lang="en-US" sz="3200" spc="-1" strike="noStrike">
                <a:solidFill>
                  <a:srgbClr val="000000"/>
                </a:solidFill>
                <a:latin typeface="Arial"/>
              </a:rPr>
              <a:t>Death or disability due to accidents in the performance of duties. Some examples are accidents while traveling on duty in Government vehicles or public transport, a journey on duty is performed by service aircraft, mishaps at sea electrocutions while on duty,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16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3796C-895E-4479-8237-64ACB1B87F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ability Pension: - </a:t>
            </a:r>
            <a:r>
              <a:rPr b="0" lang="en-US" sz="3200" spc="-1" strike="noStrike">
                <a:solidFill>
                  <a:srgbClr val="000000"/>
                </a:solidFill>
                <a:latin typeface="Arial"/>
              </a:rPr>
              <a:t>Same as for category 'B'</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mily Pension: - </a:t>
            </a:r>
            <a:r>
              <a:rPr b="0" lang="en-US" sz="3200" spc="-1" strike="noStrike">
                <a:solidFill>
                  <a:srgbClr val="000000"/>
                </a:solidFill>
                <a:latin typeface="Arial"/>
              </a:rPr>
              <a:t>Same as for category 'B'</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pendant Pension: -</a:t>
            </a:r>
            <a:r>
              <a:rPr b="0" lang="en-US" sz="3200" spc="-1" strike="noStrike">
                <a:solidFill>
                  <a:srgbClr val="000000"/>
                </a:solidFill>
                <a:latin typeface="Arial"/>
              </a:rPr>
              <a:t> Same as for category '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17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258D5-9AE8-440C-A7D1-1F67E6803F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a:t>
            </a: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egory 'D':- </a:t>
            </a:r>
            <a:r>
              <a:rPr b="0" lang="en-US" sz="2800" spc="-1" strike="noStrike">
                <a:solidFill>
                  <a:srgbClr val="000000"/>
                </a:solidFill>
                <a:latin typeface="Arial"/>
              </a:rPr>
              <a:t>Death and disability attributable to acts of violence by terrorists, anti-social elements, etc., whether in their performance of duties or otherwise. Apart from ceases of death or injury sustained by personnel of the Central Police Organizations while employed in aid of the Civil Administration in quelling agitation, riots or revolt by demonstrators, other public servants including police personnel, etc., bomb blasts in public places or transport, indiscriminate shooting incidents in public, etc., would be covered under this categ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17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B8A86-D9E9-46E0-8D22-E087DE464C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a:t>
            </a: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Arial"/>
              </a:rPr>
              <a:t>Disability Pension for category D:</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Arial"/>
              </a:rPr>
              <a:t>(a) Disability pension would comprise of a service element equal to 50% of the notional pay as on 01.01.2016 and disability element equal in amount to normal family pension</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Arial"/>
              </a:rPr>
              <a:t>(b) For lower percentage of the disability, the disability pension would be proportionately lower subject to the provisions of Rule 8 of CCS(EOP) Rules and subject to a minimum disability pension of Rs.18,000/- per month</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18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525EE-CC8A-4ECF-A9AD-F27F90BF65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4" name="PlaceHolder 1"/>
          <p:cNvSpPr>
            <a:spLocks noGrp="1"/>
          </p:cNvSpPr>
          <p:nvPr>
            <p:ph type="title"/>
          </p:nvPr>
        </p:nvSpPr>
        <p:spPr>
          <a:xfrm>
            <a:off x="457200" y="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a:t>
            </a:r>
            <a:endParaRPr b="0" lang="en-US" sz="4400" spc="-1" strike="noStrike">
              <a:solidFill>
                <a:srgbClr val="000000"/>
              </a:solidFill>
              <a:latin typeface="Arial"/>
            </a:endParaRPr>
          </a:p>
        </p:txBody>
      </p:sp>
      <p:sp>
        <p:nvSpPr>
          <p:cNvPr id="185" name="PlaceHolder 2"/>
          <p:cNvSpPr>
            <a:spLocks noGrp="1"/>
          </p:cNvSpPr>
          <p:nvPr>
            <p:ph/>
          </p:nvPr>
        </p:nvSpPr>
        <p:spPr>
          <a:xfrm>
            <a:off x="0" y="533520"/>
            <a:ext cx="9144000" cy="54864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Arial"/>
              </a:rPr>
              <a:t>    </a:t>
            </a:r>
            <a:r>
              <a:rPr b="1" lang="en-IN" sz="2400" spc="-1" strike="noStrike">
                <a:solidFill>
                  <a:srgbClr val="000000"/>
                </a:solidFill>
                <a:latin typeface="Arial"/>
              </a:rPr>
              <a:t>Family Pension under Categories D &amp; 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Arial"/>
              </a:rPr>
              <a:t>(a) Family pension to the widow shall be equal to the notional pay as on 01.01.2016</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Arial"/>
              </a:rPr>
              <a:t> </a:t>
            </a:r>
            <a:r>
              <a:rPr b="1" lang="en-IN" sz="2400" spc="-1" strike="noStrike">
                <a:solidFill>
                  <a:srgbClr val="000000"/>
                </a:solidFill>
                <a:latin typeface="Arial"/>
              </a:rPr>
              <a:t>To Dependent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Arial"/>
              </a:rPr>
              <a:t>(b) If the Government servant is not survived by his widow but is survived by child/children only, all children together shall be eligible for family pension at the rate of 60% of the notional pay as on 01.01.2016 subject to a minimum of Rs. 18,000/-</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Arial"/>
              </a:rPr>
              <a:t>(c) If the Government servant died as a bachelor or as a widower without children, family pension will be admissible to parents without reference to pecuniary circumstances, at the rate of 75% of the notional pay as on 01.01.2016, if both parents are alive, and at the rate of 60% if only one of them is al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5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57021-61F0-4A20-AE34-DCDDE9CCED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ssion Overview</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is session we will discuss the application of the Central Civil Services (Extraordinary Pension) Rules, 1939 to Central Government employees and their application in certain specific cas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18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A4781-5237-4D8F-B488-062F21D58A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a:t>
            </a: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egory 'E':- </a:t>
            </a:r>
            <a:r>
              <a:rPr b="0" lang="en-US" sz="2800" spc="-1" strike="noStrike">
                <a:solidFill>
                  <a:srgbClr val="000000"/>
                </a:solidFill>
                <a:latin typeface="Arial"/>
              </a:rPr>
              <a:t>Death or disability arising as a result of (a) attack by or during action against extremists, anti-social element, etc., and (b) enemy action in international war or border skirmishes and war-like situations, including cases which are attributable to (i) extremists acts, exploding mines, etc., while on way to an operational area, (ii) kidnapping by extremists; and (iii) battle inoculation as part of training exercises with live ammuni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19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34BA0-9B08-4FDE-80A5-D9E8D6B1F6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a:t>
            </a:r>
            <a:endParaRPr b="0" lang="en-US" sz="4400" spc="-1" strike="noStrike">
              <a:solidFill>
                <a:srgbClr val="000000"/>
              </a:solidFill>
              <a:latin typeface="Arial"/>
            </a:endParaRPr>
          </a:p>
        </p:txBody>
      </p:sp>
      <p:sp>
        <p:nvSpPr>
          <p:cNvPr id="195" name="PlaceHolder 2"/>
          <p:cNvSpPr>
            <a:spLocks noGrp="1"/>
          </p:cNvSpPr>
          <p:nvPr>
            <p:ph/>
          </p:nvPr>
        </p:nvSpPr>
        <p:spPr>
          <a:xfrm>
            <a:off x="456840" y="1600200"/>
            <a:ext cx="838188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Arial"/>
              </a:rPr>
              <a:t>Disability Pension for Cases under Category E</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Arial"/>
              </a:rPr>
              <a:t>Disability pension would comprise of a service element equal to 50% of the notional pay as on 01.01.2016 and disability element equal to the same notional pay as on 01.01.2016 for 100% disability.</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Arial"/>
              </a:rPr>
              <a:t> </a:t>
            </a:r>
            <a:r>
              <a:rPr b="0" lang="en-IN" sz="2400" spc="-1" strike="noStrike">
                <a:solidFill>
                  <a:srgbClr val="000000"/>
                </a:solidFill>
                <a:latin typeface="Arial"/>
              </a:rPr>
              <a:t>For lower percentage of the disability, the disability element shall be proportionately lower subject to the provisions of Rule 8 of CCS(EOP)Rules</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mily Pension: - </a:t>
            </a:r>
            <a:r>
              <a:rPr b="0" lang="en-US" sz="2400" spc="-1" strike="noStrike">
                <a:solidFill>
                  <a:srgbClr val="000000"/>
                </a:solidFill>
                <a:latin typeface="Arial"/>
              </a:rPr>
              <a:t>Same as for Category 'D' above.</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19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9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B8A74-7B2E-4409-9615-A348D7E6C3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ermination of percentage for computation of disability </a:t>
            </a:r>
            <a:endParaRPr b="0" lang="en-US" sz="4000" spc="-1" strike="noStrike">
              <a:solidFill>
                <a:srgbClr val="000000"/>
              </a:solidFill>
              <a:latin typeface="Arial"/>
            </a:endParaRPr>
          </a:p>
        </p:txBody>
      </p:sp>
      <p:graphicFrame>
        <p:nvGraphicFramePr>
          <p:cNvPr id="200" name=""/>
          <p:cNvGraphicFramePr/>
          <p:nvPr/>
        </p:nvGraphicFramePr>
        <p:xfrm>
          <a:off x="457200" y="1600200"/>
          <a:ext cx="8229600" cy="3962520"/>
        </p:xfrm>
        <a:graphic>
          <a:graphicData uri="http://schemas.openxmlformats.org/drawingml/2006/table">
            <a:tbl>
              <a:tblPr/>
              <a:tblGrid>
                <a:gridCol w="4114800"/>
                <a:gridCol w="4114800"/>
              </a:tblGrid>
              <a:tr h="226368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ntage of disability assessed by Medical Board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ntage to be reckoned for computation of disability elemen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98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than 50</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ween 50 and 75</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ween 76 and 1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1" name="Rectangle 1"/>
          <p:cNvSpPr/>
          <p:nvPr/>
        </p:nvSpPr>
        <p:spPr>
          <a:xfrm>
            <a:off x="228600" y="5783400"/>
            <a:ext cx="8686800" cy="42012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Above broadbanding not applicable to Govt Servant who are retained in servi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203"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0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C3244-A423-4267-A0C7-439C95DA55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5" name="Rectangle 4"/>
          <p:cNvSpPr/>
          <p:nvPr/>
        </p:nvSpPr>
        <p:spPr>
          <a:xfrm>
            <a:off x="157320" y="23760"/>
            <a:ext cx="8534160" cy="487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nstant Attendant Allowance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nsioner, who are drawing disability pension under the proviso of rule 9 for 100% disability and are completely dependent on others for day to day activities are also granted in addition to disability pension , the Constant Attendant Allowance  in accordance with the instructions issued from time to tim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recommendation of 7th Central Pay Commission w.e.f 01.07.2017 the Constant Attendant Allowance has been increased by a factor 1.5, ie. to Rs.6750/- per month. from the existing Rs.45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20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0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901BE-7033-4C73-861C-3FD7865B04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ump sum in lieu of disability pension when retained in service</a:t>
            </a:r>
            <a:endParaRPr b="0" lang="en-US" sz="32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If the Government Servant is retained in service in spite of such disablement, he shall be paid a compensation in lump sum (in lieu of disability pension) on the basis of the disability pension admissible to him calculated in accordance with the above provisions by arriving at the capitalized value of such disability pension with reference to the Commutation Table, in force from time to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21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538EB-943D-430C-A274-C316253D88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ditions</a:t>
            </a: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en-US" sz="2800" spc="-1" strike="noStrike">
                <a:solidFill>
                  <a:srgbClr val="000000"/>
                </a:solidFill>
                <a:latin typeface="Arial"/>
              </a:rPr>
              <a:t>	</a:t>
            </a:r>
            <a:r>
              <a:rPr b="0" lang="en-US" sz="2800" spc="-1" strike="noStrike">
                <a:solidFill>
                  <a:srgbClr val="000000"/>
                </a:solidFill>
                <a:latin typeface="Arial"/>
              </a:rPr>
              <a:t>No children's pension or education allowance shall be admissible in addition to the rates of Family Pension indicated above.</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Arial"/>
              </a:rPr>
              <a:t>The family pension shall be payable to the senior most beneficiary at a time on the same lines as is applicable for payment of family pension under Rule 54 of CCS Rules, 1972.</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a:solidFill>
                  <a:srgbClr val="000000"/>
                </a:solidFill>
                <a:latin typeface="Arial"/>
              </a:rPr>
              <a:t>	</a:t>
            </a:r>
            <a:r>
              <a:rPr b="0" lang="en-US" sz="2800" spc="-1" strike="noStrike">
                <a:solidFill>
                  <a:srgbClr val="000000"/>
                </a:solidFill>
                <a:latin typeface="Arial"/>
              </a:rPr>
              <a:t>The Family Pension, 1964, under Rule 54 of CCS (Pension) Rules, 1972, will not be admissible in addition to the Family Pension under CCS (Extraordinary) Pension Ru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21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1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2B274-878B-4C52-950F-6034DBDFB0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riod for which Extraordinary Family Pension is payable</a:t>
            </a:r>
            <a:endParaRPr b="0" lang="en-US" sz="4000" spc="-1" strike="noStrike">
              <a:solidFill>
                <a:srgbClr val="000000"/>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eriod for which the extraordinary family pension is payable shall be as follows:-</a:t>
            </a: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case of a widow or widower, up to date of death or re-marriage, whichever is earlier;</a:t>
            </a: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case of minor son till he attains the age of 25 years or he/she gets married or he/she earning a sum of Rs 9000.00 plus DA and above per month from employment in Government the private sector, self employment, etc.,</a:t>
            </a: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case of daughter during the period she is eligible for FP under CCS(pension) rules 197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22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2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99CE8-0A2B-422D-8441-DCFE688EB7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riod for which Dependant Pension is Payable</a:t>
            </a:r>
            <a:endParaRPr b="0" lang="en-US" sz="4000" spc="-1" strike="noStrike">
              <a:solidFill>
                <a:srgbClr val="000000"/>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eriod for which the Dependant Pension is payable shall be as follows:-</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a:t>
            </a:r>
            <a:r>
              <a:rPr b="0" lang="en-US" sz="2800" spc="-1" strike="noStrike">
                <a:solidFill>
                  <a:srgbClr val="000000"/>
                </a:solidFill>
                <a:latin typeface="Arial"/>
              </a:rPr>
              <a:t>	</a:t>
            </a:r>
            <a:r>
              <a:rPr b="0" lang="en-US" sz="2800" spc="-1" strike="noStrike">
                <a:solidFill>
                  <a:srgbClr val="000000"/>
                </a:solidFill>
                <a:latin typeface="Arial"/>
              </a:rPr>
              <a:t>in the case of father, throughout lifetime.</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a:t>
            </a:r>
            <a:r>
              <a:rPr b="0" lang="en-US" sz="2800" spc="-1" strike="noStrike">
                <a:solidFill>
                  <a:srgbClr val="000000"/>
                </a:solidFill>
                <a:latin typeface="Arial"/>
              </a:rPr>
              <a:t>	</a:t>
            </a:r>
            <a:r>
              <a:rPr b="0" lang="en-US" sz="2800" spc="-1" strike="noStrike">
                <a:solidFill>
                  <a:srgbClr val="000000"/>
                </a:solidFill>
                <a:latin typeface="Arial"/>
              </a:rPr>
              <a:t>in the case of mother, until her death or remarriage, whichever is earlier;</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i)</a:t>
            </a:r>
            <a:r>
              <a:rPr b="0" lang="en-US" sz="2800" spc="-1" strike="noStrike">
                <a:solidFill>
                  <a:srgbClr val="000000"/>
                </a:solidFill>
                <a:latin typeface="Arial"/>
              </a:rPr>
              <a:t>	</a:t>
            </a:r>
            <a:r>
              <a:rPr b="0" lang="en-US" sz="2800" spc="-1" strike="noStrike">
                <a:solidFill>
                  <a:srgbClr val="000000"/>
                </a:solidFill>
                <a:latin typeface="Arial"/>
              </a:rPr>
              <a:t>in the case of minor brother, until he attains the age of 25 years;</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v)</a:t>
            </a:r>
            <a:r>
              <a:rPr b="0" lang="en-US" sz="2800" spc="-1" strike="noStrike">
                <a:solidFill>
                  <a:srgbClr val="000000"/>
                </a:solidFill>
                <a:latin typeface="Arial"/>
              </a:rPr>
              <a:t>	</a:t>
            </a:r>
            <a:r>
              <a:rPr b="0" lang="en-US" sz="2800" spc="-1" strike="noStrike">
                <a:solidFill>
                  <a:srgbClr val="000000"/>
                </a:solidFill>
                <a:latin typeface="Arial"/>
              </a:rPr>
              <a:t>in the case of unmarried sister, until she attains the age of 25 years or up to the date of her marriage, whichever is earli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22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75AFC-3814-43C3-86A1-27A5CC5D49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tirement/Death Gratuity is admissible in addition</a:t>
            </a:r>
            <a:endParaRPr b="0" lang="en-US" sz="4000" spc="-1" strike="noStrike">
              <a:solidFill>
                <a:srgbClr val="000000"/>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rant of Family Pension or Disability Pension under these orders will not in any way affect normal entitlement to retirement or Death Gratuity, as the case may be, under the CCS (Pension) Rules, 1972.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5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E5165-8D19-4362-A427-898906DF36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arning Objective</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e end of this session, the trainees will be able to state the circumstances in which the Central Civil Services (Extraordinary Pension) Rules, 1939 are applicable to the Central Government employees and the procedure for the application of these rules and benefits available under these ru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6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61A54-4C78-4729-850E-9B87E76B20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xtra Ordinary Pension Rul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entral Civil Services (Extraordinary Pension) Rules, 1939, provide for grant of award in the form of monthly pension or lump sum compensation in the following circumsta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6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DFC2B-4ED0-457B-A2C2-FADECED8C8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xtra Ordinary Pension Rul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Government servant is boarded out of Government Service on account of his disablement due to wound, injury or disease and the disablement is accepted as due to Government service, the Government Servant will be granted disability pension. This disability pension will be in addition to invalid pension/gratuity, if admissible under CCS (Pension) Rules, 1972.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7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272A3-86FD-4E5B-B5E4-1BE4124991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xtra Ordinary Pension Rul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Government Servant's disablement on account of wound, injury or disease is accepted as due to Government service and if the Government Servant is retained on service in spite of such disablement, he/she shall be paid compensation in lump sum in lieu of disability pens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7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A5D0D-4F38-4A49-AFF0-12F9AE8DAE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xtra Ordinary Pension Rul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ath of a Government Servant is accepted as due to Government service, the family of the deceased Government Servant shall be paid family pension. If the deceased Government Servant has left neither a widow/widower nor a child, a dependent pension may be paid to his/her father and his/her mother individually or jointly and in the absence of the father and the mother, the dependent pension may be paid to minor brothers and unmarried sisters, individually or collectively, if they were largely dependent on the Government Servant for support and are in pecuniary ne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P Rules</a:t>
            </a:r>
            <a:endParaRPr b="0" lang="en-US" sz="1400" spc="-1" strike="noStrike">
              <a:solidFill>
                <a:srgbClr val="000000"/>
              </a:solidFill>
              <a:latin typeface="Arial"/>
            </a:endParaRPr>
          </a:p>
        </p:txBody>
      </p:sp>
      <p:sp>
        <p:nvSpPr>
          <p:cNvPr id="8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2E74D-3C74-4F95-B2A2-D458106090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xtra Ordinary Pension Rul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ward under the Central Civil Services (Extraordinary Pension) Rules, 1939, shall not effect any pension, other than Family Pension 1964, or gratuity for which the Government Servant concerned or his family may be eligible under any other rules and the pension granted under CCS (Extraordinary Pension) Rules, 1939, shall not be taken into account in fixing the pay of a pensioner on his continued employment or re-employment in Government 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06:25:49Z</dcterms:created>
  <dc:creator> a g officejammu</dc:creator>
  <dc:description/>
  <dc:language>en-US</dc:language>
  <cp:lastModifiedBy>JP</cp:lastModifiedBy>
  <cp:lastPrinted>2019-07-04T13:54:40Z</cp:lastPrinted>
  <dcterms:modified xsi:type="dcterms:W3CDTF">2019-11-04T08:35:12Z</dcterms:modified>
  <cp:revision>54</cp:revision>
  <dc:subject/>
  <dc:title>Extraordinary Pension </dc:title>
</cp:coreProperties>
</file>