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710A1-18E3-4FF1-A2A4-DA17590AE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5F44F-8609-4517-B6B0-F49B1D770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335FA-FCD8-4852-9383-613EE304A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F4924-99CA-49C0-ACEA-F524E10A2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C5ED3-4EAB-40B0-9CA2-E6DF70485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1E3D5-4CF4-4C9E-8FDE-EFF2210CA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84AAB-E08E-438C-8B42-27E8C654A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03073-B74B-4360-8062-23020223D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97ECA-11E8-40D3-85EE-150FCE2FF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A088C-F414-45D5-8F13-761DFE3E6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DA7F9-2EFC-420D-9D50-87AA728A6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B27B4-A4E7-45E6-811C-A425C2EAA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292E-69FB-4D63-BD6E-995F97AE09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persmin.nic.in/pension/rules/pencompform1.htm#FORM%207"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persmin.gov.in/pension/rules/pencompform1.htm#FORM%205" TargetMode="External"/><Relationship Id="rId2" Type="http://schemas.openxmlformats.org/officeDocument/2006/relationships/hyperlink" Target="http://persmin.gov.in/pension/rules/pencompform1.htm#FORM%207" TargetMode="External"/><Relationship Id="rId3" Type="http://schemas.openxmlformats.org/officeDocument/2006/relationships/hyperlink" Target="http://persmin.gov.in/pension/rules/pencompform1.htm#FORM%208"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persmin.gov.in/pension/rules/pencompform1.htm#FORM%2010" TargetMode="External"/><Relationship Id="rId2" Type="http://schemas.openxmlformats.org/officeDocument/2006/relationships/hyperlink" Target="http://persmin.gov.in/pension/rules/pencompform1.htm#FORM%2011" TargetMode="External"/><Relationship Id="rId3" Type="http://schemas.openxmlformats.org/officeDocument/2006/relationships/hyperlink" Target="http://persmin.gov.in/pension/rules/pencompform1.htm#FORM%2012" TargetMode="Externa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4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85C22-DDAE-46A4-9B36-BC4428510E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uthorization of Pension and Gratuity</a:t>
            </a: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85"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7B64C-F366-425B-A8F7-7BB346528A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Rectangle 4"/>
          <p:cNvSpPr/>
          <p:nvPr/>
        </p:nvSpPr>
        <p:spPr>
          <a:xfrm>
            <a:off x="914400" y="685800"/>
            <a:ext cx="701028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atement No. 3 :    This is a quarterly statement and should cover the cases of those Government servants in whose cases provisional pension and provisional gratuity was authorized by the Head of Office but the provisional pension and gratuity had to be made final after the expiry of a period of 6 months. The statement is to be submitted to the Head of the Depar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8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DE297-90D4-4517-8BA6-DE5C089D82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Rectangle 4"/>
          <p:cNvSpPr/>
          <p:nvPr/>
        </p:nvSpPr>
        <p:spPr>
          <a:xfrm>
            <a:off x="685800" y="838080"/>
            <a:ext cx="731520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ement No. 4 :    This is a quarterly statement and should indicate the particulars of those Government servants where presumptions have been made in favour of retired Government servant because of incomplete/improper maintenance of service records. The names of the persons responsible for improper maintenance of the record of service books and action tak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9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768D6-B393-4890-BFC2-0F62B7832B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Rectangle 1"/>
          <p:cNvSpPr/>
          <p:nvPr/>
        </p:nvSpPr>
        <p:spPr>
          <a:xfrm>
            <a:off x="838080" y="152280"/>
            <a:ext cx="7620120" cy="5883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No. 5 - </a:t>
            </a:r>
            <a:r>
              <a:rPr b="0" lang="en-US" sz="3200" spc="-1" strike="noStrike">
                <a:solidFill>
                  <a:srgbClr val="000000"/>
                </a:solidFill>
                <a:latin typeface="Times New Roman"/>
                <a:ea typeface="Times New Roman"/>
              </a:rPr>
              <a:t>This is a half-yearly statement to be submitted by the Head of Department to the Secretary of the Ministry concerned</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y case, where payment of pension is delayed, has to be viewed seriously. The causes of delay in such a case have to be identified and remedial steps taken so that such delays should not occur in future.. Any deficiency in the procedure should be brought to the notice of this ministry at the appropriate level so that rules may be amended according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AA365-FC3D-4419-9D72-77758CE037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uthorization of Pension and  Gratuit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years in advance of the date on which the Government servant is due to attain the age of superannuation or the date of his anticipated retirement, if earlier, the Head of the office or the Authority responsible for the preparation of pension papers would undertake the work of preparing pension papers, including verification of service and complete the particulars required in Form 7 and forward the pension paper to the Accounts Officer responsible for the issue of Pension Payment orders 6 months before the date of the retirement of the Government Serva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0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4D8D-EEF7-44F1-8E3D-FF773EB5E8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Times New Roman"/>
                <a:ea typeface="Times New Roman"/>
              </a:rPr>
              <a:t>Preparation of pension papers</a:t>
            </a:r>
            <a:endParaRPr b="0" lang="en-US" sz="4000" spc="-1" strike="noStrike">
              <a:solidFill>
                <a:srgbClr val="000000"/>
              </a:solidFill>
              <a:latin typeface="Arial"/>
            </a:endParaRPr>
          </a:p>
        </p:txBody>
      </p:sp>
      <p:sp>
        <p:nvSpPr>
          <p:cNvPr id="105" name="PlaceHolder 2"/>
          <p:cNvSpPr>
            <a:spLocks noGrp="1"/>
          </p:cNvSpPr>
          <p:nvPr>
            <p:ph/>
          </p:nvPr>
        </p:nvSpPr>
        <p:spPr>
          <a:xfrm>
            <a:off x="457200" y="1265400"/>
            <a:ext cx="8229600" cy="4525920"/>
          </a:xfrm>
          <a:prstGeom prst="rect">
            <a:avLst/>
          </a:prstGeom>
          <a:noFill/>
          <a:ln w="0">
            <a:noFill/>
          </a:ln>
        </p:spPr>
        <p:txBody>
          <a:bodyPr anchor="t">
            <a:normAutofit/>
          </a:bodyPr>
          <a:p>
            <a:pPr marL="341280" indent="-3412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Arial"/>
                <a:ea typeface="Times New Roman"/>
              </a:rPr>
              <a:t>Every Head of Office shall undertake the work of preparation of pension papers in </a:t>
            </a:r>
            <a:r>
              <a:rPr b="0" lang="en-IN" sz="2800" spc="-1" strike="noStrike" u="sng">
                <a:solidFill>
                  <a:srgbClr val="009999"/>
                </a:solidFill>
                <a:uFillTx/>
                <a:latin typeface="Arial"/>
                <a:ea typeface="Times New Roman"/>
                <a:hlinkClick r:id="rId1"/>
              </a:rPr>
              <a:t>Form 7</a:t>
            </a:r>
            <a:r>
              <a:rPr b="0" lang="en-IN" sz="2800" spc="-1" strike="noStrike">
                <a:solidFill>
                  <a:srgbClr val="000000"/>
                </a:solidFill>
                <a:latin typeface="Arial"/>
                <a:ea typeface="Times New Roman"/>
              </a:rPr>
              <a:t>  one year before the date on which a Government servant is due to retire on  superannuation, or on the date on which he proceeds on leave preparatory to retirement, whichever is earlier.</a:t>
            </a:r>
            <a:endParaRPr b="0" lang="en-US" sz="2800" spc="-1" strike="noStrike">
              <a:solidFill>
                <a:srgbClr val="000000"/>
              </a:solidFill>
              <a:latin typeface="Arial"/>
            </a:endParaRPr>
          </a:p>
          <a:p>
            <a:pPr marL="341280" indent="-3412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ges for the completion of pension papers on superannuation</a:t>
            </a:r>
            <a:r>
              <a:rPr b="0" lang="en-US" sz="2800" spc="-1" strike="noStrike">
                <a:solidFill>
                  <a:srgbClr val="000000"/>
                </a:solidFill>
                <a:latin typeface="Arial"/>
              </a:rPr>
              <a:t>. – The Head of Office shall divide the period of preparatory work of </a:t>
            </a:r>
            <a:r>
              <a:rPr b="1" lang="en-US" sz="2800" spc="-1" strike="noStrike">
                <a:solidFill>
                  <a:srgbClr val="000000"/>
                </a:solidFill>
                <a:latin typeface="Arial"/>
              </a:rPr>
              <a:t>one year</a:t>
            </a:r>
            <a:r>
              <a:rPr b="0" lang="en-US" sz="2800" spc="-1" strike="noStrike">
                <a:solidFill>
                  <a:srgbClr val="000000"/>
                </a:solidFill>
                <a:latin typeface="Arial"/>
              </a:rPr>
              <a:t> in the following three stages</a:t>
            </a:r>
            <a:endParaRPr b="0" lang="en-US" sz="2800" spc="-1" strike="noStrike">
              <a:solidFill>
                <a:srgbClr val="000000"/>
              </a:solidFill>
              <a:latin typeface="Arial"/>
            </a:endParaRPr>
          </a:p>
          <a:p>
            <a:pPr marL="3412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C374-B73C-453F-AAAF-C39B81E0B1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rst stage</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 </a:t>
            </a:r>
            <a:r>
              <a:rPr b="0" lang="en-US" sz="2800" spc="-1" strike="noStrike">
                <a:solidFill>
                  <a:srgbClr val="000000"/>
                </a:solidFill>
                <a:latin typeface="Arial"/>
              </a:rPr>
              <a:t>The Service Book of the retiring Government servant shall be gone through to ensure that the certificate of verification of service is recorded for the entire period of service.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spect of unverified portion(s) of services, arrangement should be made to have those portions verified with reference to pay bills, acquaintance rolls or other relevant records and the certificate of verification of service recorded in the service boo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1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46E4-B723-4768-BC10-C8C1DDDDA7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rst stage</a:t>
            </a:r>
            <a:endParaRPr b="0" lang="en-US" sz="4400" spc="-1" strike="noStrike">
              <a:solidFill>
                <a:srgbClr val="000000"/>
              </a:solidFill>
              <a:latin typeface="Arial"/>
            </a:endParaRPr>
          </a:p>
        </p:txBody>
      </p:sp>
      <p:sp>
        <p:nvSpPr>
          <p:cNvPr id="115"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unverified portion or portions of service relate to the period(s) of service rendered by the retiring in the other office(s); reference shall be made to the office(s) concerned to verify such period(s) of service and to send a certificate of verification of service. If any portion of service rendered by the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1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529A-8D60-4841-9F8E-D81AAA6B2C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cond Stage</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le scrutinizing the certificate of verification of service in the service book of the retiring Government Servant, any other omissions, imperfections or deficiencies which have a direct bearing on the determination of emoluments and the service qualifying for pension should also be identified and every effort should be made to make good the omissions, imperfections or deficienc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13B22-4F4A-4BF5-8985-D7B7BEDD8E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erification of servi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erification of service with reference to pay bills should be carried out without default.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end of April every year every Head of Office should furnish to his next superior officer, a certificate to the effect that service rendered by all members of staff of his office during the preceding financial year have been verified and certificates of verification recorded in the respective service Book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2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4CD5-E6B0-44BE-A8F6-8018B26CB5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erification of servi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n any case, it is necessary at the time of retirement to make a reference to more than one authority a separate verification memorandum should be sent to each authority concerned simultaneously instead of sending the service Book itself to them one after the other.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return, the verification memos can be pasted in the Service Boo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18BA-9636-4AB3-BC5B-77958A22CD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ssion Overview</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previous sessions we discussed the basis of calculation pension entitlements of Central Government employees, viz. the calculation of qualifying service and emoluments and average emol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5216-EB5B-4497-90E4-22AA9F14A1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erification of QS after 25 years  or 5 years before retireme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 Government Servant completing 25 years of service or on his being with 5 years before date of retirement, whichever is earlier, the Head of Office in consultation with the Accounts Officer responsible for issue of Pension Payment Order, shall verify the service rendered by such Government Servant, determine the qualifying service and communicate to him the period of qualifying service so determined. Any such verification shall be subject to final verification of qualifying service which shall be made at the time of retirement of the Government Serv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3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2F19-5491-4178-A1E0-2BC974BEB9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ird Stage</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ght months prior to the date of retirement of the Government Servant, the Head of Office should furnish him a certificate regarding the length of qualifying service proposed to be admitted for pension/gratuity as also the emoluments and average emoluments proposed to be reckoned for Retirement Gratuity/Pension. In case the certified qualifying service emoluments, average emoluments as indicated by the Head of Office are not acceptable to him, he shall furnish to the Head of Office the reasons for non-acceptance, inter alia, supported by relevant documents in support of his clai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4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1798E-DA91-47EF-BB76-BAED3E3B37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Rectangle 4"/>
          <p:cNvSpPr/>
          <p:nvPr/>
        </p:nvSpPr>
        <p:spPr>
          <a:xfrm>
            <a:off x="228600" y="152280"/>
            <a:ext cx="8763120" cy="606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orwarding of pension papers to Accounts Office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After complying with the requirements</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Head of Office shall forward to the Accounts Officer </a:t>
            </a:r>
            <a:r>
              <a:rPr b="0" lang="en-US" sz="2800" spc="-1" strike="noStrike" u="sng">
                <a:solidFill>
                  <a:srgbClr val="009999"/>
                </a:solidFill>
                <a:uFillTx/>
                <a:latin typeface="Arial"/>
                <a:ea typeface="Times New Roman"/>
                <a:hlinkClick r:id="rId1"/>
              </a:rPr>
              <a:t>Form 5</a:t>
            </a:r>
            <a:r>
              <a:rPr b="0" lang="en-US" sz="2800" spc="-1" strike="noStrike">
                <a:solidFill>
                  <a:srgbClr val="000000"/>
                </a:solidFill>
                <a:latin typeface="Arial"/>
                <a:ea typeface="Times New Roman"/>
              </a:rPr>
              <a:t> and </a:t>
            </a:r>
            <a:r>
              <a:rPr b="0" lang="en-US" sz="2800" spc="-1" strike="noStrike" u="sng">
                <a:solidFill>
                  <a:srgbClr val="009999"/>
                </a:solidFill>
                <a:uFillTx/>
                <a:latin typeface="Arial"/>
                <a:ea typeface="Times New Roman"/>
                <a:hlinkClick r:id="rId2"/>
              </a:rPr>
              <a:t>Form 7 </a:t>
            </a:r>
            <a:r>
              <a:rPr b="0" lang="en-US" sz="2800" spc="-1" strike="noStrike">
                <a:solidFill>
                  <a:srgbClr val="000000"/>
                </a:solidFill>
                <a:latin typeface="Arial"/>
                <a:ea typeface="Times New Roman"/>
              </a:rPr>
              <a:t>duly completed with a covering letter in </a:t>
            </a:r>
            <a:r>
              <a:rPr b="0" lang="en-US" sz="2800" spc="-1" strike="noStrike" u="sng">
                <a:solidFill>
                  <a:srgbClr val="009999"/>
                </a:solidFill>
                <a:uFillTx/>
                <a:latin typeface="Arial"/>
                <a:ea typeface="Times New Roman"/>
                <a:hlinkClick r:id="rId3"/>
              </a:rPr>
              <a:t>Form 8</a:t>
            </a:r>
            <a:r>
              <a:rPr b="0" lang="en-US" sz="2800" spc="-1" strike="noStrike">
                <a:solidFill>
                  <a:srgbClr val="000000"/>
                </a:solidFill>
                <a:latin typeface="Arial"/>
                <a:ea typeface="Times New Roman"/>
              </a:rPr>
              <a:t> along with service book of the Government servant duly completed, up-to-date, and any other documents relied upon for the verification of servic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nsion papers referred above shall be forwarded to the Accounts Officer not later than </a:t>
            </a:r>
            <a:r>
              <a:rPr b="1" lang="en-US" sz="2800" spc="-1" strike="noStrike">
                <a:solidFill>
                  <a:srgbClr val="000000"/>
                </a:solidFill>
                <a:latin typeface="Arial"/>
              </a:rPr>
              <a:t>four months</a:t>
            </a:r>
            <a:r>
              <a:rPr b="0" lang="en-US" sz="2800" spc="-1" strike="noStrike">
                <a:solidFill>
                  <a:srgbClr val="000000"/>
                </a:solidFill>
                <a:latin typeface="Arial"/>
              </a:rPr>
              <a:t> before the date of superannuation of a Government servant and in cases other than retirement on superannuation not later than three months after the date of submission of Form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4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0A4D-CF5E-44B3-B062-FFC9971455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Rectangle 4"/>
          <p:cNvSpPr/>
          <p:nvPr/>
        </p:nvSpPr>
        <p:spPr>
          <a:xfrm>
            <a:off x="0" y="152280"/>
            <a:ext cx="8686800" cy="563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lculation sheet</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ead of Office  to prepare  in triplicate a certified calculation sheet and submit along with the pension case.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PAO/AO, while issuing the pensionary authorization, countersign the calculation sheet as certified by the Head of Office, retains one copy,</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ne countersigned to be sent to pensioner, along with the intimation of his having sent the pension payment authority  PPO to the AG/PAO, etc.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third copy of the certified calculation sheet as countersigned by the  PAO/Accounts Officer to be kept in a guard f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5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0580-FD04-49E8-96FD-8AC2B0E3D2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yment of Provisional Pension and Gratuity</a:t>
            </a: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for any special reasons it has not been possible to complete and forward the pension papers to the Accounts Officer  within the prescribed time schedule or if the pension papers have been sent late to the Accounts Officer and/or the Accounts Officer has either returned the papers to the Head of Office eliciting further information or has not been able to issue the Pension Payment Order before one month prior to the date of retirement of the Government Servant steps shall be taken by the Head of Office to pay Retirement Gratuity by the first of the month in which it is d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5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2B43-9C31-4EFD-AF4D-603E66A3BF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yment of Provisional Pension and Gratuity</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is purpose, such information as is available in the official records may be used, and further, the Head of Office should ask the retiring Government Servant for a simple statement giving his total length of service and also the emoluments during the last ten months of service. The retiring Government Servant may also be asked to certify that the facts stated by him are correct to the best of his knowledge and belief.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5977-BB3C-436C-93C9-7EC0FAFA1F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yment of Provisional Pension and Gratuity</a:t>
            </a:r>
            <a:endParaRPr b="0" lang="en-US" sz="40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ad of Office shall sanction 100% of the pension calculated with reference to the information so obtained, as provisional pension. The Retirement Gratuity should similarly be determined and 100% thereof sanctioned as Provisional Retirement Gratu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6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BAA7-A4F1-443B-B4C9-E8AA09F0B1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visional Pension to become final after six months</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sional pension to be followed by final PPO within six months;</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short payment to be made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excess payment to be recovered;</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rovisional gratuity paid is excess, no recovery to be affec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AE3E-3164-4475-9EC3-00BF24186F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visional Pension to become final after six months</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Office responsible for issuing the PPO has not finalized the pension case by that time, the provisional pension shall be deemed to have become  final and it will be obligatory for the office responsible for issuing PPO to issue the final PPO for the amount of pension and gratuity already calculated on a provisional bas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7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1937-C3CC-4FDC-9EDA-8536BB0309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P where departmental or judicial proceedings pending</a:t>
            </a:r>
            <a:endParaRPr b="0" lang="en-US" sz="40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ase of Government Servant who has retired on attaining the age of superannuation or otherwise and against whom any departmental or judicial proceedings are instituted or where departmental proceedings are continued, the Head of Office shall draw and pay the provisional pension which would have been admissible on the basis of qualifying service up to the date of retirement of the Government Servant concerned, or if he was under suspension on the date of retirement up to the date  immediately preceding the date on which he was placed under suspens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1FFB-41FB-4E2C-A40E-8773E4F1A2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ssion Overview</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session we will cover the procedure for authorization of pension and gratuity to Central Government employe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8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CFEA-02AD-4978-9221-04F3FEB7A1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overy and adjustment of Government dues</a:t>
            </a:r>
            <a:endParaRPr b="0" lang="en-US" sz="40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ead of the Office should take action to assess and ascertain the Government dues payable by the retiring Government Servant two years before the date on which he is due to retire. The assessment should be completed eight months before the date of his retirement. All the outstanding dues payable by the Government Servant shall be adjusted against the amount of Retirement Gratuity payable to him on his retir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382C-0B1C-4062-B6F0-071D341065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overy and adjustment of Government dues</a:t>
            </a:r>
            <a:endParaRPr b="0" lang="en-US" sz="40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no recovery should be made in the case where a Government Servant was granted provisional pension pending conclusion of departmental or judicial proceedings against him and the pension finally sanctioned to him on conclusion of the proceedings is less than the provisional pension.</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mount of the gratuity authorized by the Head of Office proves to be larger than the amount finally assessed by the accounts Officer, the gratuitant shall not be required to refund the ex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9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DF47A-1DF1-4F55-A734-5DCE2CDE7F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overies of excess amount of pension and gratuity</a:t>
            </a:r>
            <a:endParaRPr b="0" lang="en-US" sz="40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mount of provisional pension/ provisional family pension, drawn and disbursed is found to be in excess of the pension/family pension finally assessed by the Accounts Officer, it shall be open to the Accounts Officer responsible for the issue of Pension Payment Order to adjust the excess amount out of the balance of the gratuity, if any, or recover the excess amount by short payment of pension/family pension payable in future.</a:t>
            </a:r>
            <a:endParaRPr b="0" lang="en-US" sz="2000" spc="-1" strike="noStrike">
              <a:solidFill>
                <a:srgbClr val="000000"/>
              </a:solidFill>
              <a:latin typeface="Arial"/>
            </a:endParaRPr>
          </a:p>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o recovery shall be made where a Government Servant was granted provisional pension pending conclusion of departmental of judicial proceedings against him and the pension finally sanctioned to him on conclusion of the proceedings is less than the  provisional pension [Rule 69(2) of CCS (pension) Rule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19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8C7E8-F7D6-42CB-8AC5-DAF54DD39F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sion of pension after sanction</a:t>
            </a:r>
            <a:endParaRPr b="0" lang="en-US" sz="40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nsion once sanctioned after final assessment shall not be revised to the disadvantage of the Government Servant, unless such a revision becomes necessary on account of detection of a clerical error subsequently.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revision of pension to the disadvantage of the pensioner shall be ordered by the Head of Office without the concurrence of the Departmental of Pension and Pensioner's Welfare, if the clerical error is detected after a period of two years from the date of authorization of pen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0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A6B27-F110-4A3A-AA72-002C6CD645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est or delayed payment of gratuit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ayment of gratuity, which includes Retirement/ Death Gratuity, has been authorized after three months in the case of retirement or superannuation and after six months in the case of retirement other than on superannuation and death while in service, from the date when its payment became due, and it is established clearly that the delay in payment was attributable to administrative lapse and not caused on account of failure on the part of the Government Servant to comply with the prescribed procedure, interest on the amount of gratuity at the rate applicable to GPF deposits in respect of the period beyond three/six months shall be paid after obtaining sanction of the Secretary of the Ministry/Department concer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0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123C3-1247-4064-B563-8FBA364206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uthorization when a Govt.  Servant dies while in service</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soon as the Head of the Office receives intimation regarding death of a Government Servant while in service, he shall initiate immediate action for obtaining claims for Family Pension and Death Gratuity. If the deceased Government Servant is survived by only minor child/children, the guardian of the child/children may prefer the clai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1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D276-AA0A-4C69-9C15-8005FD3149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uthorization when a Govt.  Servant dies while in service</a:t>
            </a:r>
            <a:endParaRPr b="0" lang="en-US" sz="40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 of Office shall simultaneously take action for completion of service records of deceased employee;</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ction for ascertaining outstanding dues against the deceased employ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the claim to the Accounts Officer;</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ction to sanction the FP and Gratu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taining of claims for family pension and death gratuity</a:t>
            </a:r>
            <a:br>
              <a:rPr sz="2800"/>
            </a:br>
            <a:endParaRPr b="0" lang="en-US" sz="2800" spc="-1" strike="noStrike">
              <a:solidFill>
                <a:srgbClr val="000000"/>
              </a:solidFill>
              <a:latin typeface="Arial"/>
            </a:endParaRPr>
          </a:p>
        </p:txBody>
      </p:sp>
      <p:sp>
        <p:nvSpPr>
          <p:cNvPr id="215" name=""/>
          <p:cNvSpPr txBox="1"/>
          <p:nvPr/>
        </p:nvSpPr>
        <p:spPr>
          <a:xfrm>
            <a:off x="457200" y="1294920"/>
            <a:ext cx="8229600" cy="4800600"/>
          </a:xfrm>
          <a:prstGeom prst="rect">
            <a:avLst/>
          </a:prstGeom>
          <a:noFill/>
          <a:ln w="0">
            <a:noFill/>
          </a:ln>
        </p:spPr>
        <p:txBody>
          <a:bodyPr anchor="t">
            <a:normAutofit fontScale="90000"/>
          </a:bodyPr>
          <a:p>
            <a:pPr marL="308520" indent="-3085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he family of the deceased Government servant is eligible for the death gratuity, the Head of Office after ascertaining facts and entitlement shall, address the person concerned in </a:t>
            </a:r>
            <a:r>
              <a:rPr b="0" lang="en-US" sz="2800" spc="-1" strike="noStrike" u="sng">
                <a:solidFill>
                  <a:srgbClr val="009999"/>
                </a:solidFill>
                <a:uFillTx/>
                <a:latin typeface="Arial"/>
                <a:hlinkClick r:id="rId1"/>
              </a:rPr>
              <a:t>Form 10</a:t>
            </a:r>
            <a:r>
              <a:rPr b="0" lang="en-US" sz="2800" spc="-1" strike="noStrike">
                <a:solidFill>
                  <a:srgbClr val="000000"/>
                </a:solidFill>
                <a:latin typeface="Arial"/>
              </a:rPr>
              <a:t> or </a:t>
            </a:r>
            <a:r>
              <a:rPr b="0" lang="en-US" sz="2800" spc="-1" strike="noStrike" u="sng">
                <a:solidFill>
                  <a:srgbClr val="009999"/>
                </a:solidFill>
                <a:uFillTx/>
                <a:latin typeface="Arial"/>
                <a:hlinkClick r:id="rId2"/>
              </a:rPr>
              <a:t>Form 11</a:t>
            </a:r>
            <a:r>
              <a:rPr b="0" lang="en-US" sz="2800" spc="-1" strike="noStrike">
                <a:solidFill>
                  <a:srgbClr val="000000"/>
                </a:solidFill>
                <a:latin typeface="Arial"/>
              </a:rPr>
              <a:t>, as may be appropriate, for making a claim in </a:t>
            </a:r>
            <a:r>
              <a:rPr b="0" lang="en-US" sz="2800" spc="-1" strike="noStrike" u="sng">
                <a:solidFill>
                  <a:srgbClr val="009999"/>
                </a:solidFill>
                <a:uFillTx/>
                <a:latin typeface="Arial"/>
                <a:hlinkClick r:id="rId3"/>
              </a:rPr>
              <a:t>Form 12</a:t>
            </a:r>
            <a:endParaRPr b="0" lang="en-US" sz="2800" spc="-1" strike="noStrike">
              <a:solidFill>
                <a:srgbClr val="000000"/>
              </a:solidFill>
              <a:latin typeface="Arial"/>
            </a:endParaRPr>
          </a:p>
          <a:p>
            <a:pPr marL="308520" indent="-3085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the family of the deceased Government servant is eligible for family pension, the Head of Office shall address the eligible member of the family or the guardian,  as the case may be, in Form 13 for making claim in Form 14.</a:t>
            </a:r>
            <a:endParaRPr b="0" lang="en-US" sz="2800" spc="-1" strike="noStrike">
              <a:solidFill>
                <a:srgbClr val="000000"/>
              </a:solidFill>
              <a:latin typeface="Arial"/>
            </a:endParaRPr>
          </a:p>
          <a:p>
            <a:pPr marL="308520" indent="-3085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1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1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5B74-AFA0-4E0F-8F6A-3DE91A350C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2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021EE-98D6-42C5-96D2-509FDD14EF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ermination of Family Pension and Death Gratuity where service records are incomple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35223-3CB8-4104-AAB7-47EEB2248B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records are incomplete</a:t>
            </a: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Service Records of the deceased Government Servant were not complete and if it is not possible for the Head of Office to accept the unverified portion of service as verified on the </a:t>
            </a:r>
            <a:r>
              <a:rPr b="0" lang="en-US" sz="2800" spc="-1" strike="noStrike">
                <a:solidFill>
                  <a:srgbClr val="c00000"/>
                </a:solidFill>
                <a:latin typeface="Arial"/>
              </a:rPr>
              <a:t>basis of the </a:t>
            </a:r>
            <a:r>
              <a:rPr b="0" lang="en-US" sz="2800" spc="-1" strike="noStrike">
                <a:solidFill>
                  <a:srgbClr val="000000"/>
                </a:solidFill>
                <a:latin typeface="Arial"/>
              </a:rPr>
              <a:t>entries in the Service Book/Service Record, he shall not proceed with the verification of the entire spell of service. The verification of service in such a case shall be confined to the following spell of 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96FE2-3719-4168-8786-6F9D043875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rning Objectiv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the session the trainees will be able to state the prescribed procedure for authorization of pension entitlements of Central Government employe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2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C42B5-7294-4847-B3EE-B4099DF1C6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records are incomplete</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r the purpose of Family Pension, 1964</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deceased Government Servant at the time of his death, had rendered less than seven years service, the service and emoluments for the last year of service shall be verified and accepted by the Head of Office and the amount of Family Pension determined. </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he had rendered more than seven years of service at the time of death, the service for the last seven years and emoluments for service rendered in the last years shall be verified and accepted and the family pen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3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99E98-27CC-4ED5-990C-82B12A960B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records are incomplete</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r the purpose of Family Pension, 1964</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ervice of last seven years is not capable of being verified and accepted by the Head of Office, but the service rendered during the lest year is capable  of being verified and accepted, the Head of Office, pending verification of service for seven years, shall calculate the amount of Family Pension under sub-rule (2) 54 ibid.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ermination of the amount of Family Pension shall be done within one month of the receipt of intimation of the date of death of the Government Serva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3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BA2B-CAC3-4C60-AEC4-52015F48A3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records are incomplete</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or the purpose of Family Pension, 1964</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for the last seven years shall be verified and accepted within the next two months and the amount of family pension at the enhanced rates and the period of its tenability determined under sub-rule (3) of Rule 54 ib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4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280D-A7AC-42E5-B565-EC1E9593CA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records are incomplete</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r the purpose of Death Gratuity</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eceased Government Servant had, at the time of his death rendered more than five year's qualifying service but less than 20 years, qualifying service, and the spell of last five years has been verified and accepted by the Head of Office, the amount of Death Gratuity shall be equal to 12 times of the deceased Government Servant's emoluments. </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verified and accepted service is more than a year but less than five years of qualifying service, the amount of Death Gratuity shall be equal to six times of his emoluments.  </a:t>
            </a:r>
            <a:endParaRPr b="0" lang="en-US" sz="2000" spc="-1" strike="noStrike">
              <a:solidFill>
                <a:srgbClr val="000000"/>
              </a:solidFill>
              <a:latin typeface="Arial"/>
            </a:endParaRPr>
          </a:p>
          <a:p>
            <a:pPr marL="343080" indent="-343080" algn="just">
              <a:lnSpc>
                <a:spcPct val="9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If the verified service is less than a year, the death gratuity will be equal to two times of emoluments [Rule 50 (1)]. </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4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93FC5-97C7-487B-9C2D-9834FEBEE7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records are incomplete</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r the purpose of Death Gratuity</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deceased Government Servant had rendered more than twenty years of service and the entire service is not capable of being verified and accepted but the service for the last five years has been verified and accepted, the family of the deceased Government Servant shall be allowed on provisional basis the Death Gratuity equal to 12 times the emoluments last drawn by the deceased Government Serva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5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3618-C564-4EB4-B55B-F01A59193D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records are incomplete</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r the purpose of Death Gratuity</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amount of Death Gratuity shall be determined on the basis of the entire service which may be verified and accepted by the Head of Office within a period of six months from the date on which the authority for payment of Provisional Death Gratuity was issued. The balance of Death Gratuity, if any, becoming payable as a result of determination of the final amount of Death Gratuity shall then be authorized to the beneficiary or benefici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5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124A-F881-4C22-9729-B327A9DE5E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yment of Family Pension and Death Gratuity when a Government Servant dies while on deputation to a State Government or while on Foreign Servi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75B2-72E3-41AC-9456-4B16224AD2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th while on FS</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case of a Government Servant who dies while on deputation to State Government or while on Foreign Service, action to authorize the payment of Family Pension and Death Gratuity shall be taken by the Head of Office or the Cadre Authority which sanctioned the deputation of the Government Servant to State Government or to Foreign Ser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6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1F4D-4555-422D-8284-BF7CCA52FB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th while on deputation with GOI</a:t>
            </a:r>
            <a:endParaRPr b="0" lang="en-US" sz="40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case of Government Servant who dies while on deputation to another Central Government Department action to authorize Family Pension and Death Gratuity shall be taken by the Head of Office of the borrowing Depar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3ED3-788D-4757-B4DC-1201F747EA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nction of Family Pension and Residuary Gratuity in respect of deceased pensioners</a:t>
            </a:r>
            <a:endParaRPr b="0" lang="en-US" sz="40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ad of office on receiving intimation regarding the death of a pensioner, shall ascertain whether any Family Pension or Residuary Gratuity or both is are payable in respect of the deceased pensioner. If necessary, he may consult the Accounts Offic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6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DB62E-C8DF-4636-9FF3-B9B7F5A9C8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uthorization of Pension and  Gratuit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456840" y="1417320"/>
            <a:ext cx="8458200" cy="47084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Head of Department shall have a list prepared every three months, that is, on the 1st January, 1</a:t>
            </a:r>
            <a:r>
              <a:rPr b="0" lang="en-US" sz="2800" spc="-1" strike="noStrike" baseline="30000">
                <a:solidFill>
                  <a:srgbClr val="000000"/>
                </a:solidFill>
                <a:latin typeface="Arial"/>
              </a:rPr>
              <a:t>st</a:t>
            </a:r>
            <a:r>
              <a:rPr b="0" lang="en-US" sz="2800" spc="-1" strike="noStrike">
                <a:solidFill>
                  <a:srgbClr val="000000"/>
                </a:solidFill>
                <a:latin typeface="Arial"/>
              </a:rPr>
              <a:t> April, 1st July and 1</a:t>
            </a:r>
            <a:r>
              <a:rPr b="0" lang="en-US" sz="2800" spc="-1" strike="noStrike" baseline="30000">
                <a:solidFill>
                  <a:srgbClr val="000000"/>
                </a:solidFill>
                <a:latin typeface="Arial"/>
              </a:rPr>
              <a:t>st</a:t>
            </a:r>
            <a:r>
              <a:rPr b="0" lang="en-US" sz="2800" spc="-1" strike="noStrike">
                <a:solidFill>
                  <a:srgbClr val="000000"/>
                </a:solidFill>
                <a:latin typeface="Arial"/>
              </a:rPr>
              <a:t>October each year, of all Government servants who are due to retire within the next twelve to fifteen months of that date.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list shall be supplied to the Accounts Officer concerned not later than 31st January, 30</a:t>
            </a:r>
            <a:r>
              <a:rPr b="0" lang="en-US" sz="2800" spc="-1" strike="noStrike" baseline="30000">
                <a:solidFill>
                  <a:srgbClr val="000000"/>
                </a:solidFill>
                <a:latin typeface="Arial"/>
              </a:rPr>
              <a:t>th</a:t>
            </a:r>
            <a:r>
              <a:rPr b="0" lang="en-US" sz="2800" spc="-1" strike="noStrike">
                <a:solidFill>
                  <a:srgbClr val="000000"/>
                </a:solidFill>
                <a:latin typeface="Arial"/>
              </a:rPr>
              <a:t> April, 31</a:t>
            </a:r>
            <a:r>
              <a:rPr b="0" lang="en-US" sz="2800" spc="-1" strike="noStrike" baseline="30000">
                <a:solidFill>
                  <a:srgbClr val="000000"/>
                </a:solidFill>
                <a:latin typeface="Arial"/>
              </a:rPr>
              <a:t>st</a:t>
            </a:r>
            <a:r>
              <a:rPr b="0" lang="en-US" sz="2800" spc="-1" strike="noStrike">
                <a:solidFill>
                  <a:srgbClr val="000000"/>
                </a:solidFill>
                <a:latin typeface="Arial"/>
              </a:rPr>
              <a:t> July or 31</a:t>
            </a:r>
            <a:r>
              <a:rPr b="0" lang="en-US" sz="2800" spc="-1" strike="noStrike" baseline="30000">
                <a:solidFill>
                  <a:srgbClr val="000000"/>
                </a:solidFill>
                <a:latin typeface="Arial"/>
              </a:rPr>
              <a:t>st</a:t>
            </a:r>
            <a:r>
              <a:rPr b="0" lang="en-US" sz="2800" spc="-1" strike="noStrike">
                <a:solidFill>
                  <a:srgbClr val="000000"/>
                </a:solidFill>
                <a:latin typeface="Arial"/>
              </a:rPr>
              <a:t>October, as the case may be, of that ye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7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5BB6-9660-4F8F-A507-F85314D025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PlaceHolder 1"/>
          <p:cNvSpPr>
            <a:spLocks noGrp="1"/>
          </p:cNvSpPr>
          <p:nvPr>
            <p:ph type="title"/>
          </p:nvPr>
        </p:nvSpPr>
        <p:spPr>
          <a:xfrm>
            <a:off x="685800" y="1295280"/>
            <a:ext cx="7772400" cy="37339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yment of Salary, Retirement Gratuity, Family Pension etc., to the family of a Government Servant/ Pensioner who is missing or whose whereabouts are not know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D9A3-3E9B-4C09-881E-452C7BA757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ing Govt Servants</a:t>
            </a: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n employee disappears leaving his family, the family can be paid in the first instance the amount of salary due, leave encashment due and the amount of GPF having regard to the nomination made by the employee.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lapse of a period of six month, other benefits like Gratuity, Family Pension and the benefits from the Savings Fund under Central Government Employee's Group Insurance Scheme 1980, may also be granted to the family, subject to the following condi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2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0B1A-E3B3-4721-A2C4-2B67526535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ing Govt Servants</a:t>
            </a: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The family must lodge a report with the concerned Police Station and obtain a report that the employee has not been traced after all efforts had been made by the Police.</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 An indemnity bond in the prescribed Form should be taken from the nominee/dependants of the employee that all payments will be adjusted against the payments due to the employee in case he appears on the scene and makes any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44C0-BEE8-4A5F-BBD8-7B4C946DE1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uthorization of Pension and  Gratuit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0" name="PlaceHolder 2"/>
          <p:cNvSpPr>
            <a:spLocks noGrp="1"/>
          </p:cNvSpPr>
          <p:nvPr>
            <p:ph/>
          </p:nvPr>
        </p:nvSpPr>
        <p:spPr>
          <a:xfrm>
            <a:off x="304560" y="1600200"/>
            <a:ext cx="838188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case of Government servants in occupation of Government accommodation, the Directorate of Estate would be addressed by the Head of the Office two years before the anticipated date of retirement of the Government servant for issue of 'no demand certific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tatements required to be maintained for proper monitoring and reporting system</a:t>
            </a:r>
            <a:endParaRPr b="0" lang="en-US" sz="28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ensure that the payment of pension should in all cases commence on the first of the month in which they are due, the progress of the pension cases should be watched by the Heads of the Offices by means of monthly and quarterly statements so that the various cut-off dates laid down are strictly followed</a:t>
            </a:r>
            <a:endParaRPr b="0" lang="en-US" sz="3200" spc="-1" strike="noStrike">
              <a:solidFill>
                <a:srgbClr val="000000"/>
              </a:solidFill>
              <a:latin typeface="Arial"/>
            </a:endParaRPr>
          </a:p>
        </p:txBody>
      </p:sp>
      <p:sp>
        <p:nvSpPr>
          <p:cNvPr id="7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7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1E2F-1969-4435-9689-785BF1FDAD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7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F5CA-052E-4B78-AB14-1385FF6AA7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Rectangle 4"/>
          <p:cNvSpPr/>
          <p:nvPr/>
        </p:nvSpPr>
        <p:spPr>
          <a:xfrm>
            <a:off x="457200" y="609480"/>
            <a:ext cx="8458200" cy="789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ement No. 1 :    This is monthly statement to                                                                                                                                                                                                                                                                                                                                                                      cover cases of all Government servants due to retire within the succeeding 8 months and indicate the progress of the pension cases with reference to the various stages and time-limit prescribed, i.e., whether action was initiated two years in advance and whether the pension papers are ready for being sent to the Audit Officer before 6 months of the retirement of the Government servant. The statement should be submitted by the Head of Office to the next higher offi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sation of Pension</a:t>
            </a:r>
            <a:endParaRPr b="0" lang="en-US" sz="1400" spc="-1" strike="noStrike">
              <a:solidFill>
                <a:srgbClr val="000000"/>
              </a:solidFill>
              <a:latin typeface="Arial"/>
            </a:endParaRPr>
          </a:p>
        </p:txBody>
      </p:sp>
      <p:sp>
        <p:nvSpPr>
          <p:cNvPr id="8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5E03-A5E6-42CD-8E6E-8939CD69D5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Rectangle 4"/>
          <p:cNvSpPr/>
          <p:nvPr/>
        </p:nvSpPr>
        <p:spPr>
          <a:xfrm>
            <a:off x="304920" y="685800"/>
            <a:ext cx="853416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ement No. 2 :    This is monthly statement having Part I and Part II and the statement should cover the cases of Government servants who became due for retirement in the previous calendar month. Part I and Part II of the statement should be submitted by the Head of Office to the next higher officer. The next higher officer will submit Part II of the statement to the Head of the Depar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10:44:47Z</dcterms:created>
  <dc:creator> a g officejammu</dc:creator>
  <dc:description/>
  <dc:language>en-US</dc:language>
  <cp:lastModifiedBy>JP</cp:lastModifiedBy>
  <cp:lastPrinted>2019-07-04T07:36:00Z</cp:lastPrinted>
  <dcterms:modified xsi:type="dcterms:W3CDTF">2019-11-04T07:59:50Z</dcterms:modified>
  <cp:revision>45</cp:revision>
  <dc:subject/>
  <dc:title>Authorization of Pension and Gratuity</dc:title>
</cp:coreProperties>
</file>