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8F686-05AA-43C7-9C4C-0F92D11EB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1BDC0-4AA2-4B78-B9FB-F8B36746C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E84AF-3346-494F-B834-3F0102532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A3437-AFEA-44DA-8965-267EBC8DE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2B074-E2EB-4154-B45D-7BB8A5F40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D575E-7749-4026-BDDC-7B41BB4F7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5B42F-83CE-45CF-BD55-B07AC1E4C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0364F-96E6-4B39-A062-03817EA3B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CB610-755B-4CE1-A02B-DB38750BF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336D1-A369-497F-8183-9FC27F5E1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98363-BDAE-44D2-9F57-ACB6FD708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C0F7C-6129-43F4-ADE4-20AAAC681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8F32D-D79D-4418-BC4B-707F4EAF5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40697-76EC-4DFA-BC7C-C1A3CE02A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93685-6DCF-4E47-B918-C5273C286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B1F52-3386-4419-B8ED-82EA3F3B7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0F8AD-B4E6-420F-881D-79C270DDC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7A3B-B18D-47E9-A3B5-56F76BB2F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D683B-A3A3-4BF7-A563-4A5F8E998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1A033-C05D-4767-BAC6-E16EE7C14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EF9F5-FCB0-4425-A4F8-5C8F1E1EF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3E058-81B0-4131-BAC4-54E39A495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A4123-3312-4A78-BD8F-0C7975475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B4DE1-B909-45FF-91E5-4D13A066A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05EE-5F35-45E7-991A-147D2960E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E8AB-97A0-4AB1-A719-1A73B69DA6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2"/>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89" name="Footer Placeholder 3"/>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0" name="Slide Number Placeholder 4"/>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362F-4433-453F-93C3-9DE6B6DB06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685800" y="2438280"/>
            <a:ext cx="77724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ALFYING SERVICE</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3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95F5-4C0C-4675-8DCB-98B7A5CA89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Qualifying Service and General Conditions</a:t>
            </a:r>
            <a:endParaRPr b="0" lang="en-US" sz="2900" spc="-1" strike="noStrike">
              <a:solidFill>
                <a:srgbClr val="336666"/>
              </a:solidFill>
              <a:latin typeface="Arial Black"/>
            </a:endParaRPr>
          </a:p>
        </p:txBody>
      </p:sp>
      <p:sp>
        <p:nvSpPr>
          <p:cNvPr id="13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 General condition.-</a:t>
            </a:r>
            <a:r>
              <a:rPr b="0" lang="en-US" sz="2700" spc="-1" strike="noStrike">
                <a:solidFill>
                  <a:srgbClr val="000000"/>
                </a:solidFill>
                <a:latin typeface="Arial"/>
              </a:rPr>
              <a:t> The service of a Government  servant shall not qualify unless his duties and pay are regulated by the Central Government. However, if a State Government servant is appointed on deputation to a post under the Central Government and subsequently transferred permanently to the Central Government, the continuous service rendered by him under the State Government will qualify.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3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5913-4081-492B-8E29-9F1301C12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Periods counting as qualifying service</a:t>
            </a:r>
            <a:endParaRPr b="0" lang="en-US" sz="29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The following periods of service count as qualifying  servic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i) Duty and periods treated as 'duty'.</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ii) All kinds of leave with leave salary.</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iii) Deputation and Foreign Servic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4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E2E0-8DFF-4472-9402-F6392D443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Periods counting as qualifying service</a:t>
            </a:r>
            <a:endParaRPr b="0" lang="en-US" sz="2900" spc="-1" strike="noStrike">
              <a:solidFill>
                <a:srgbClr val="336666"/>
              </a:solidFill>
              <a:latin typeface="Arial Black"/>
            </a:endParaRPr>
          </a:p>
        </p:txBody>
      </p:sp>
      <p:sp>
        <p:nvSpPr>
          <p:cNvPr id="14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v) Extraordinary leave on medical certificate; and Extraordinary leave without medical certificate granted due to inability of the employee to join/rejoin duty on account of civil commotion or for prosecuting higher technical and scientific studies. </a:t>
            </a:r>
            <a:endParaRPr b="0" lang="en-US" sz="27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period automatically counts as qualifying service without an express sanction for this purpos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4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3849-FBE1-449C-BE4D-F90A25E6F7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Periods counting as qualifying service</a:t>
            </a: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2800" spc="-1" strike="noStrike">
                <a:solidFill>
                  <a:srgbClr val="000000"/>
                </a:solidFill>
                <a:latin typeface="Arial"/>
              </a:rPr>
              <a:t>v) Govt by order decide whether training immediately  before  appointment  into service shall count as Q S . Benefit is admissible on training followed immediately by appointment as Groups 'C' and 'D' employe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 Service on probation followed by confirm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i) Service as SAS Appren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5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F677-D0E1-46AA-B76F-B4AD12A5D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Periods counting as qualifying service</a:t>
            </a:r>
            <a:endParaRPr b="0" lang="en-US" sz="3300" spc="-1" strike="noStrike">
              <a:solidFill>
                <a:srgbClr val="336666"/>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ii) Suspension followed by minor penalty.</a:t>
            </a:r>
            <a:endParaRPr b="0" lang="en-US" sz="3600" spc="-1" strike="noStrike">
              <a:solidFill>
                <a:srgbClr val="000000"/>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x) Suspension followed by major penalty; absence from duty including suspension if any, if the reinstating authority orders that it shall cou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5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0DC6-6EAC-49F1-AAE0-82F20A95F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Periods not counting as qualifying service</a:t>
            </a:r>
            <a:endParaRPr b="0" lang="en-US" sz="2900" spc="-1" strike="noStrike">
              <a:solidFill>
                <a:srgbClr val="336666"/>
              </a:solidFill>
              <a:latin typeface="Arial Black"/>
            </a:endParaRPr>
          </a:p>
        </p:txBody>
      </p:sp>
      <p:sp>
        <p:nvSpPr>
          <p:cNvPr id="161" name="PlaceHolder 2"/>
          <p:cNvSpPr>
            <a:spLocks noGrp="1"/>
          </p:cNvSpPr>
          <p:nvPr>
            <p:ph/>
          </p:nvPr>
        </p:nvSpPr>
        <p:spPr>
          <a:xfrm>
            <a:off x="762120" y="1905120"/>
            <a:ext cx="7696080" cy="4038480"/>
          </a:xfrm>
          <a:prstGeom prst="rect">
            <a:avLst/>
          </a:prstGeom>
          <a:noFill/>
          <a:ln w="0">
            <a:noFill/>
          </a:ln>
        </p:spPr>
        <p:txBody>
          <a:bodyPr anchor="t">
            <a:normAutofit/>
          </a:bodyPr>
          <a:p>
            <a:pPr marL="49536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ollowing  periods will not count as qualifying service:-</a:t>
            </a:r>
            <a:endParaRPr b="0" lang="en-US" sz="3600" spc="-1" strike="noStrike">
              <a:solidFill>
                <a:srgbClr val="000000"/>
              </a:solidFill>
              <a:latin typeface="Arial"/>
            </a:endParaRPr>
          </a:p>
          <a:p>
            <a:pPr marL="49536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Service rendered before attaining the age of 18 years. </a:t>
            </a:r>
            <a:endParaRPr b="0" lang="en-US" sz="3600" spc="-1" strike="noStrike">
              <a:solidFill>
                <a:srgbClr val="000000"/>
              </a:solidFill>
              <a:latin typeface="Arial"/>
            </a:endParaRPr>
          </a:p>
          <a:p>
            <a:pPr marL="495360" indent="-495360" algn="just">
              <a:lnSpc>
                <a:spcPct val="80000"/>
              </a:lnSpc>
              <a:spcBef>
                <a:spcPts val="9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i) Service as Apprentice except SAS Apprentice.</a:t>
            </a:r>
            <a:endParaRPr b="0" lang="en-US" sz="3600" spc="-1" strike="noStrike">
              <a:solidFill>
                <a:srgbClr val="000000"/>
              </a:solidFill>
              <a:latin typeface="Arial"/>
            </a:endParaRPr>
          </a:p>
          <a:p>
            <a:pPr marL="49536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ii) Unauthorized absence treated as 'dies n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6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5005-653B-4C8C-8C28-B4306C788F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Periods not counting as qualifying service</a:t>
            </a:r>
            <a:endParaRPr b="0" lang="en-US" sz="29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anchor="t">
            <a:normAutofit/>
          </a:bodyPr>
          <a:p>
            <a:pPr marL="4953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v) Overstayal of leave/joining time not regularized as leave with leave salary. </a:t>
            </a:r>
            <a:endParaRPr b="0" lang="en-US" sz="3600" spc="-1" strike="noStrike">
              <a:solidFill>
                <a:srgbClr val="000000"/>
              </a:solidFill>
              <a:latin typeface="Arial"/>
            </a:endParaRPr>
          </a:p>
          <a:p>
            <a:pPr marL="4953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 EOL without MC other than the circumstances specifi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6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F72E-EC7C-4CB3-97F1-198792B88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Counting of service on contract</a:t>
            </a:r>
            <a:endParaRPr b="0" lang="en-US" sz="2900" spc="-1" strike="noStrike">
              <a:solidFill>
                <a:srgbClr val="336666"/>
              </a:solidFill>
              <a:latin typeface="Arial Black"/>
            </a:endParaRPr>
          </a:p>
        </p:txBody>
      </p:sp>
      <p:sp>
        <p:nvSpPr>
          <p:cNvPr id="17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0" lang="en-US" sz="2700" spc="-1" strike="noStrike">
                <a:solidFill>
                  <a:srgbClr val="000000"/>
                </a:solidFill>
                <a:latin typeface="Arial"/>
              </a:rPr>
              <a:t>A person initially engaged on a contract for a specified period and subsequently appointed to the same or  another post in a permanent capacity in pensionable establishment has the option to forgo Government's contribution to Contributory Provident Fund including any other compensation for that service. In such a case, the period of the initial contract service will qualify.-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7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B01E-AEEC-4BAA-958A-364C188EF2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Counting of service paid from contingencies</a:t>
            </a:r>
            <a:endParaRPr b="0" lang="en-US" sz="2900" spc="-1" strike="noStrike">
              <a:solidFill>
                <a:srgbClr val="336666"/>
              </a:solidFill>
              <a:latin typeface="Arial Black"/>
            </a:endParaRPr>
          </a:p>
        </p:txBody>
      </p:sp>
      <p:sp>
        <p:nvSpPr>
          <p:cNvPr id="17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3600" spc="-1" strike="noStrike">
                <a:solidFill>
                  <a:srgbClr val="000000"/>
                </a:solidFill>
                <a:latin typeface="Arial"/>
              </a:rPr>
              <a:t>Half the period will count as qualifying if the employees are subsequently brought on to regular establishment.- </a:t>
            </a:r>
            <a:r>
              <a:rPr b="0" lang="en-US" sz="3600" spc="-1" strike="noStrike">
                <a:solidFill>
                  <a:srgbClr val="ff0000"/>
                </a:solidFill>
                <a:latin typeface="Arial"/>
              </a:rPr>
              <a:t>Rule 14, GID (2)</a:t>
            </a:r>
            <a:endParaRPr b="0" lang="en-US" sz="3600" spc="-1" strike="noStrike">
              <a:solidFill>
                <a:srgbClr val="000000"/>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7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AC4E-C419-4E36-AEDA-A9598D0CF2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Counting of pre-retirement Civil/Military Service</a:t>
            </a:r>
            <a:endParaRPr b="0" lang="en-US" sz="2900" spc="-1" strike="noStrike">
              <a:solidFill>
                <a:srgbClr val="336666"/>
              </a:solidFill>
              <a:latin typeface="Arial Black"/>
            </a:endParaRPr>
          </a:p>
        </p:txBody>
      </p:sp>
      <p:sp>
        <p:nvSpPr>
          <p:cNvPr id="181" name="PlaceHolder 2"/>
          <p:cNvSpPr>
            <a:spLocks noGrp="1"/>
          </p:cNvSpPr>
          <p:nvPr>
            <p:ph/>
          </p:nvPr>
        </p:nvSpPr>
        <p:spPr>
          <a:xfrm>
            <a:off x="762120" y="1905120"/>
            <a:ext cx="7696080" cy="4038480"/>
          </a:xfrm>
          <a:prstGeom prst="rect">
            <a:avLst/>
          </a:prstGeom>
          <a:noFill/>
          <a:ln w="0">
            <a:noFill/>
          </a:ln>
        </p:spPr>
        <p:txBody>
          <a:bodyPr anchor="t">
            <a:normAutofit fontScale="97000"/>
          </a:bodyPr>
          <a:p>
            <a:pPr marL="3326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3600" spc="-1" strike="noStrike">
                <a:solidFill>
                  <a:srgbClr val="000000"/>
                </a:solidFill>
                <a:latin typeface="Arial"/>
              </a:rPr>
              <a:t>In the case of re-employed Civil/Military personnel, the pre-retirement Civil/Military service will count as qualifying service under certain conditions.- Rules 18 &amp; 19.</a:t>
            </a:r>
            <a:endParaRPr b="0" lang="en-US" sz="3600" spc="-1" strike="noStrike">
              <a:solidFill>
                <a:srgbClr val="000000"/>
              </a:solidFill>
              <a:latin typeface="Arial"/>
            </a:endParaRPr>
          </a:p>
          <a:p>
            <a:pPr marL="3326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9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323B-C451-4DB0-B5E0-CD3011CA68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ession Overview</a:t>
            </a:r>
            <a:endParaRPr b="0" lang="en-US" sz="3300" spc="-1" strike="noStrike">
              <a:solidFill>
                <a:srgbClr val="336666"/>
              </a:solidFill>
              <a:latin typeface="Arial Black"/>
            </a:endParaRPr>
          </a:p>
        </p:txBody>
      </p:sp>
      <p:sp>
        <p:nvSpPr>
          <p:cNvPr id="9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nsion entitlements of a Central Government Servant are determined with reference to the service rendered by him/her under the Central Government.  Entire service of a Government servant under the Central Government may or may not qualify for pension.  </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is important to understand the various rules applicable to determining the qualifying service of a Central Government employee for grant of pens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8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928A-B708-4898-B637-6C6A9CDF4B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6666"/>
                </a:solidFill>
                <a:latin typeface="Arial Black"/>
              </a:rPr>
              <a:t>Rounding off</a:t>
            </a:r>
            <a:endParaRPr b="0" lang="en-US" sz="3700" spc="-1" strike="noStrike">
              <a:solidFill>
                <a:srgbClr val="336666"/>
              </a:solidFill>
              <a:latin typeface="Arial Black"/>
            </a:endParaRPr>
          </a:p>
        </p:txBody>
      </p:sp>
      <p:sp>
        <p:nvSpPr>
          <p:cNvPr id="18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200" spc="-1" strike="noStrike">
                <a:solidFill>
                  <a:srgbClr val="000000"/>
                </a:solidFill>
                <a:latin typeface="Arial"/>
              </a:rPr>
              <a:t>Qualifying service for pension/gratuity is calculated and expressed in completed half-year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ctions equal to three months and above shall be treated as one half-year. Fraction of less than 3 months will be igno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8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82AA-F14C-4B8E-B16C-B8A3F9D7B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Intimation to employees about their qualifying service</a:t>
            </a:r>
            <a:endParaRPr b="0" lang="en-US" sz="2900" spc="-1" strike="noStrike">
              <a:solidFill>
                <a:srgbClr val="336666"/>
              </a:solidFill>
              <a:latin typeface="Arial Black"/>
            </a:endParaRPr>
          </a:p>
        </p:txBody>
      </p:sp>
      <p:sp>
        <p:nvSpPr>
          <p:cNvPr id="19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d of Office in consultation with the Accounts Officer shall verify the service rendered by a Government servant who; has completed 25 years of service or is within 5 years of retirement, determine the qualifying service and communicate to him the period of qualifying service so determined </a:t>
            </a:r>
            <a:r>
              <a:rPr b="0" lang="en-US" sz="3200" spc="-1" strike="noStrike">
                <a:solidFill>
                  <a:srgbClr val="ff0000"/>
                </a:solidFill>
                <a:latin typeface="Arial"/>
              </a:rPr>
              <a:t>- Rule 32 (1).</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9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3963-C3AF-4015-9C84-01359F4EA4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Black"/>
              </a:rPr>
              <a:t>Counting of previous Civil/Military service for pension on reemployment</a:t>
            </a:r>
            <a:endParaRPr b="0" lang="en-US" sz="2600" spc="-1" strike="noStrike">
              <a:solidFill>
                <a:srgbClr val="336666"/>
              </a:solidFill>
              <a:latin typeface="Arial Black"/>
            </a:endParaRPr>
          </a:p>
        </p:txBody>
      </p:sp>
      <p:sp>
        <p:nvSpPr>
          <p:cNvPr id="19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 re-employment in civil posts under Central Government.-</a:t>
            </a: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Employees who had retired on superannuation/retirement pension are NOT eligible for confirmation and pensionary benefits for re-employed service. They are taken as temporary employe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9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8DB3-B6E6-4C3B-AE74-7CD094DF6C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Black"/>
              </a:rPr>
              <a:t>Counting of previous Civil/Military service for pension on reemployment</a:t>
            </a:r>
            <a:endParaRPr b="0" lang="en-US" sz="2600" spc="-1" strike="noStrike">
              <a:solidFill>
                <a:srgbClr val="336666"/>
              </a:solidFill>
              <a:latin typeface="Arial Black"/>
            </a:endParaRPr>
          </a:p>
        </p:txBody>
      </p:sp>
      <p:sp>
        <p:nvSpPr>
          <p:cNvPr id="20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Employees who retired on compensation pension (gratuity) or invalid pension (gratuity) are eligible for confirm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The Appointing Authority, while issuing confirmation orders should require the employee in writing to exercise either of the options mentioned below within three months of the date of issue of the order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0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24A1-7CB2-4E78-963D-048CEDF75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Black"/>
              </a:rPr>
              <a:t>Counting of previous Civil/Military service for pension on reemployment</a:t>
            </a:r>
            <a:endParaRPr b="0" lang="en-US" sz="2600" spc="-1" strike="noStrike">
              <a:solidFill>
                <a:srgbClr val="336666"/>
              </a:solidFill>
              <a:latin typeface="Arial Black"/>
            </a:endParaRPr>
          </a:p>
        </p:txBody>
      </p:sp>
      <p:sp>
        <p:nvSpPr>
          <p:cNvPr id="20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Employees who retired from military service before attaining the age of superannuation are eligible for confirmation. The Appointing Authority while issuing orders of appointment should direct the employee in writing to exercise the option within one year of the date of his re-employ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0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0508-99E9-48BA-8AF9-2FAD6C21C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Black"/>
              </a:rPr>
              <a:t>Counting of previous Civil/Military service for pension on reemployment</a:t>
            </a:r>
            <a:r>
              <a:rPr b="1" lang="en-US" sz="2900" spc="-1" strike="noStrike">
                <a:solidFill>
                  <a:srgbClr val="336666"/>
                </a:solidFill>
                <a:latin typeface="Arial Black"/>
              </a:rPr>
              <a:t> -Option</a:t>
            </a:r>
            <a:endParaRPr b="0" lang="en-US" sz="2900" spc="-1" strike="noStrike">
              <a:solidFill>
                <a:srgbClr val="336666"/>
              </a:solidFill>
              <a:latin typeface="Arial Black"/>
            </a:endParaRPr>
          </a:p>
        </p:txBody>
      </p:sp>
      <p:sp>
        <p:nvSpPr>
          <p:cNvPr id="21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2600" spc="-1" strike="noStrike">
                <a:solidFill>
                  <a:srgbClr val="000000"/>
                </a:solidFill>
                <a:latin typeface="Arial"/>
              </a:rPr>
              <a:t>(i) to retain all the gratuities received for the former service and, if pensioners, continue drawing the pension and NOT  to count the former service for future pensionary benefits ; OR</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i) to refund all the gratuities received for the former service and in addition, if pensioners, to cease drawing the pension and refund the commutation amount, if any, and to count the former service for future pensionary benefi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1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B1DF-6344-441C-ADB1-0C46C3877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f the re-employed pensioners exercise option as (ii) above</a:t>
            </a:r>
            <a:endParaRPr b="0" lang="en-US" sz="3300" spc="-1" strike="noStrike">
              <a:solidFill>
                <a:srgbClr val="336666"/>
              </a:solidFill>
              <a:latin typeface="Arial Black"/>
            </a:endParaRPr>
          </a:p>
        </p:txBody>
      </p:sp>
      <p:sp>
        <p:nvSpPr>
          <p:cNvPr id="21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They should stop drawing any pension forthwith. The element of pension ignored while fixing the initial pay in the re-employed post and drawn from the date of re-employment to the date of cessation  of drawal of pension, the value received for the commutation of pension, if any, and the retirement gratuity received for the previous service should be refunded to Government within one month of the receipt of communication from the Govern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1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6CB3-4FF0-4704-BF40-9F1B7DC93D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f the re-employed pensioners exercise option as (ii) above</a:t>
            </a:r>
            <a:endParaRPr b="0" lang="en-US" sz="3300" spc="-1" strike="noStrike">
              <a:solidFill>
                <a:srgbClr val="336666"/>
              </a:solidFill>
              <a:latin typeface="Arial Black"/>
            </a:endParaRPr>
          </a:p>
        </p:txBody>
      </p:sp>
      <p:sp>
        <p:nvSpPr>
          <p:cNvPr id="22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ith interest at the rate as applicable to GPF deposits from the date of receipt; of pensionary benefits to the date of their refund. Penal interest @ 2% p.a. shall be charged on delayed payments in addition to normal rate of interest mentioned above if the amount with interest is not refunded within one month. The pension drawn prior to the date of re-employment is not required to be refunded.</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2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E1D7-7633-4ACD-B0C3-523C445649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f the re-employed pensioners exercise option as (ii) above</a:t>
            </a:r>
            <a:endParaRPr b="0" lang="en-US" sz="3300" spc="-1" strike="noStrike">
              <a:solidFill>
                <a:srgbClr val="336666"/>
              </a:solidFill>
              <a:latin typeface="Arial Black"/>
            </a:endParaRPr>
          </a:p>
        </p:txBody>
      </p:sp>
      <p:sp>
        <p:nvSpPr>
          <p:cNvPr id="226" name="PlaceHolder 2"/>
          <p:cNvSpPr>
            <a:spLocks noGrp="1"/>
          </p:cNvSpPr>
          <p:nvPr>
            <p:ph/>
          </p:nvPr>
        </p:nvSpPr>
        <p:spPr>
          <a:xfrm>
            <a:off x="762120" y="1905120"/>
            <a:ext cx="7696080" cy="4038480"/>
          </a:xfrm>
          <a:prstGeom prst="rect">
            <a:avLst/>
          </a:prstGeom>
          <a:noFill/>
          <a:ln w="0">
            <a:noFill/>
          </a:ln>
        </p:spPr>
        <p:txBody>
          <a:bodyPr anchor="t">
            <a:normAutofit fontScale="93000"/>
          </a:bodyPr>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right to count former service for future pension will not revive until the whole amount due (referred to in (1) above) has been refunded to Government.</a:t>
            </a:r>
            <a:endParaRPr b="0" lang="en-US" sz="3200" spc="-1" strike="noStrike">
              <a:solidFill>
                <a:srgbClr val="000000"/>
              </a:solidFill>
              <a:latin typeface="Arial"/>
            </a:endParaRPr>
          </a:p>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If the individual dies before completion of the refund, the balance due will be adjusted against the death gratuity payable to his family. </a:t>
            </a:r>
            <a:endParaRPr b="0" lang="en-US" sz="3200" spc="-1" strike="noStrike">
              <a:solidFill>
                <a:srgbClr val="000000"/>
              </a:solidFill>
              <a:latin typeface="Arial"/>
            </a:endParaRPr>
          </a:p>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2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2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3D88-BA2C-4209-B732-F046A8675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When option not exercised</a:t>
            </a:r>
            <a:endParaRPr b="0" lang="en-US" sz="2900" spc="-1" strike="noStrike">
              <a:solidFill>
                <a:srgbClr val="336666"/>
              </a:solidFill>
              <a:latin typeface="Arial Black"/>
            </a:endParaRPr>
          </a:p>
        </p:txBody>
      </p:sp>
      <p:sp>
        <p:nvSpPr>
          <p:cNvPr id="23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3200" spc="-1" strike="noStrike">
                <a:solidFill>
                  <a:srgbClr val="000000"/>
                </a:solidFill>
                <a:latin typeface="Arial"/>
              </a:rPr>
              <a:t>If no option is exercised, the employee will be deemed to have opted to continue to drawn pension or retain the gratuity, without counting the former service for future pension.- Rule 18.</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9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CABB-F470-468B-AC82-80F9997F8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ession Overview</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uring this session we will cover the general conditions applicable to determining the qualifying service for pension entitlements of Central Government employees.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22824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No Limitation on Civil Pension for re-employed Military Pensioner</a:t>
            </a:r>
            <a:endParaRPr b="0" lang="en-US" sz="2800" spc="-1" strike="noStrike">
              <a:solidFill>
                <a:srgbClr val="336666"/>
              </a:solidFill>
              <a:latin typeface="Arial Black"/>
            </a:endParaRPr>
          </a:p>
        </p:txBody>
      </p:sp>
      <p:sp>
        <p:nvSpPr>
          <p:cNvPr id="233" name=""/>
          <p:cNvSpPr txBox="1"/>
          <p:nvPr/>
        </p:nvSpPr>
        <p:spPr>
          <a:xfrm>
            <a:off x="228240" y="1752120"/>
            <a:ext cx="8915400" cy="4038840"/>
          </a:xfrm>
          <a:prstGeom prst="rect">
            <a:avLst/>
          </a:prstGeom>
          <a:noFill/>
          <a:ln w="0">
            <a:noFill/>
          </a:ln>
        </p:spPr>
        <p:txBody>
          <a:bodyPr anchor="t">
            <a:normAutofit/>
          </a:bodyPr>
          <a:p>
            <a:pPr marL="343080" indent="-3430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re-employment of military pensioners in civil service, the pensionary benefits for the second spell of service admissible &amp;shall not be subject to any limitation (wef 1.4.2001)</a:t>
            </a:r>
            <a:endParaRPr b="0" lang="en-US" sz="2800" spc="-1" strike="noStrike">
              <a:solidFill>
                <a:srgbClr val="000000"/>
              </a:solidFill>
              <a:latin typeface="Arial"/>
            </a:endParaRPr>
          </a:p>
          <a:p>
            <a:pPr marL="343080" indent="-3430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es of re-employed pensioners who opted for separate military and civil pension and whose cases were earlier decided otherwise, to be re-opened and pensionary benefits for civil service may be re-fixed without limitation</a:t>
            </a:r>
            <a:endParaRPr b="0" lang="en-US" sz="2800" spc="-1" strike="noStrike">
              <a:solidFill>
                <a:srgbClr val="000000"/>
              </a:solidFill>
              <a:latin typeface="Arial"/>
            </a:endParaRPr>
          </a:p>
        </p:txBody>
      </p:sp>
      <p:sp>
        <p:nvSpPr>
          <p:cNvPr id="234"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35"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6"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7769-87E2-43C8-B889-27AA0FE17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3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3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C74D-6C2E-4049-931C-B323D4E575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Forfeiture of service on dismissal or removal</a:t>
            </a:r>
            <a:endParaRPr b="0" lang="en-US" sz="2900" spc="-1" strike="noStrike">
              <a:solidFill>
                <a:srgbClr val="336666"/>
              </a:solidFill>
              <a:latin typeface="Arial Black"/>
            </a:endParaRPr>
          </a:p>
        </p:txBody>
      </p:sp>
      <p:sp>
        <p:nvSpPr>
          <p:cNvPr id="24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smissal or removal of a Government servant from a service or post entails forfeiture of his past service.</a:t>
            </a:r>
            <a:endParaRPr b="0" lang="en-US" sz="3100" spc="-1" strike="noStrike">
              <a:solidFill>
                <a:srgbClr val="000000"/>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A Government servant, who is dismissed, removed or compulsorily retired from service, but is reinstated on appeal or review is entitled to count his past service as qualifying service.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4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F9EC-9121-4A5A-8280-B62363FA5E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Forfeiture of service on dismissal or removal</a:t>
            </a:r>
            <a:endParaRPr b="0" lang="en-US" sz="2900" spc="-1" strike="noStrike">
              <a:solidFill>
                <a:srgbClr val="336666"/>
              </a:solidFill>
              <a:latin typeface="Arial Black"/>
            </a:endParaRPr>
          </a:p>
        </p:txBody>
      </p:sp>
      <p:sp>
        <p:nvSpPr>
          <p:cNvPr id="24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ruption in service due to the two appointments being at different stations, not exceeding the joining time permissible under the rules of transfer, shall be covered by grant of leave of any kind due to the Government servant on the date of relief or by formal condensation to the extent to which the period is not covered by leave due to the Government. (Rule 26)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4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4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4C0D-93FA-457F-87D0-1A1C72832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orfeiture of service on resignation</a:t>
            </a:r>
            <a:endParaRPr b="0" lang="en-US" sz="3300" spc="-1" strike="noStrike">
              <a:solidFill>
                <a:srgbClr val="336666"/>
              </a:solidFill>
              <a:latin typeface="Arial Black"/>
            </a:endParaRPr>
          </a:p>
        </p:txBody>
      </p:sp>
      <p:sp>
        <p:nvSpPr>
          <p:cNvPr id="25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ignation from service or post, unless it is allowed to be withdrawn in the public interest by the Appointing Authority, entails forfeiture of past service.  </a:t>
            </a:r>
            <a:endParaRPr b="0" lang="en-US" sz="2200" spc="-1" strike="noStrike">
              <a:solidFill>
                <a:srgbClr val="000000"/>
              </a:solidFill>
              <a:latin typeface="Arial"/>
            </a:endParaRPr>
          </a:p>
          <a:p>
            <a:pPr marL="343080" indent="-343080" algn="just">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if a resignation has been submitted to take up with proper permission, another appointment, whether temporary or permanent, under the Government, it shall not entail forfeiture of past service. Interruption in service due to the two appointments being at different stations, not exceeding the joining time permissible under the rules of transfer, shall not entail forfeiture of past servi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5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CE24-9796-419C-BBE4-A88D1381E3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orfeiture of service on resignation</a:t>
            </a:r>
            <a:endParaRPr b="0" lang="en-US" sz="3300" spc="-1" strike="noStrike">
              <a:solidFill>
                <a:srgbClr val="336666"/>
              </a:solidFill>
              <a:latin typeface="Arial Black"/>
            </a:endParaRPr>
          </a:p>
        </p:txBody>
      </p:sp>
      <p:sp>
        <p:nvSpPr>
          <p:cNvPr id="25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ruption in service due to the two appointments being at different stations, not exceeding the joining time permissible under the rules of transfer, shall be covered by grant of leave of any kind due to the Government servant on the date of relief or by formal condonation to the extent to which the period is not covered by leave due to the Government. (Rule 26)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5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5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6211-FCCB-48B1-950E-78744DE633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Counting of service paid from contingencies with regular service</a:t>
            </a:r>
            <a:endParaRPr b="0" lang="en-US" sz="2900" spc="-1" strike="noStrike">
              <a:solidFill>
                <a:srgbClr val="336666"/>
              </a:solidFill>
              <a:latin typeface="Arial Black"/>
            </a:endParaRPr>
          </a:p>
        </p:txBody>
      </p:sp>
      <p:sp>
        <p:nvSpPr>
          <p:cNvPr id="26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alf the service paid from contingencies will be allowed to count towards pension/terminal gratuity under CCS (temporary Service) Rules, 1965, at the time of absorption in regular employment subject to the condition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6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F588-5B6B-4B0C-B311-7A5EFF43A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Weightage in QS</a:t>
            </a:r>
            <a:endParaRPr b="0" lang="en-US" sz="2900" spc="-1" strike="noStrike">
              <a:solidFill>
                <a:srgbClr val="336666"/>
              </a:solidFill>
              <a:latin typeface="Arial Black"/>
            </a:endParaRPr>
          </a:p>
        </p:txBody>
      </p:sp>
      <p:sp>
        <p:nvSpPr>
          <p:cNvPr id="26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 provision for  weightage in Pension after VI CPC notification/implementation in view of revised provision for computation of pension</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fter 01.01.2006 on provision for computation of pension @ 50 % of last pay the grant of weightage becomes invalid and withdraw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6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6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070D-4FF5-4A1D-B1AD-496D2033F8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Effect of interruption in service</a:t>
            </a:r>
            <a:endParaRPr b="0" lang="en-US" sz="3300" spc="-1" strike="noStrike">
              <a:solidFill>
                <a:srgbClr val="336666"/>
              </a:solidFill>
              <a:latin typeface="Arial Black"/>
            </a:endParaRPr>
          </a:p>
        </p:txBody>
      </p:sp>
      <p:sp>
        <p:nvSpPr>
          <p:cNvPr id="27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counting service for pension, service should be continuous. </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rvice means duty and 'interruption' means any kind of break in service i.e., any period that is not duty. Interruption may mean all kinds of leave, joining time, overstayal, periods of absence after dismissal, removal and compulsory retirement in cases of reinstatement, the time taken by a person after resigning one post to take up another and so on.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7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7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6CCA-F472-4C55-BB06-F022D95472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Effect of interruption in service</a:t>
            </a:r>
            <a:endParaRPr b="0" lang="en-US" sz="3300" spc="-1" strike="noStrike">
              <a:solidFill>
                <a:srgbClr val="336666"/>
              </a:solidFill>
              <a:latin typeface="Arial Black"/>
            </a:endParaRPr>
          </a:p>
        </p:txBody>
      </p:sp>
      <p:sp>
        <p:nvSpPr>
          <p:cNvPr id="27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where in the rules relating to pension there is any clear technical definition of the world 'interruption'. The various kinds of absence from duty; which are construed as interruptions are dealt with in Rule 27, CCS (Pension) Rules, 1972.</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7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7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6789-D315-4AAE-8739-C1AF4308CB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nterruptions, which entail forfeiture of past service</a:t>
            </a:r>
            <a:endParaRPr b="0" lang="en-US" sz="3300" spc="-1" strike="noStrike">
              <a:solidFill>
                <a:srgbClr val="336666"/>
              </a:solidFill>
              <a:latin typeface="Arial Black"/>
            </a:endParaRPr>
          </a:p>
        </p:txBody>
      </p:sp>
      <p:sp>
        <p:nvSpPr>
          <p:cNvPr id="28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a:t>
            </a:r>
            <a:r>
              <a:rPr b="1" lang="en-US" sz="2700" spc="-1" strike="noStrike">
                <a:solidFill>
                  <a:srgbClr val="000000"/>
                </a:solidFill>
                <a:latin typeface="Arial"/>
              </a:rPr>
              <a:t> </a:t>
            </a:r>
            <a:r>
              <a:rPr b="0" lang="en-US" sz="2700" spc="-1" strike="noStrike">
                <a:solidFill>
                  <a:srgbClr val="000000"/>
                </a:solidFill>
                <a:latin typeface="Arial"/>
              </a:rPr>
              <a:t>following kinds of interruptions entail forfeiture of past service of a Government servant:-</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Dismissal from service.</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 Removal from service.</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 Resignation from a service except in the case of resignation for the purpose of taking another appointment, with proper permission. (Rules 24 and 26)</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0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3974-AA2A-499B-BB83-A9376A809B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earning Objective</a:t>
            </a: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the end of this session the trainees will be able to work out the qualifying service for grant of pension to a Central Government Employee.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8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8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8D03-0DCA-4363-8728-45E0062B29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nterruptions not entailing forfeiture of past service</a:t>
            </a:r>
            <a:endParaRPr b="0" lang="en-US" sz="3300" spc="-1" strike="noStrike">
              <a:solidFill>
                <a:srgbClr val="336666"/>
              </a:solidFill>
              <a:latin typeface="Arial Black"/>
            </a:endParaRPr>
          </a:p>
        </p:txBody>
      </p:sp>
      <p:sp>
        <p:nvSpPr>
          <p:cNvPr id="28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a:t>
            </a:r>
            <a:r>
              <a:rPr b="1" lang="en-US" sz="3100" spc="-1" strike="noStrike">
                <a:solidFill>
                  <a:srgbClr val="000000"/>
                </a:solidFill>
                <a:latin typeface="Arial"/>
              </a:rPr>
              <a:t> </a:t>
            </a:r>
            <a:r>
              <a:rPr b="0" lang="en-US" sz="3100" spc="-1" strike="noStrike">
                <a:solidFill>
                  <a:srgbClr val="000000"/>
                </a:solidFill>
                <a:latin typeface="Arial"/>
              </a:rPr>
              <a:t>following kinds of interruptions shall not entail forfeiture of </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Authorized leave past service of a Government servant-of absence.</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 Unauthorized absence in continuation of authorized leave of absence so long as the post of the absence is not filled substantively.</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8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8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ECC3-37AD-45A1-831A-F85F7F5B2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nterruptions not entailing forfeiture of past service</a:t>
            </a:r>
            <a:endParaRPr b="0" lang="en-US" sz="3300" spc="-1" strike="noStrike">
              <a:solidFill>
                <a:srgbClr val="336666"/>
              </a:solidFill>
              <a:latin typeface="Arial Black"/>
            </a:endParaRPr>
          </a:p>
        </p:txBody>
      </p:sp>
      <p:sp>
        <p:nvSpPr>
          <p:cNvPr id="29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 Suspension where it is immediately followed by reinstatement, whether in the same or a different post, or where the Government servant dies or is permitted to retire or is retired on attaining the age of superannuation while under suspension.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9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9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CE97-A32C-4B71-9C5D-383C4CE64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nterruptions not entailing forfeiture of past service</a:t>
            </a:r>
            <a:endParaRPr b="0" lang="en-US" sz="3300" spc="-1" strike="noStrike">
              <a:solidFill>
                <a:srgbClr val="336666"/>
              </a:solidFill>
              <a:latin typeface="Arial Black"/>
            </a:endParaRPr>
          </a:p>
        </p:txBody>
      </p:sp>
      <p:sp>
        <p:nvSpPr>
          <p:cNvPr id="29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 Transfer to non-qualifying service in an establishment under the control of the Central Government; if such transfer has been ordered by a Competent Authority in the public interest.</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 Joining time while on transfer from one post to anothe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9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9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3B8F-0406-47AC-971D-3411AD0CC5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Interruptions not entailing forfeiture of past service</a:t>
            </a:r>
            <a:endParaRPr b="0" lang="en-US" sz="3300" spc="-1" strike="noStrike">
              <a:solidFill>
                <a:srgbClr val="336666"/>
              </a:solidFill>
              <a:latin typeface="Arial Black"/>
            </a:endParaRPr>
          </a:p>
        </p:txBody>
      </p:sp>
      <p:sp>
        <p:nvSpPr>
          <p:cNvPr id="301" name="PlaceHolder 2"/>
          <p:cNvSpPr>
            <a:spLocks noGrp="1"/>
          </p:cNvSpPr>
          <p:nvPr>
            <p:ph/>
          </p:nvPr>
        </p:nvSpPr>
        <p:spPr>
          <a:xfrm>
            <a:off x="609480" y="1905120"/>
            <a:ext cx="784872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 The period of absence of a Government servant between the date of dismissal/ removal/compulsory retirement and the date of reinstatement when a Government servant is reinstated on appeal or review. (Rules 25, 26 and 2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0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0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4793-3E6B-4242-9657-982104A69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ondo nation of interruption in service</a:t>
            </a:r>
            <a:endParaRPr b="0" lang="en-US" sz="3300" spc="-1" strike="noStrike">
              <a:solidFill>
                <a:srgbClr val="336666"/>
              </a:solidFill>
              <a:latin typeface="Arial Black"/>
            </a:endParaRPr>
          </a:p>
        </p:txBody>
      </p:sp>
      <p:sp>
        <p:nvSpPr>
          <p:cNvPr id="30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In the absence of specific indication to the contrary in the Service Book, an interruption between two spells of civil service rendered by a Government servant under the Central Government including civil service rendered and paid out of Defense Service Estimates or Railway Estimates shall be treated as automatically condoned and the pre-interruption service treated as qualifying servic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0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0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279E-BB8A-456C-95C7-32BE27F4E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ondonation of interruption in service</a:t>
            </a:r>
            <a:endParaRPr b="0" lang="en-US" sz="3300" spc="-1" strike="noStrike">
              <a:solidFill>
                <a:srgbClr val="336666"/>
              </a:solidFill>
              <a:latin typeface="Arial Black"/>
            </a:endParaRPr>
          </a:p>
        </p:txBody>
      </p:sp>
      <p:sp>
        <p:nvSpPr>
          <p:cNvPr id="31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 The above provision is not applicable to interruption caused by resignation, dismissal or removal from service or for participation in a strik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1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1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9A2D-EDF9-4BF1-A657-37EAF07BE5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ondonation of interruption in service</a:t>
            </a:r>
            <a:endParaRPr b="0" lang="en-US" sz="3300" spc="-1" strike="noStrike">
              <a:solidFill>
                <a:srgbClr val="336666"/>
              </a:solidFill>
              <a:latin typeface="Arial Black"/>
            </a:endParaRPr>
          </a:p>
        </p:txBody>
      </p:sp>
      <p:sp>
        <p:nvSpPr>
          <p:cNvPr id="31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 The period of interruption itself shall not count as qualifying service. In other words, condo nation of interruption in service means treating of two or more spells of non-continuous service as one continuous spell so that the Government servant concerned may count the total service for pension or gratuity.</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ule 28)</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1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1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74AA-5EE3-4BD4-9D61-F3E4315AF1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reatment of various kinds of interruption in service</a:t>
            </a:r>
            <a:endParaRPr b="0" lang="en-US" sz="3300" spc="-1" strike="noStrike">
              <a:solidFill>
                <a:srgbClr val="336666"/>
              </a:solidFill>
              <a:latin typeface="Arial Black"/>
            </a:endParaRPr>
          </a:p>
        </p:txBody>
      </p:sp>
      <p:sp>
        <p:nvSpPr>
          <p:cNvPr id="32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horized leave of absence </a:t>
            </a:r>
            <a:r>
              <a:rPr b="0" lang="en-US" sz="2200" spc="-1" strike="noStrike">
                <a:solidFill>
                  <a:srgbClr val="000000"/>
                </a:solidFill>
                <a:latin typeface="Arial"/>
              </a:rPr>
              <a:t>- </a:t>
            </a:r>
            <a:r>
              <a:rPr b="0" lang="en-US" sz="2400" spc="-1" strike="noStrike">
                <a:solidFill>
                  <a:srgbClr val="000000"/>
                </a:solidFill>
                <a:latin typeface="Arial"/>
              </a:rPr>
              <a:t>No condonation by the Appointment Authority is required. All kinds of leave, except extraordinary leave taken otherwise than on medical certificate, count as qualifying service for pension. Extraordinary leave taken without medical certificate will also count automatically as qualifying service, if it is taken (i) due to the inability of the Government servant to join or rejoin duty on account of civil commotion; or (ii) for prosecuting high scientific and technical studies. (Rule 21, read with GID (3) there under</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2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2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83B0-87AF-4B51-A470-2E7AA3B119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reatment of various kinds of interruption in service</a:t>
            </a:r>
            <a:endParaRPr b="0" lang="en-US" sz="3300" spc="-1" strike="noStrike">
              <a:solidFill>
                <a:srgbClr val="336666"/>
              </a:solidFill>
              <a:latin typeface="Arial Black"/>
            </a:endParaRPr>
          </a:p>
        </p:txBody>
      </p:sp>
      <p:sp>
        <p:nvSpPr>
          <p:cNvPr id="32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Unauthorized absence</a:t>
            </a:r>
            <a:r>
              <a:rPr b="0" lang="en-US" sz="3100" spc="-1" strike="noStrike">
                <a:solidFill>
                  <a:srgbClr val="000000"/>
                </a:solidFill>
                <a:latin typeface="Arial"/>
              </a:rPr>
              <a:t>.-</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Appointment Authority may, by order, commute retrospectively the periods of absence without leave as extraordinary leave (but the period will not count as qualifying service). (Rule 2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2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2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8EE5-B163-4EEC-8522-F80D694FDE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reatment of various kinds of interruption in service</a:t>
            </a:r>
            <a:endParaRPr b="0" lang="en-US" sz="3300" spc="-1" strike="noStrike">
              <a:solidFill>
                <a:srgbClr val="336666"/>
              </a:solidFill>
              <a:latin typeface="Arial Black"/>
            </a:endParaRPr>
          </a:p>
        </p:txBody>
      </p:sp>
      <p:sp>
        <p:nvSpPr>
          <p:cNvPr id="33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uspension - </a:t>
            </a:r>
            <a:r>
              <a:rPr b="0" lang="en-US" sz="2700" spc="-1" strike="noStrike">
                <a:solidFill>
                  <a:srgbClr val="000000"/>
                </a:solidFill>
                <a:latin typeface="Arial"/>
              </a:rPr>
              <a:t>If any employee had been placed under suspension, there should be specific entries in his Service Book</a:t>
            </a:r>
            <a:r>
              <a:rPr b="1" lang="en-US" sz="2700" spc="-1" strike="noStrike">
                <a:solidFill>
                  <a:srgbClr val="000000"/>
                </a:solidFill>
                <a:latin typeface="Arial"/>
              </a:rPr>
              <a:t> </a:t>
            </a:r>
            <a:r>
              <a:rPr b="0" lang="en-US" sz="2700" spc="-1" strike="noStrike">
                <a:solidFill>
                  <a:srgbClr val="000000"/>
                </a:solidFill>
                <a:latin typeface="Arial"/>
              </a:rPr>
              <a:t>regarding the treatment of the period of suspension. For this purpose, the Competent Authority makes an order indicating whether the period will count as qualifying service or not. In the absence of specific entries in the Service Book, the period of suspension will be taken as counting for qualifying servic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0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8C2A-DD04-4FE0-98B2-D5B2DEE211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QUALIFYING SERVICE-Importance</a:t>
            </a:r>
            <a:endParaRPr b="0" lang="en-US" sz="2900" spc="-1" strike="noStrike">
              <a:solidFill>
                <a:srgbClr val="336666"/>
              </a:solidFill>
              <a:latin typeface="Arial Black"/>
            </a:endParaRPr>
          </a:p>
        </p:txBody>
      </p:sp>
      <p:sp>
        <p:nvSpPr>
          <p:cNvPr id="11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ntum of pension depends upon two factors, namely, the length of service and the salary drawn during the last ten months of service. During this session details about the service, which qualifies for pension will be cove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3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3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16F8-9A4F-4F0B-9CE0-7DCD9F4A07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reatment of various kinds of interruption in service</a:t>
            </a:r>
            <a:endParaRPr b="0" lang="en-US" sz="3300" spc="-1" strike="noStrike">
              <a:solidFill>
                <a:srgbClr val="336666"/>
              </a:solidFill>
              <a:latin typeface="Arial Black"/>
            </a:endParaRPr>
          </a:p>
        </p:txBody>
      </p:sp>
      <p:sp>
        <p:nvSpPr>
          <p:cNvPr id="336" name="PlaceHolder 2"/>
          <p:cNvSpPr>
            <a:spLocks noGrp="1"/>
          </p:cNvSpPr>
          <p:nvPr>
            <p:ph/>
          </p:nvPr>
        </p:nvSpPr>
        <p:spPr>
          <a:xfrm>
            <a:off x="1371240" y="1905120"/>
            <a:ext cx="708660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oining time -</a:t>
            </a:r>
            <a:r>
              <a:rPr b="0" lang="en-US" sz="3600" spc="-1" strike="noStrike">
                <a:solidFill>
                  <a:srgbClr val="000000"/>
                </a:solidFill>
                <a:latin typeface="Arial"/>
              </a:rPr>
              <a:t> Joining time automatically counts as qualifying service</a:t>
            </a:r>
            <a:r>
              <a:rPr b="0" lang="en-US" sz="3100" spc="-1" strike="noStrike">
                <a:solidFill>
                  <a:srgbClr val="000000"/>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3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3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4204-F781-4A37-ADAD-AAED734612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4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lculate Gross Service</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egin from the date from which the service is continuous. Temporary o officiating service followed without interruption by confirmation in the same or another post counts in full as qualifying service</a:t>
            </a:r>
            <a:r>
              <a:rPr b="1" lang="en-US" sz="3100" spc="-1" strike="noStrike">
                <a:solidFill>
                  <a:srgbClr val="000000"/>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4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4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E6C2-9F05-4515-AE7F-37FA20E75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4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rvice terminates on: in the case of retirement on superannuation, on the afternoon of the last day of the month in which the Government servant attains the age of 60 years (effective from 13-5-1998</a:t>
            </a:r>
            <a:r>
              <a:rPr b="1" lang="en-US" sz="3100" spc="-1" strike="noStrike">
                <a:solidFill>
                  <a:srgbClr val="000000"/>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4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4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7F2D-F358-4CF9-A307-9FADE956F8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51" name="PlaceHolder 2"/>
          <p:cNvSpPr>
            <a:spLocks noGrp="1"/>
          </p:cNvSpPr>
          <p:nvPr>
            <p:ph/>
          </p:nvPr>
        </p:nvSpPr>
        <p:spPr>
          <a:xfrm>
            <a:off x="533520" y="1905120"/>
            <a:ext cx="8229600" cy="4038480"/>
          </a:xfrm>
          <a:prstGeom prst="rect">
            <a:avLst/>
          </a:prstGeom>
          <a:noFill/>
          <a:ln w="0">
            <a:noFill/>
          </a:ln>
        </p:spPr>
        <p:txBody>
          <a:bodyPr anchor="t">
            <a:normAutofit/>
          </a:bodyPr>
          <a:p>
            <a:pPr marL="590400" indent="-59040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ate of birth of the Government servant is the first of any month, he shall retire on the afternoon of the last day of the preceding month on attaining the age of 60 years.</a:t>
            </a:r>
            <a:endParaRPr b="0" lang="en-US" sz="2400" spc="-1" strike="noStrike">
              <a:solidFill>
                <a:srgbClr val="000000"/>
              </a:solidFill>
              <a:latin typeface="Arial"/>
            </a:endParaRPr>
          </a:p>
          <a:p>
            <a:pPr marL="590400" indent="-59040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y of retirement is treated as ‘working-day’.</a:t>
            </a:r>
            <a:endParaRPr b="0" lang="en-US" sz="2400" spc="-1" strike="noStrike">
              <a:solidFill>
                <a:srgbClr val="000000"/>
              </a:solidFill>
              <a:latin typeface="Arial"/>
            </a:endParaRPr>
          </a:p>
          <a:p>
            <a:pPr marL="590400" indent="-59040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day prior to the date of retirement in the case of retirements under the provisions of FR 56(j) to (m) or Rules 48, 48-A of CCS (Pension ) Rules, 1972. In these cases, the date of retirement will be treated as non-working day. (Rule 5, CCS (Pension) R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5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5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4036-651E-4311-8E92-6E3DDB66FF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56" name="PlaceHolder 2"/>
          <p:cNvSpPr>
            <a:spLocks noGrp="1"/>
          </p:cNvSpPr>
          <p:nvPr>
            <p:ph/>
          </p:nvPr>
        </p:nvSpPr>
        <p:spPr>
          <a:xfrm>
            <a:off x="762120" y="1905120"/>
            <a:ext cx="7696080" cy="4038480"/>
          </a:xfrm>
          <a:prstGeom prst="rect">
            <a:avLst/>
          </a:prstGeom>
          <a:noFill/>
          <a:ln w="0">
            <a:noFill/>
          </a:ln>
        </p:spPr>
        <p:txBody>
          <a:bodyPr anchor="t">
            <a:normAutofit/>
          </a:bodyPr>
          <a:p>
            <a:pPr marL="590400" indent="-59040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last day of leave preparatory to retirement.</a:t>
            </a:r>
            <a:endParaRPr b="0" lang="en-US" sz="2800" spc="-1" strike="noStrike">
              <a:solidFill>
                <a:srgbClr val="000000"/>
              </a:solidFill>
              <a:latin typeface="Arial"/>
            </a:endParaRPr>
          </a:p>
          <a:p>
            <a:pPr marL="590400" indent="-59040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day prior to the date of relief on invalidation (Rule 20, CCS (Leave) Rules).</a:t>
            </a:r>
            <a:endParaRPr b="0" lang="en-US" sz="2800" spc="-1" strike="noStrike">
              <a:solidFill>
                <a:srgbClr val="000000"/>
              </a:solidFill>
              <a:latin typeface="Arial"/>
            </a:endParaRPr>
          </a:p>
          <a:p>
            <a:pPr marL="590400" indent="-59040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nvalidated while on leave, on the date of expiry of that leave or extension of leave. (Rule 20, CCS (Leave) R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5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5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2EED-3FC0-487E-A4D9-820B09FB0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61" name="PlaceHolder 2"/>
          <p:cNvSpPr>
            <a:spLocks noGrp="1"/>
          </p:cNvSpPr>
          <p:nvPr>
            <p:ph/>
          </p:nvPr>
        </p:nvSpPr>
        <p:spPr>
          <a:xfrm>
            <a:off x="762120" y="1905120"/>
            <a:ext cx="7696080" cy="4038480"/>
          </a:xfrm>
          <a:prstGeom prst="rect">
            <a:avLst/>
          </a:prstGeom>
          <a:noFill/>
          <a:ln w="0">
            <a:noFill/>
          </a:ln>
        </p:spPr>
        <p:txBody>
          <a:bodyPr anchor="t">
            <a:normAutofit/>
          </a:bodyPr>
          <a:p>
            <a:pPr marL="590400" indent="-59040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f permitted to retire voluntarily while on "leave not due" from the date of commencement of such leave. (Rule 31, CCS (Leave) Rules).</a:t>
            </a:r>
            <a:endParaRPr b="0" lang="en-US" sz="3100" spc="-1" strike="noStrike">
              <a:solidFill>
                <a:srgbClr val="000000"/>
              </a:solidFill>
              <a:latin typeface="Arial"/>
            </a:endParaRPr>
          </a:p>
          <a:p>
            <a:pPr marL="590400" indent="-59040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f a Government servant has been granted extension of service, the date of retirement should be taken after the end of the period of extension. (FR -56).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6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6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09C8-4E54-49D6-B482-BA03051D9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6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duct</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ice as apprentice (other than SAS Apprentice).</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verstayal, periods of suspension and other interruptions declared not qualifying.</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Extraordinary leave taken otherwise than on medical certificate except when it is taken (i) due to his inability to join or rejoin duty on account of civil commotion; or (ii) for prosecuting  higher scientific and technical studies declared to be in public inter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6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6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7D86-C6E4-41D6-A0E6-96B727DBD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7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 </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Pre-retirement civil service, if any (admissible under Rule 18) in the case of re-employed Government servant.</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 Military service, if any (admissible) under Rule 19),</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 Previous service under Central Government, if any (admissible under Rule 28).</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7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7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3AA3-405B-4169-B297-EC63E7AC64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7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 In the case of voluntary retirement-</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 after 20 years' qualifying service, under Rule 48-A of CCS (Pension) Rules.</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i) after completion of 30 years' qualifying service under Rule 48 (1) (a) of CCS (pension) Rules and</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7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7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C9CE-BCAC-4948-B122-8CF9FFAA57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8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 Pre-appointment training period in full in respect of Groups 'C' and 'D' employees, if appointed immediately after training.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1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CEC7-79BD-46D7-B9BE-43B422A14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QUALIFYING SERVICE-Importance</a:t>
            </a:r>
            <a:endParaRPr b="0" lang="en-US" sz="2900" spc="-1" strike="noStrike">
              <a:solidFill>
                <a:srgbClr val="336666"/>
              </a:solidFill>
              <a:latin typeface="Arial Black"/>
            </a:endParaRPr>
          </a:p>
        </p:txBody>
      </p:sp>
      <p:sp>
        <p:nvSpPr>
          <p:cNvPr id="116" name="PlaceHolder 2"/>
          <p:cNvSpPr>
            <a:spLocks noGrp="1"/>
          </p:cNvSpPr>
          <p:nvPr>
            <p:ph/>
          </p:nvPr>
        </p:nvSpPr>
        <p:spPr>
          <a:xfrm>
            <a:off x="304920" y="1828800"/>
            <a:ext cx="8610480" cy="4230720"/>
          </a:xfrm>
          <a:prstGeom prst="rect">
            <a:avLst/>
          </a:prstGeom>
          <a:noFill/>
          <a:ln w="0">
            <a:noFill/>
          </a:ln>
        </p:spPr>
        <p:txBody>
          <a:bodyPr anchor="t">
            <a:normAutofit fontScale="98000"/>
          </a:bodyPr>
          <a:p>
            <a:pPr marL="335880" indent="-3358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rvice reckoned for pensionary purposes is known as Qualifying Service. All kinds of service do not earn pension. Only qualifying service does. </a:t>
            </a:r>
            <a:endParaRPr b="0" lang="en-US" sz="2800" spc="-1" strike="noStrike">
              <a:solidFill>
                <a:srgbClr val="000000"/>
              </a:solidFill>
              <a:latin typeface="Arial"/>
            </a:endParaRPr>
          </a:p>
          <a:p>
            <a:pPr marL="335880" indent="-3358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pension was earlier earned for a qualifying service of 33 years. </a:t>
            </a:r>
            <a:endParaRPr b="0" lang="en-US" sz="2800" spc="-1" strike="noStrike">
              <a:solidFill>
                <a:srgbClr val="000000"/>
              </a:solidFill>
              <a:latin typeface="Arial"/>
            </a:endParaRPr>
          </a:p>
          <a:p>
            <a:pPr marL="335880" indent="-3358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Linkage of full pension with 33 years of qualifying service dispensed with 1.1.2006 Once an employee renders the minimum pensionable service of 20/10 year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38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38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4EBD-B9C3-4EFD-B2E0-108165D76D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ethod of calculating qualifying service</a:t>
            </a:r>
            <a:endParaRPr b="0" lang="en-US" sz="3300" spc="-1" strike="noStrike">
              <a:solidFill>
                <a:srgbClr val="336666"/>
              </a:solidFill>
              <a:latin typeface="Arial Black"/>
            </a:endParaRPr>
          </a:p>
        </p:txBody>
      </p:sp>
      <p:sp>
        <p:nvSpPr>
          <p:cNvPr id="38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result gives the net qualifying service for Service Gratuity or Pension and Retirement Gratuity or Death Gratuity.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1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7500-9524-4B75-84A2-D23C2F11D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Q.S. Commencement </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sp>
        <p:nvSpPr>
          <p:cNvPr id="121" name="PlaceHolder 2"/>
          <p:cNvSpPr>
            <a:spLocks noGrp="1"/>
          </p:cNvSpPr>
          <p:nvPr>
            <p:ph/>
          </p:nvPr>
        </p:nvSpPr>
        <p:spPr>
          <a:xfrm>
            <a:off x="457200" y="1676160"/>
            <a:ext cx="8229600" cy="4724280"/>
          </a:xfrm>
          <a:prstGeom prst="rect">
            <a:avLst/>
          </a:prstGeom>
          <a:noFill/>
          <a:ln w="0">
            <a:noFill/>
          </a:ln>
        </p:spPr>
        <p:txBody>
          <a:bodyPr anchor="t">
            <a:normAutofit/>
          </a:bodyPr>
          <a:p>
            <a:pPr marL="343080" indent="-343080" algn="just">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800" spc="-1" strike="noStrike">
                <a:solidFill>
                  <a:srgbClr val="000000"/>
                </a:solidFill>
                <a:latin typeface="Arial"/>
              </a:rPr>
              <a:t>Commences from the date he takes charge of the post to which he is appointed substantively. </a:t>
            </a:r>
            <a:endParaRPr b="0" lang="en-US" sz="2800" spc="-1" strike="noStrike">
              <a:solidFill>
                <a:srgbClr val="000000"/>
              </a:solidFill>
              <a:latin typeface="Arial"/>
            </a:endParaRPr>
          </a:p>
          <a:p>
            <a:pPr marL="343080" indent="-343080" algn="just">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ase of an appointment on an officiating or temporary capacity, the qualifying service shall commence from the date the Government servant takes charge of the post if such officiating or temporary service is followed without interruption by substantive appointment in the same or another service or post. </a:t>
            </a: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23"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4"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62CC-1F4F-41D6-B275-5E8664DC6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Commencement </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sp>
        <p:nvSpPr>
          <p:cNvPr id="126" name="PlaceHolder 2"/>
          <p:cNvSpPr>
            <a:spLocks noGrp="1"/>
          </p:cNvSpPr>
          <p:nvPr>
            <p:ph/>
          </p:nvPr>
        </p:nvSpPr>
        <p:spPr>
          <a:xfrm>
            <a:off x="457200" y="1676160"/>
            <a:ext cx="8229600" cy="4724280"/>
          </a:xfrm>
          <a:prstGeom prst="rect">
            <a:avLst/>
          </a:prstGeom>
          <a:noFill/>
          <a:ln w="0">
            <a:noFill/>
          </a:ln>
        </p:spPr>
        <p:txBody>
          <a:bodyPr anchor="t">
            <a:normAutofit/>
          </a:bodyPr>
          <a:p>
            <a:pPr marL="343080" indent="-343080" algn="just">
              <a:lnSpc>
                <a:spcPct val="80000"/>
              </a:lnSpc>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rendered before attaining the age of eighteen years shall not count for any purpose, i.e., pension or gratuity. </a:t>
            </a:r>
            <a:endParaRPr b="0" lang="en-US" sz="3200" spc="-1" strike="noStrike">
              <a:solidFill>
                <a:srgbClr val="000000"/>
              </a:solidFill>
              <a:latin typeface="Arial"/>
            </a:endParaRPr>
          </a:p>
          <a:p>
            <a:pPr marL="343080" indent="-343080" algn="just">
              <a:lnSpc>
                <a:spcPct val="80000"/>
              </a:lnSpc>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n the case of 'compensation gratuity, the service rendered before attaining the age of eighteen years will also count. </a:t>
            </a:r>
            <a:endParaRPr b="0" lang="en-US" sz="3200" spc="-1" strike="noStrike">
              <a:solidFill>
                <a:srgbClr val="000000"/>
              </a:solidFill>
              <a:latin typeface="Arial"/>
            </a:endParaRPr>
          </a:p>
          <a:p>
            <a:pPr marL="3430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2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9" name="Slide Number Placeholder 5"/>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2267-34C7-4F2E-A9E0-1EB745201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Qualifying Service and General Conditions</a:t>
            </a:r>
            <a:endParaRPr b="0" lang="en-US" sz="29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1.Qualifying service </a:t>
            </a:r>
            <a:r>
              <a:rPr b="0" lang="en-US" sz="3100" spc="-1" strike="noStrike">
                <a:solidFill>
                  <a:srgbClr val="000000"/>
                </a:solidFill>
                <a:latin typeface="Arial"/>
              </a:rPr>
              <a:t>of</a:t>
            </a:r>
            <a:r>
              <a:rPr b="1" lang="en-US" sz="3100" spc="-1" strike="noStrike">
                <a:solidFill>
                  <a:srgbClr val="000000"/>
                </a:solidFill>
                <a:latin typeface="Arial"/>
              </a:rPr>
              <a:t> </a:t>
            </a:r>
            <a:r>
              <a:rPr b="0" lang="en-US" sz="3100" spc="-1" strike="noStrike">
                <a:solidFill>
                  <a:srgbClr val="000000"/>
                </a:solidFill>
                <a:latin typeface="Arial"/>
              </a:rPr>
              <a:t>a Government servant commences from the date he takes charge of the post to which he is first appointed in a permanent capacity. </a:t>
            </a:r>
            <a:endParaRPr b="0" lang="en-US" sz="3100" spc="-1" strike="noStrike">
              <a:solidFill>
                <a:srgbClr val="000000"/>
              </a:solidFill>
              <a:latin typeface="Arial"/>
            </a:endParaRPr>
          </a:p>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Temporary service followed by confirmation without interruption will also qualify.</a:t>
            </a:r>
            <a:endParaRPr b="0" lang="en-US" sz="3100" spc="-1" strike="noStrike">
              <a:solidFill>
                <a:srgbClr val="000000"/>
              </a:solidFill>
              <a:latin typeface="Arial"/>
            </a:endParaRPr>
          </a:p>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P</cp:lastModifiedBy>
  <dcterms:modified xsi:type="dcterms:W3CDTF">2019-10-29T06:00:24Z</dcterms:modified>
  <cp:revision>60</cp:revision>
  <dc:subject/>
  <dc:title>PowerPoint Presentation</dc:title>
</cp:coreProperties>
</file>