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30760" y="0"/>
            <a:ext cx="29304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896400" y="746280"/>
            <a:ext cx="4967640" cy="37274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901440" y="4722480"/>
            <a:ext cx="495756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5680"/>
            <a:ext cx="293040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I, Nagpur</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30760" y="9445680"/>
            <a:ext cx="29304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B931F-4887-4F71-8B9B-D120C13330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6"/>
          <p:cNvSpPr/>
          <p:nvPr/>
        </p:nvSpPr>
        <p:spPr>
          <a:xfrm>
            <a:off x="0" y="9445680"/>
            <a:ext cx="2930400" cy="49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I, Nagpur</a:t>
            </a:r>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896760" y="746280"/>
            <a:ext cx="4967640" cy="3727440"/>
          </a:xfrm>
          <a:prstGeom prst="rect">
            <a:avLst/>
          </a:prstGeom>
          <a:ln w="0">
            <a:noFill/>
          </a:ln>
        </p:spPr>
      </p:sp>
      <p:sp>
        <p:nvSpPr>
          <p:cNvPr id="97" name="PlaceHolder 2"/>
          <p:cNvSpPr>
            <a:spLocks noGrp="1"/>
          </p:cNvSpPr>
          <p:nvPr>
            <p:ph type="body"/>
          </p:nvPr>
        </p:nvSpPr>
        <p:spPr>
          <a:xfrm>
            <a:off x="901440" y="4722480"/>
            <a:ext cx="495756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88358-1230-4743-913C-6A833F13A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6DCD4-00CE-4F2D-90E9-2894DDFE2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4B7A1-6C36-4272-8953-80DE84573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F6C49-5120-4B62-B75B-2ED074287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D86CA-9842-4312-88F4-C19B0A7E7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556B7-C514-4B11-BF7B-CAB4354C6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92A7C-DC00-42E1-9C1C-8DAB6567E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28C55-9AC0-4F18-9270-341EF16DF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E6251-AABB-4CC9-BF80-FCFCAE5CD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F8CFF-E505-40A3-9BD3-3E91AA5FD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84F14-223F-4649-AA2E-EAB6A9BDA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938F6-B994-4B9D-AB56-D7DF09A7C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BE42F-86FE-4B3D-BD83-96582F0EADBE}"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165320"/>
            <a:ext cx="8229600" cy="493056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In this session the participants would be familiarized with concepts of emerging trends in financial reporting in respect of State Government accounts which is generally in the form of CAGs Report on State Finances (SRF) Participants will also be familiarized with the structure of Finance Accounts which form the basis of SRF</a:t>
            </a:r>
            <a:endParaRPr b="0" lang="en-US" sz="36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p:txBody>
      </p:sp>
      <p:sp>
        <p:nvSpPr>
          <p:cNvPr id="4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Session Overview:</a:t>
            </a:r>
            <a:br>
              <a:rPr sz="3300"/>
            </a:br>
            <a:endParaRPr b="0" lang="en-US" sz="33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228240"/>
            <a:ext cx="7086600" cy="6094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800" spc="-1" strike="noStrike">
                <a:solidFill>
                  <a:srgbClr val="000000"/>
                </a:solidFill>
                <a:latin typeface="Calibri Light"/>
              </a:rPr>
              <a:t>Statements of Volume I continued</a:t>
            </a:r>
            <a:endParaRPr b="0" lang="en-US" sz="2800" spc="-1" strike="noStrike">
              <a:solidFill>
                <a:srgbClr val="000000"/>
              </a:solidFill>
              <a:latin typeface="Calibri Light"/>
            </a:endParaRPr>
          </a:p>
        </p:txBody>
      </p:sp>
      <p:sp>
        <p:nvSpPr>
          <p:cNvPr id="67" name=""/>
          <p:cNvSpPr txBox="1"/>
          <p:nvPr/>
        </p:nvSpPr>
        <p:spPr>
          <a:xfrm>
            <a:off x="662040" y="1066320"/>
            <a:ext cx="7772400" cy="49532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4. Statement of Expenditure (Consolidated Fund)</a:t>
            </a:r>
            <a:r>
              <a:rPr b="0" lang="en-IN" sz="2100" spc="-1" strike="noStrike">
                <a:solidFill>
                  <a:srgbClr val="000000"/>
                </a:solidFill>
                <a:latin typeface="Calibri"/>
              </a:rPr>
              <a:t>: In departure from the general</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depiction of the Finance Accounts up to the Minor Head level, this statement giv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details of expenditure by nature of activity (objects of expenditure) also. This statement</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corresponds to detailed statement 15, 16, 17 and 18 in Volume II.</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5. Statement of Progressive Capital Expenditure. </a:t>
            </a:r>
            <a:r>
              <a:rPr b="0" lang="en-IN" sz="2100" spc="-1" strike="noStrike">
                <a:solidFill>
                  <a:srgbClr val="000000"/>
                </a:solidFill>
                <a:latin typeface="Calibri"/>
              </a:rPr>
              <a:t>This statement corresponds to the detailed statement 16 in Volume II.</a:t>
            </a:r>
            <a:endParaRPr b="0" lang="en-US" sz="21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6256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800" spc="-1" strike="noStrike">
                <a:solidFill>
                  <a:srgbClr val="000000"/>
                </a:solidFill>
                <a:latin typeface="Calibri Light"/>
              </a:rPr>
              <a:t>Statements of Volume I</a:t>
            </a:r>
            <a:endParaRPr b="0" lang="en-US" sz="2800" spc="-1" strike="noStrike">
              <a:solidFill>
                <a:srgbClr val="000000"/>
              </a:solidFill>
              <a:latin typeface="Calibri Light"/>
            </a:endParaRPr>
          </a:p>
        </p:txBody>
      </p:sp>
      <p:sp>
        <p:nvSpPr>
          <p:cNvPr id="69" name=""/>
          <p:cNvSpPr txBox="1"/>
          <p:nvPr/>
        </p:nvSpPr>
        <p:spPr>
          <a:xfrm>
            <a:off x="628560" y="1066320"/>
            <a:ext cx="7886880" cy="541044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6. Statement of Borrowings and Other Liabilities</a:t>
            </a:r>
            <a:r>
              <a:rPr b="0" lang="en-IN" sz="2100" spc="-1" strike="noStrike">
                <a:solidFill>
                  <a:srgbClr val="000000"/>
                </a:solidFill>
                <a:latin typeface="Calibri"/>
              </a:rPr>
              <a:t>: Borrowings of the Government comprise market loans raised by it (Internal Debt) and Loans and Advances received from the Government of India. ‘Other Liabilities’ comprise ‘Small Savings, Provident Funds etc.’, ‘Reserve Funds’ and ‘Deposits’. The statement also contains a note on service of debt, and corresponds to the detailed Statement 17 in Volume II.</a:t>
            </a:r>
            <a:endParaRPr b="0" lang="en-US" sz="21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7. Statement of Loans and Advances given by the Government</a:t>
            </a:r>
            <a:r>
              <a:rPr b="0" lang="en-IN" sz="2100" spc="-1" strike="noStrike">
                <a:solidFill>
                  <a:srgbClr val="000000"/>
                </a:solidFill>
                <a:latin typeface="Calibri"/>
              </a:rPr>
              <a:t>: This statement depicts all loans and advances given by the State Government to various categories of loanees like Statutory Corporations, Government Companies, Autonomous and Other Bodies/ Authorities and recipient individuals (including Government servants). This statement corresponds to the detailed statement 18 in Volume II.</a:t>
            </a:r>
            <a:endParaRPr b="0" lang="en-US" sz="21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920"/>
            <a:ext cx="7772400" cy="91440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4000" spc="-1" strike="noStrike">
                <a:solidFill>
                  <a:srgbClr val="000000"/>
                </a:solidFill>
                <a:latin typeface="Calibri Light"/>
              </a:rPr>
              <a:t>Statements of Volume I</a:t>
            </a:r>
            <a:endParaRPr b="0" lang="en-US" sz="4000" spc="-1" strike="noStrike">
              <a:solidFill>
                <a:srgbClr val="000000"/>
              </a:solidFill>
              <a:latin typeface="Calibri Light"/>
            </a:endParaRPr>
          </a:p>
        </p:txBody>
      </p:sp>
      <p:sp>
        <p:nvSpPr>
          <p:cNvPr id="71" name="PlaceHolder 2"/>
          <p:cNvSpPr>
            <a:spLocks noGrp="1"/>
          </p:cNvSpPr>
          <p:nvPr>
            <p:ph type="subTitle"/>
          </p:nvPr>
        </p:nvSpPr>
        <p:spPr>
          <a:xfrm>
            <a:off x="647640" y="1371240"/>
            <a:ext cx="7848720" cy="4838760"/>
          </a:xfrm>
          <a:prstGeom prst="rect">
            <a:avLst/>
          </a:prstGeom>
          <a:noFill/>
          <a:ln w="0">
            <a:noFill/>
          </a:ln>
        </p:spPr>
        <p:txBody>
          <a:bodyPr anchor="t">
            <a:noAutofit/>
          </a:bodyPr>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1800" spc="-1" strike="noStrike">
                <a:solidFill>
                  <a:srgbClr val="000000"/>
                </a:solidFill>
                <a:latin typeface="Calibri"/>
              </a:rPr>
              <a:t>8. Statement of Investments of the Government: </a:t>
            </a:r>
            <a:r>
              <a:rPr b="0" lang="en-IN" sz="1800" spc="-1" strike="noStrike">
                <a:solidFill>
                  <a:srgbClr val="000000"/>
                </a:solidFill>
                <a:latin typeface="Calibri"/>
              </a:rPr>
              <a:t>This statement depicts investments of the State Government in the equity capital of Statutory Corporations, Government Companies, other Joint Stock Companies, Cooperative institutions and Local Bodies. This statement corresponds to the detailed statement 19 in Volume II.</a:t>
            </a:r>
            <a:endParaRPr b="0" lang="en-US" sz="18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1800" spc="-1" strike="noStrike">
                <a:solidFill>
                  <a:srgbClr val="000000"/>
                </a:solidFill>
                <a:latin typeface="Calibri"/>
              </a:rPr>
              <a:t>9. Statement of Guarantees given by the Government</a:t>
            </a:r>
            <a:r>
              <a:rPr b="0" lang="en-IN" sz="1800" spc="-1" strike="noStrike">
                <a:solidFill>
                  <a:srgbClr val="000000"/>
                </a:solidFill>
                <a:latin typeface="Calibri"/>
              </a:rPr>
              <a:t>: This statement summarises the guarantees given by the State Government on repayment of principal and interest on loans raised by Statutory Corporations, Government Companies, Local Bodies and Other institutions. This statement corresponds to the detailed statement 20 in Part II.</a:t>
            </a:r>
            <a:endParaRPr b="0" lang="en-US" sz="18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1800" spc="-1" strike="noStrike">
                <a:solidFill>
                  <a:srgbClr val="000000"/>
                </a:solidFill>
                <a:latin typeface="Calibri"/>
              </a:rPr>
              <a:t>10. Statement of Grants in Aid given by the Government: </a:t>
            </a:r>
            <a:r>
              <a:rPr b="0" lang="en-IN" sz="1800" spc="-1" strike="noStrike">
                <a:solidFill>
                  <a:srgbClr val="000000"/>
                </a:solidFill>
                <a:latin typeface="Calibri"/>
              </a:rPr>
              <a:t>This statement depicts all Grants in in Aid given by the State Government to various categories of grantees like Statutory Corporations, Government Companies, Autonomous and Other Bodies/Authorities and individuals. Appendix III provides details of the recipient institutions.</a:t>
            </a:r>
            <a:endParaRPr b="0" lang="en-US" sz="18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indent="0" algn="just">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4680"/>
            <a:ext cx="7886880" cy="854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3600" spc="-1" strike="noStrike">
                <a:solidFill>
                  <a:srgbClr val="000000"/>
                </a:solidFill>
                <a:latin typeface="Calibri Light"/>
              </a:rPr>
              <a:t>Statements of Volume I</a:t>
            </a:r>
            <a:endParaRPr b="0" lang="en-US" sz="3600" spc="-1" strike="noStrike">
              <a:solidFill>
                <a:srgbClr val="000000"/>
              </a:solidFill>
              <a:latin typeface="Calibri Light"/>
            </a:endParaRPr>
          </a:p>
        </p:txBody>
      </p:sp>
      <p:sp>
        <p:nvSpPr>
          <p:cNvPr id="73" name=""/>
          <p:cNvSpPr txBox="1"/>
          <p:nvPr/>
        </p:nvSpPr>
        <p:spPr>
          <a:xfrm>
            <a:off x="628560" y="1218960"/>
            <a:ext cx="7886880" cy="518148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11. Statement of Voted and Charged Expenditure: </a:t>
            </a:r>
            <a:r>
              <a:rPr b="0" lang="en-IN" sz="2100" spc="-1" strike="noStrike">
                <a:solidFill>
                  <a:srgbClr val="000000"/>
                </a:solidFill>
                <a:latin typeface="Calibri"/>
              </a:rPr>
              <a:t>This statement assists in the agreement of the net figures appearing in the Finance Accounts with the gross figures appearing in the Appropriation Accounts.</a:t>
            </a:r>
            <a:endParaRPr b="0" lang="en-US" sz="21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12. Statement on Sources and Application of Funds for Expenditure other than on Revenue Account</a:t>
            </a:r>
            <a:r>
              <a:rPr b="0" lang="en-IN" sz="2100" spc="-1" strike="noStrike">
                <a:solidFill>
                  <a:srgbClr val="000000"/>
                </a:solidFill>
                <a:latin typeface="Calibri"/>
              </a:rPr>
              <a:t>: This statement is based on the principle that revenue expenditure is expected to be defrayed from revenue receipts, while capital expenditure of the year is met from revenue surplus, net credit balances in the public account, cash balance at the beginning of the year, and borrowings.</a:t>
            </a:r>
            <a:endParaRPr b="0" lang="en-US" sz="21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13. Summary of balances under Consolidated Fund, Contingency Fund and Public Account: </a:t>
            </a:r>
            <a:r>
              <a:rPr b="0" lang="en-IN" sz="2100" spc="-1" strike="noStrike">
                <a:solidFill>
                  <a:srgbClr val="000000"/>
                </a:solidFill>
                <a:latin typeface="Calibri"/>
              </a:rPr>
              <a:t>This statement assists in proving the accuracy of the accounts. The statement corresponds to the detailed statement 14, 15, 16, 17, 18 and 21 in Volume II.</a:t>
            </a:r>
            <a:endParaRPr b="0" lang="en-US" sz="21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3300" spc="-1" strike="noStrike">
                <a:solidFill>
                  <a:srgbClr val="000000"/>
                </a:solidFill>
                <a:latin typeface="Calibri Light"/>
              </a:rPr>
              <a:t>Volume II (Part I)</a:t>
            </a:r>
            <a:endParaRPr b="0" lang="en-US" sz="3300" spc="-1" strike="noStrike">
              <a:solidFill>
                <a:srgbClr val="000000"/>
              </a:solidFill>
              <a:latin typeface="Calibri Light"/>
            </a:endParaRPr>
          </a:p>
        </p:txBody>
      </p:sp>
      <p:sp>
        <p:nvSpPr>
          <p:cNvPr id="7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14. Detailed Statement of Revenue and Capital Receipts by Minor Heads: </a:t>
            </a:r>
            <a:r>
              <a:rPr b="0" lang="en-IN" sz="2100" spc="-1" strike="noStrike">
                <a:solidFill>
                  <a:srgbClr val="000000"/>
                </a:solidFill>
                <a:latin typeface="Calibri"/>
              </a:rPr>
              <a:t>This statement corresponds to the summary statement 3 in Volume I of the Finance Accoun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15. Detailed Statement of Revenue Expenditure by Minor Heads</a:t>
            </a:r>
            <a:r>
              <a:rPr b="0" lang="en-IN" sz="2100" spc="-1" strike="noStrike">
                <a:solidFill>
                  <a:srgbClr val="000000"/>
                </a:solidFill>
                <a:latin typeface="Calibri"/>
              </a:rPr>
              <a:t>: This statement, which corresponds to the summary statement 4 in Volume 1, depicts the revenue expenditure of the State Government under Plan (State Plan, Central Assistance to State Plan, Centrally Sponsored Schemes and Central Plan Schemes) and Non Plan. Charged and Voted expenditure are exhibited distinctly.</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3300" spc="-1" strike="noStrike">
                <a:solidFill>
                  <a:srgbClr val="000000"/>
                </a:solidFill>
                <a:latin typeface="Calibri Light"/>
              </a:rPr>
              <a:t>Volume II (Part I) Contd.</a:t>
            </a:r>
            <a:endParaRPr b="0" lang="en-US" sz="3300" spc="-1" strike="noStrike">
              <a:solidFill>
                <a:srgbClr val="000000"/>
              </a:solidFill>
              <a:latin typeface="Calibri Light"/>
            </a:endParaRPr>
          </a:p>
        </p:txBody>
      </p:sp>
      <p:sp>
        <p:nvSpPr>
          <p:cNvPr id="7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16. Detailed Statement of Capital Expenditure by Minor Heads and Subheads: </a:t>
            </a:r>
            <a:r>
              <a:rPr b="0" lang="en-IN" sz="2100" spc="-1" strike="noStrike">
                <a:solidFill>
                  <a:srgbClr val="000000"/>
                </a:solidFill>
                <a:latin typeface="Calibri"/>
              </a:rPr>
              <a:t>This statement, which corresponds to the summary statement 5 in Volume I, depicts the capital expenditure (during the year and cumulatively) of the State Government under Plan (State Plan, Centrally Sponsored Schemes and Central Plan Schemes) and Non Plan. Charged and Voted expenditure are exhibited distinctly. In addition to representing details of capital expenditure at Minor Head level, in respect of significant schemes, this statement depicts details at Subhead levels also.</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17. Detailed Statement of Borrowings and Other Liabilities</a:t>
            </a:r>
            <a:r>
              <a:rPr b="0" lang="en-IN" sz="2100" spc="-1" strike="noStrike">
                <a:solidFill>
                  <a:srgbClr val="000000"/>
                </a:solidFill>
                <a:latin typeface="Calibri"/>
              </a:rPr>
              <a:t>: This statement, which corresponds to the summary statement 6 in Volume I, contains details of all loans raised by the State Government and Ways and Means advances extended by the Reserve Bank of India.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Statement presents the information on loans under three categories: (a) details of individual loans; (b) maturity profile, i.e., amounts payable in respect of each category of loans in different years; and (c) interest rate profile of outstanding loans and annexure depicting Market Loan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18. Detailed Statement on Loans and Advances given by the Government</a:t>
            </a:r>
            <a:r>
              <a:rPr b="0" lang="en-IN" sz="2100" spc="-1" strike="noStrike">
                <a:solidFill>
                  <a:srgbClr val="000000"/>
                </a:solidFill>
                <a:latin typeface="Calibri"/>
              </a:rPr>
              <a:t>: This statement corresponds to the summary statement 7 in Volume I.</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19. Detailed Statement of Investments: </a:t>
            </a:r>
            <a:r>
              <a:rPr b="0" lang="en-IN" sz="2100" spc="-1" strike="noStrike">
                <a:solidFill>
                  <a:srgbClr val="000000"/>
                </a:solidFill>
                <a:latin typeface="Calibri"/>
              </a:rPr>
              <a:t>This statement depicts details of investments entity wise and Major and Minor Head wise details of discrepancies, if any, between Statements 16 and 19. This statement corresponds to Statement 8 in Volume I.</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20. Detailed Statement of Guarantees given by the Government: </a:t>
            </a:r>
            <a:r>
              <a:rPr b="0" lang="en-IN" sz="2100" spc="-1" strike="noStrike">
                <a:solidFill>
                  <a:srgbClr val="000000"/>
                </a:solidFill>
                <a:latin typeface="Calibri"/>
              </a:rPr>
              <a:t>This statement depicts entity wise details of government guarantees. This statement corresponds to Statement 9 in Volume I.</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21. Detailed Statement on Contingency Fund and Other Public Account transaction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This statement depicts at Minor Head level the details of un-recouped amounts under Contingency Fund, consolidated position of Public Accounts transactions during the year,and outstanding balances at the end of the yea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3600" spc="-1" strike="noStrike">
                <a:solidFill>
                  <a:srgbClr val="000000"/>
                </a:solidFill>
                <a:latin typeface="Calibri"/>
              </a:rPr>
              <a:t>22. Detailed Statement on Investment of Earmarked Balances</a:t>
            </a:r>
            <a:r>
              <a:rPr b="0" lang="en-IN" sz="3600" spc="-1" strike="noStrike">
                <a:solidFill>
                  <a:srgbClr val="000000"/>
                </a:solidFill>
                <a:latin typeface="Calibri"/>
              </a:rPr>
              <a:t>:</a:t>
            </a:r>
            <a:endParaRPr b="0" lang="en-US" sz="36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3600" spc="-1" strike="noStrike">
                <a:solidFill>
                  <a:srgbClr val="000000"/>
                </a:solidFill>
                <a:latin typeface="Calibri"/>
              </a:rPr>
              <a:t> </a:t>
            </a:r>
            <a:r>
              <a:rPr b="0" lang="en-IN" sz="3600" spc="-1" strike="noStrike">
                <a:solidFill>
                  <a:srgbClr val="000000"/>
                </a:solidFill>
                <a:latin typeface="Calibri"/>
              </a:rPr>
              <a:t>This statement depicts details of investments from the Reserve Funds and Deposits (Public Account).</a:t>
            </a:r>
            <a:endParaRPr b="0" lang="en-US" sz="36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3300" spc="-1" strike="noStrike">
                <a:solidFill>
                  <a:srgbClr val="000000"/>
                </a:solidFill>
                <a:latin typeface="Calibri Light"/>
              </a:rPr>
              <a:t>Part II of Volume II</a:t>
            </a:r>
            <a:br>
              <a:rPr sz="3300"/>
            </a:br>
            <a:endParaRPr b="0" lang="en-US" sz="3300" spc="-1" strike="noStrike">
              <a:solidFill>
                <a:srgbClr val="000000"/>
              </a:solidFill>
              <a:latin typeface="Calibri Light"/>
            </a:endParaRPr>
          </a:p>
        </p:txBody>
      </p:sp>
      <p:sp>
        <p:nvSpPr>
          <p:cNvPr id="8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Part II contains twelve appendices </a:t>
            </a:r>
            <a:r>
              <a:rPr b="0" lang="en-IN" sz="2100" spc="-1" strike="noStrike">
                <a:solidFill>
                  <a:srgbClr val="000000"/>
                </a:solidFill>
                <a:latin typeface="Calibri"/>
              </a:rPr>
              <a:t>on various items including salaries, subsidies, grants-in-aid, externally aided projects, scheme wise expenditure in respect of major Central schemes and State Plan schemes, etc. These details are presented in the accounts at Sub head level or below (i.e. below Minor Head levels) and so are not generally depicted in the Finance accounts. A detailed list of appendices appears at the ‘Table of Contents’ in Volume I or II.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Ready Reckoner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The statements read with the appendices give a complete picture of the state of finances of the State Government.</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Leaning Objective:- </a:t>
            </a:r>
            <a:endParaRPr b="0" lang="en-US" sz="3300" spc="-1" strike="noStrike">
              <a:solidFill>
                <a:srgbClr val="000000"/>
              </a:solidFill>
              <a:latin typeface="Calibri Light"/>
            </a:endParaRPr>
          </a:p>
        </p:txBody>
      </p:sp>
      <p:sp>
        <p:nvSpPr>
          <p:cNvPr id="51" name=""/>
          <p:cNvSpPr txBox="1"/>
          <p:nvPr/>
        </p:nvSpPr>
        <p:spPr>
          <a:xfrm>
            <a:off x="628560" y="1825200"/>
            <a:ext cx="7886880" cy="43513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By the end of session </a:t>
            </a:r>
            <a:endParaRPr b="0" lang="en-US" sz="28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rPr>
              <a:t>The participants will be able to acquire knowledge of basic concepts of contents of CAGs Report on State Finances and also with the structure of Finance Accounts which form the basis of SRF</a:t>
            </a:r>
            <a:endParaRPr b="0" lang="en-US" sz="32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rPr>
              <a:t> </a:t>
            </a:r>
            <a:r>
              <a:rPr b="0" lang="en-US" sz="3200" spc="-1" strike="noStrike">
                <a:solidFill>
                  <a:srgbClr val="000000"/>
                </a:solidFill>
                <a:latin typeface="Calibri"/>
              </a:rPr>
              <a:t>The report is an emerging trend which reflects over all financial health of respective States</a:t>
            </a:r>
            <a:endParaRPr b="0" lang="en-US" sz="32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 </a:t>
            </a:r>
            <a:r>
              <a:rPr b="1" lang="en-IN" sz="2100" spc="-1" strike="noStrike">
                <a:solidFill>
                  <a:srgbClr val="000000"/>
                </a:solidFill>
                <a:latin typeface="Calibri"/>
              </a:rPr>
              <a:t>Periodical adjustments and Book adjustment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Certain transactions that appear in the accounts do not involve actual movement of cash at the time of booking. Some of these transactions take place at the level of the account rendering units (e.g. treasuries, divisions etc.) themselves. For instance, transactions involving adjustment of all deductions (GPF, recoveries of advances given etc.) from salaries are recorded by debiting functional major heads (pertaining to the concerned department) by book adjustment to revenue receipt/loans/public account.</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 ‘</a:t>
            </a:r>
            <a:r>
              <a:rPr b="0" lang="en-IN" sz="2100" spc="-1" strike="noStrike">
                <a:solidFill>
                  <a:srgbClr val="000000"/>
                </a:solidFill>
                <a:latin typeface="Calibri"/>
              </a:rPr>
              <a:t>nil’ bills where moneys transferred between the Consolidated Fund and Public Account represent non-cash transactions occurring at the level of the accounts rendering unit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In addition of the above the Principal Accountant  General /Accountant General (A&amp;E) carries out periodical adjustments and book adjustments of the following nature in the accounts of the State Government, details of which appear in Annexure to Notes to Accounts (Volume I) and footnotes to the relevant statemen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Examples of periodical adjustments and book adjustmen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1) Creation of funds/ adjustment of contribution to Funds in Public Account by debit to Consolidated Fund e.g., State Disaster Response Fund, Central Road Fund, Reserve Funds,Sinking Fund, etc.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2) Crediting of deposit heads of accounts in Public Account by debit to Consolidated Fund.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1" name=""/>
          <p:cNvSpPr txBox="1"/>
          <p:nvPr/>
        </p:nvSpPr>
        <p:spPr>
          <a:xfrm>
            <a:off x="628560" y="1825200"/>
            <a:ext cx="7886880" cy="45752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3) Annual adjustment of interest on General Provident Fund (GPF) and Stat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Government Group Insurance Scheme where interest is adjusted by debiting Major Head 2049-Interest and crediting Major Head 8009-State Provident Fund and Major Head 8011-Insurance and Pension Fund.</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4) Adjustment of Debt waiver under the scheme of Government of India based on the recommendations of the Central Finance Commissions. These adjustments (where Central loans are written off by crediting Major Head 0075-Misc. General Services by contra entry in the Major Head 6004-Loans and Advances from the Central Government) impact both Revenu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Receipts and Public Debt head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pic>
        <p:nvPicPr>
          <p:cNvPr id="93" name="" descr=""/>
          <p:cNvPicPr/>
          <p:nvPr/>
        </p:nvPicPr>
        <p:blipFill>
          <a:blip r:embed="rId1"/>
          <a:stretch/>
        </p:blipFill>
        <p:spPr>
          <a:xfrm>
            <a:off x="628560" y="1825200"/>
            <a:ext cx="7886880" cy="4351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28560" y="1825200"/>
            <a:ext cx="7886880" cy="43513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8800" spc="-1" strike="noStrike">
                <a:solidFill>
                  <a:srgbClr val="000000"/>
                </a:solidFill>
                <a:latin typeface="Calibri"/>
              </a:rPr>
              <a:t>THANK YOU</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3300" spc="-1" strike="noStrike">
                <a:solidFill>
                  <a:srgbClr val="000000"/>
                </a:solidFill>
                <a:latin typeface="Calibri Light"/>
              </a:rPr>
              <a:t>Introduction:</a:t>
            </a:r>
            <a:r>
              <a:rPr b="0" lang="en-IN" sz="3300" spc="-1" strike="noStrike">
                <a:solidFill>
                  <a:srgbClr val="000000"/>
                </a:solidFill>
                <a:latin typeface="Calibri Light"/>
              </a:rPr>
              <a:t> -</a:t>
            </a:r>
            <a:br>
              <a:rPr sz="3300"/>
            </a:br>
            <a:endParaRPr b="0" lang="en-US" sz="3300" spc="-1" strike="noStrike">
              <a:solidFill>
                <a:srgbClr val="000000"/>
              </a:solidFill>
              <a:latin typeface="Calibri Light"/>
            </a:endParaRPr>
          </a:p>
        </p:txBody>
      </p:sp>
      <p:sp>
        <p:nvSpPr>
          <p:cNvPr id="53" name=""/>
          <p:cNvSpPr txBox="1"/>
          <p:nvPr/>
        </p:nvSpPr>
        <p:spPr>
          <a:xfrm>
            <a:off x="628560" y="1371600"/>
            <a:ext cx="7886880" cy="48052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As per the provisions of Chapter 5 of the Regulations on Audit and Accounts 2007 Audit of the Annual Accounts of the Government (Central/State) is required to be carried out and the position Finances of the Government and its management will be presented to President/Governor as the case may be, for being placed before the appropriate Legislature.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Effective from for the year ending March 2009, a stand-alone report comprising of 3 chapters ie I) Finances of the State Government, ii) Financial Management and Budgetary control and iii) Financial Reporting is being prepared for submission to Legislature</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4500" spc="-1" strike="noStrike">
                <a:solidFill>
                  <a:srgbClr val="000000"/>
                </a:solidFill>
                <a:latin typeface="Calibri Light"/>
              </a:rPr>
              <a:t>Introduction:</a:t>
            </a:r>
            <a:r>
              <a:rPr b="0" lang="en-IN" sz="4500" spc="-1" strike="noStrike">
                <a:solidFill>
                  <a:srgbClr val="000000"/>
                </a:solidFill>
                <a:latin typeface="Calibri Light"/>
              </a:rPr>
              <a:t> -</a:t>
            </a:r>
            <a:endParaRPr b="0" lang="en-US" sz="4500" spc="-1" strike="noStrike">
              <a:solidFill>
                <a:srgbClr val="000000"/>
              </a:solidFill>
              <a:latin typeface="Calibri Light"/>
            </a:endParaRPr>
          </a:p>
        </p:txBody>
      </p:sp>
      <p:sp>
        <p:nvSpPr>
          <p:cNvPr id="55" name="PlaceHolder 2"/>
          <p:cNvSpPr>
            <a:spLocks noGrp="1"/>
          </p:cNvSpPr>
          <p:nvPr>
            <p:ph type="subTitle"/>
          </p:nvPr>
        </p:nvSpPr>
        <p:spPr>
          <a:xfrm>
            <a:off x="609480" y="1752480"/>
            <a:ext cx="7925040" cy="4648320"/>
          </a:xfrm>
          <a:prstGeom prst="rect">
            <a:avLst/>
          </a:prstGeom>
          <a:noFill/>
          <a:ln w="0">
            <a:noFill/>
          </a:ln>
        </p:spPr>
        <p:txBody>
          <a:bodyPr anchor="t">
            <a:noAutofit/>
          </a:bodyPr>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Report on the finances of the Government is brought out to assess the financial performance of the State during a year </a:t>
            </a:r>
            <a:r>
              <a:rPr b="0" i="1" lang="en-US" sz="2000" spc="-1" strike="noStrike">
                <a:solidFill>
                  <a:srgbClr val="000000"/>
                </a:solidFill>
                <a:latin typeface="Calibri"/>
              </a:rPr>
              <a:t>vis-à-vis </a:t>
            </a:r>
            <a:r>
              <a:rPr b="0" lang="en-US" sz="2000" spc="-1" strike="noStrike">
                <a:solidFill>
                  <a:srgbClr val="000000"/>
                </a:solidFill>
                <a:latin typeface="Calibri"/>
              </a:rPr>
              <a:t>the Budget Estimates and the targets set under the Fiscal Responsibility and Budget Management Act and to provide the State Government and State Legislature with timely inputs based audit analysis of financial data. The report analyses the dominant trends and structural profile of Government’s receipts and disbursements.</a:t>
            </a:r>
            <a:endParaRPr b="0" lang="en-US" sz="20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Report is based on the audited accounts (Finance/ Appropriation) of the State Government for the year and additional data such as the Economic Survey brought out by the State government and Census. This report provides an analytical review in three Chapters.</a:t>
            </a:r>
            <a:endParaRPr b="0" lang="en-US" sz="20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500" spc="-1" strike="noStrike">
              <a:solidFill>
                <a:srgbClr val="000000"/>
              </a:solidFill>
              <a:latin typeface="Calibri Light"/>
            </a:endParaRPr>
          </a:p>
        </p:txBody>
      </p:sp>
      <p:sp>
        <p:nvSpPr>
          <p:cNvPr id="57" name="PlaceHolder 2"/>
          <p:cNvSpPr>
            <a:spLocks noGrp="1"/>
          </p:cNvSpPr>
          <p:nvPr>
            <p:ph type="subTitle"/>
          </p:nvPr>
        </p:nvSpPr>
        <p:spPr>
          <a:xfrm>
            <a:off x="762120" y="1599840"/>
            <a:ext cx="7696080" cy="4724280"/>
          </a:xfrm>
          <a:prstGeom prst="rect">
            <a:avLst/>
          </a:prstGeom>
          <a:noFill/>
          <a:ln w="0">
            <a:noFill/>
          </a:ln>
        </p:spPr>
        <p:txBody>
          <a:bodyPr anchor="t">
            <a:noAutofit/>
          </a:bodyPr>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a:rPr>
              <a:t>Chapter-1:- </a:t>
            </a:r>
            <a:r>
              <a:rPr b="0" lang="en-US" sz="3200" spc="-1" strike="noStrike">
                <a:solidFill>
                  <a:srgbClr val="000000"/>
                </a:solidFill>
                <a:latin typeface="Calibri"/>
              </a:rPr>
              <a:t>Based on the Finance Accounts and makes an assessment of Government’s fiscal position as on 31 March of the year. It provides an insight into trends and profile of key fiscal aggregates, committed expenditure, borrowing pattern, besides a brief account of central funds transferred directly to State implementing agencies through Off Budget route.</a:t>
            </a:r>
            <a:endParaRPr b="0" lang="en-US" sz="32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2282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IN" sz="2800" spc="-1" strike="noStrike">
              <a:solidFill>
                <a:srgbClr val="000000"/>
              </a:solidFill>
              <a:latin typeface="Calibri Light"/>
            </a:endParaRPr>
          </a:p>
        </p:txBody>
      </p:sp>
      <p:sp>
        <p:nvSpPr>
          <p:cNvPr id="59" name=""/>
          <p:cNvSpPr txBox="1"/>
          <p:nvPr/>
        </p:nvSpPr>
        <p:spPr>
          <a:xfrm>
            <a:off x="662040" y="1600200"/>
            <a:ext cx="7772400" cy="4952880"/>
          </a:xfrm>
          <a:prstGeom prst="rect">
            <a:avLst/>
          </a:prstGeom>
          <a:noFill/>
          <a:ln w="0">
            <a:noFill/>
          </a:ln>
        </p:spPr>
        <p:txBody>
          <a:bodyPr anchor="t">
            <a:normAutofit fontScale="98000"/>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Chapter-2:- </a:t>
            </a:r>
            <a:r>
              <a:rPr b="0" lang="en-US" sz="4000" spc="-1" strike="noStrike">
                <a:solidFill>
                  <a:srgbClr val="000000"/>
                </a:solidFill>
                <a:latin typeface="Calibri"/>
              </a:rPr>
              <a:t>Based on Appropriation Accounts and gives grant-wise description of appropriations and the manner in which the allocated resources were managed by the service delivery departments. Comments arising out of inspection of treasuries are also made in the chapter.</a:t>
            </a:r>
            <a:endParaRPr b="0" lang="en-US" sz="4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228240"/>
            <a:ext cx="8153640" cy="60948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IN" sz="2800" spc="-1" strike="noStrike">
              <a:solidFill>
                <a:srgbClr val="000000"/>
              </a:solidFill>
              <a:latin typeface="Calibri Light"/>
            </a:endParaRPr>
          </a:p>
        </p:txBody>
      </p:sp>
      <p:sp>
        <p:nvSpPr>
          <p:cNvPr id="61" name=""/>
          <p:cNvSpPr txBox="1"/>
          <p:nvPr/>
        </p:nvSpPr>
        <p:spPr>
          <a:xfrm>
            <a:off x="837720" y="1143000"/>
            <a:ext cx="7596360" cy="502920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a:rPr>
              <a:t>Chapter-3:- </a:t>
            </a:r>
            <a:r>
              <a:rPr b="0" lang="en-US" sz="3600" spc="-1" strike="noStrike">
                <a:solidFill>
                  <a:srgbClr val="000000"/>
                </a:solidFill>
                <a:latin typeface="Calibri"/>
              </a:rPr>
              <a:t>is an inventory of Government’s compliance with various reporting requirements and financial rules.</a:t>
            </a:r>
            <a:endParaRPr b="0" lang="en-US" sz="36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Before we discuss the chapters in detail, we are required to know the Structure of Finance Accounts.</a:t>
            </a:r>
            <a:endParaRPr b="0" lang="en-US" sz="36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100"/>
            </a:br>
            <a:br>
              <a:rPr sz="2100"/>
            </a:b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904760" y="228600"/>
            <a:ext cx="7086600" cy="838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3300" spc="-1" strike="noStrike">
                <a:solidFill>
                  <a:srgbClr val="000000"/>
                </a:solidFill>
                <a:latin typeface="Calibri Light"/>
              </a:rPr>
              <a:t>Structure of Finance Accounts</a:t>
            </a:r>
            <a:endParaRPr b="0" lang="en-US" sz="3300" spc="-1" strike="noStrike">
              <a:solidFill>
                <a:srgbClr val="000000"/>
              </a:solidFill>
              <a:latin typeface="Calibri Light"/>
            </a:endParaRPr>
          </a:p>
        </p:txBody>
      </p:sp>
      <p:sp>
        <p:nvSpPr>
          <p:cNvPr id="63" name=""/>
          <p:cNvSpPr txBox="1"/>
          <p:nvPr/>
        </p:nvSpPr>
        <p:spPr>
          <a:xfrm>
            <a:off x="662040" y="1066320"/>
            <a:ext cx="7772400" cy="49532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Finance Accounts are presented in two volume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400" spc="-1" strike="noStrike">
                <a:solidFill>
                  <a:srgbClr val="000000"/>
                </a:solidFill>
                <a:latin typeface="Calibri"/>
              </a:rPr>
              <a:t>Volume I</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contains the Certificate of the Comptroller and Auditor General of India, the Guide to the Finance Accounts, 13 statements which give summarised information on the financial position and transactions of the State Government for the current financial year, Notes to Accounts and annexure to the Notes to Accounts.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400" spc="-1" strike="noStrike">
                <a:solidFill>
                  <a:srgbClr val="000000"/>
                </a:solidFill>
                <a:latin typeface="Calibri"/>
              </a:rPr>
              <a:t>Volume II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contains two parts-nine detailed statement in Part I and twelve Appendices in Part II.</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347480" y="304920"/>
            <a:ext cx="7086600" cy="4572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3000" spc="-1" strike="noStrike">
                <a:solidFill>
                  <a:srgbClr val="000000"/>
                </a:solidFill>
                <a:latin typeface="Calibri Light"/>
              </a:rPr>
              <a:t>Statements of Volume I</a:t>
            </a:r>
            <a:endParaRPr b="0" lang="en-US" sz="3000" spc="-1" strike="noStrike">
              <a:solidFill>
                <a:srgbClr val="000000"/>
              </a:solidFill>
              <a:latin typeface="Calibri Light"/>
            </a:endParaRPr>
          </a:p>
        </p:txBody>
      </p:sp>
      <p:sp>
        <p:nvSpPr>
          <p:cNvPr id="65" name=""/>
          <p:cNvSpPr txBox="1"/>
          <p:nvPr/>
        </p:nvSpPr>
        <p:spPr>
          <a:xfrm>
            <a:off x="662040" y="990360"/>
            <a:ext cx="7772400" cy="5257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1. Statement of Financial Position</a:t>
            </a:r>
            <a:r>
              <a:rPr b="0" lang="en-IN" sz="2100" spc="-1" strike="noStrike">
                <a:solidFill>
                  <a:srgbClr val="000000"/>
                </a:solidFill>
                <a:latin typeface="Calibri"/>
              </a:rPr>
              <a:t>: This statement depicts the cumulative figures of assets and liabilities of the State Government, as they stand at the end of the year, and as compared to the position at the end of the previous yea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2. Statement of Receipts and Disbursements</a:t>
            </a:r>
            <a:r>
              <a:rPr b="0" lang="en-IN" sz="2100" spc="-1" strike="noStrike">
                <a:solidFill>
                  <a:srgbClr val="000000"/>
                </a:solidFill>
                <a:latin typeface="Calibri"/>
              </a:rPr>
              <a:t>: This statement depicts all receipts and disbursements of the State Government during the year in all the three parts in which Government accounts are kept, viz., the Consolidated Fund, Contingency Fund and Public Account. In addition, it contains an annexure, showing alternative depiction of Cash Balances (including investments) of the Government. The Annexure also depicts the Ways and Means position of the Government in detail.</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3. Statement of Receipts (Consolidated Fund)</a:t>
            </a:r>
            <a:r>
              <a:rPr b="0" lang="en-IN" sz="2100" spc="-1" strike="noStrike">
                <a:solidFill>
                  <a:srgbClr val="000000"/>
                </a:solidFill>
                <a:latin typeface="Calibri"/>
              </a:rPr>
              <a:t>: This statement comprises revenue and capital receipts and borrowings and repayment of loans given by the State Government. This statement corresponds to detailed statements 14, 17 and 18 in Volume II of the Finance Accoun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15:29:29Z</dcterms:created>
  <dc:creator>a g officejammu</dc:creator>
  <dc:description/>
  <dc:language>en-US</dc:language>
  <cp:lastModifiedBy>Hewlett-Packard Company</cp:lastModifiedBy>
  <dcterms:modified xsi:type="dcterms:W3CDTF">2019-01-21T09:48:28Z</dcterms:modified>
  <cp:revision>59</cp:revision>
  <dc:subject/>
  <dc:title>Duties and Powers of the Comptroller and Auditor General of India</dc:title>
</cp:coreProperties>
</file>