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47D5-72A3-447A-9CC7-DEBEB89714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896760" y="746280"/>
            <a:ext cx="4967640" cy="3727440"/>
          </a:xfrm>
          <a:prstGeom prst="rect">
            <a:avLst/>
          </a:prstGeom>
          <a:ln w="0">
            <a:noFill/>
          </a:ln>
        </p:spPr>
      </p:sp>
      <p:sp>
        <p:nvSpPr>
          <p:cNvPr id="126"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92350-D4C9-49FA-AE83-4ECDE9C58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3DE82-62FF-4CF2-9625-A2AABF51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631E9-A725-4CCB-8692-386277FE9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38D03-1464-4F6C-A243-4993B3DD6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870F-D747-4D19-ABBA-E7F5A174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5FFA5-0F27-4E78-B9EF-739F612F4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D801-A0DC-4B09-96C5-4EC7B589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490F7-63D9-4E51-8179-EABDC5993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4ECA3-2CDB-47CD-BC68-96D29FE23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52273-97E3-498B-9A1F-5CD2BBED6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77F3-A74F-4F1B-98AE-5108A8377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AF6A7-71A2-4B53-A58B-DEA4C55DC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0566-29D4-4AC6-B62C-548F34056ADD}"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ritannica.com/EBchecked/topic/376124/merit-good"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In this session the participants would be familiarized chapter on RSF which gives an assessment of Government’s fiscal position as on 31 March of the year. </a:t>
            </a:r>
            <a:endParaRPr b="0" lang="en-US" sz="4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
          <p:cNvSpPr txBox="1"/>
          <p:nvPr/>
        </p:nvSpPr>
        <p:spPr>
          <a:xfrm>
            <a:off x="628560" y="1825200"/>
            <a:ext cx="7886880" cy="4575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xample of comments can b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J&amp;K State there is no system of outcome/performance budgeting/reporting by the departments to the State Legislature as the departments do not prepare annual reports of their activities and achievements for which dissemination of information is limited on some government websit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Government presents statements required under the FRBM Act/Rules to the legislature along with Budge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ppropriation Accounts and Finance Accounts are prepared by the Accountant General (A&amp;E) on the basis of the compilation and consolidation of receipts/disbursements transactions originating in the books of Drawing and Disbursing Officers of State Government, through the Treasuries and/or the Bank accounts controlled by the RBI and the transactions originating in the books of the RBI.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Summary of Fiscal Transactions in a year</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Statements 1 </a:t>
            </a:r>
            <a:r>
              <a:rPr b="0" lang="en-US" sz="3200" spc="-1" strike="noStrike">
                <a:solidFill>
                  <a:srgbClr val="000000"/>
                </a:solidFill>
                <a:latin typeface="Calibri"/>
              </a:rPr>
              <a:t>and </a:t>
            </a:r>
            <a:r>
              <a:rPr b="1" lang="en-US" sz="3200" spc="-1" strike="noStrike">
                <a:solidFill>
                  <a:srgbClr val="000000"/>
                </a:solidFill>
                <a:latin typeface="Calibri"/>
              </a:rPr>
              <a:t>2 </a:t>
            </a:r>
            <a:r>
              <a:rPr b="0" lang="en-US" sz="3200" spc="-1" strike="noStrike">
                <a:solidFill>
                  <a:srgbClr val="000000"/>
                </a:solidFill>
                <a:latin typeface="Calibri"/>
              </a:rPr>
              <a:t>and </a:t>
            </a:r>
            <a:r>
              <a:rPr b="1" lang="en-US" sz="3200" spc="-1" strike="noStrike">
                <a:solidFill>
                  <a:srgbClr val="000000"/>
                </a:solidFill>
                <a:latin typeface="Calibri"/>
              </a:rPr>
              <a:t>Appendix I </a:t>
            </a:r>
            <a:r>
              <a:rPr b="0" lang="en-US" sz="3200" spc="-1" strike="noStrike">
                <a:solidFill>
                  <a:srgbClr val="000000"/>
                </a:solidFill>
                <a:latin typeface="Calibri"/>
              </a:rPr>
              <a:t>of the Finance Accounts of the year provide summary position of opening and closing cash balances, receipts and disbursements during the year under broad categories viz </a:t>
            </a:r>
            <a:r>
              <a:rPr b="1" lang="en-US" sz="3200" spc="-1" strike="noStrike">
                <a:solidFill>
                  <a:srgbClr val="000000"/>
                </a:solidFill>
                <a:latin typeface="Calibri"/>
              </a:rPr>
              <a:t>Revenue Receipts, Revenue</a:t>
            </a:r>
            <a:r>
              <a:rPr b="0" lang="en-IN" sz="3200" spc="-1" strike="noStrike">
                <a:solidFill>
                  <a:srgbClr val="000000"/>
                </a:solidFill>
                <a:latin typeface="Calibri"/>
              </a:rPr>
              <a:t> </a:t>
            </a:r>
            <a:r>
              <a:rPr b="1" lang="en-US" sz="3200" spc="-1" strike="noStrike">
                <a:solidFill>
                  <a:srgbClr val="000000"/>
                </a:solidFill>
                <a:latin typeface="Calibri"/>
              </a:rPr>
              <a:t>Expenditure, Capital</a:t>
            </a:r>
            <a:r>
              <a:rPr b="0" lang="en-IN" sz="3200" spc="-1" strike="noStrike">
                <a:solidFill>
                  <a:srgbClr val="000000"/>
                </a:solidFill>
                <a:latin typeface="Calibri"/>
              </a:rPr>
              <a:t> </a:t>
            </a:r>
            <a:r>
              <a:rPr b="1" lang="en-US" sz="3200" spc="-1" strike="noStrike">
                <a:solidFill>
                  <a:srgbClr val="000000"/>
                </a:solidFill>
                <a:latin typeface="Calibri"/>
              </a:rPr>
              <a:t>Expenditure</a:t>
            </a:r>
            <a:r>
              <a:rPr b="0" lang="en-IN" sz="3200" spc="-1" strike="noStrike">
                <a:solidFill>
                  <a:srgbClr val="000000"/>
                </a:solidFill>
                <a:latin typeface="Calibri"/>
              </a:rPr>
              <a:t> </a:t>
            </a:r>
            <a:r>
              <a:rPr b="1" lang="en-US" sz="3200" spc="-1" strike="noStrike">
                <a:solidFill>
                  <a:srgbClr val="000000"/>
                </a:solidFill>
                <a:latin typeface="Calibri"/>
              </a:rPr>
              <a:t>including loans &amp;</a:t>
            </a:r>
            <a:r>
              <a:rPr b="0" lang="en-IN" sz="3200" spc="-1" strike="noStrike">
                <a:solidFill>
                  <a:srgbClr val="000000"/>
                </a:solidFill>
                <a:latin typeface="Calibri"/>
              </a:rPr>
              <a:t> </a:t>
            </a:r>
            <a:r>
              <a:rPr b="1" lang="en-US" sz="3200" spc="-1" strike="noStrike">
                <a:solidFill>
                  <a:srgbClr val="000000"/>
                </a:solidFill>
                <a:latin typeface="Calibri"/>
              </a:rPr>
              <a:t>advances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4400" spc="-1" strike="noStrike">
                <a:solidFill>
                  <a:srgbClr val="000000"/>
                </a:solidFill>
                <a:latin typeface="Calibri"/>
              </a:rPr>
              <a:t>The information is tabulated and comments on </a:t>
            </a:r>
            <a:r>
              <a:rPr b="1" lang="en-US" sz="4400" spc="-1" strike="noStrike">
                <a:solidFill>
                  <a:srgbClr val="000000"/>
                </a:solidFill>
                <a:latin typeface="Calibri"/>
              </a:rPr>
              <a:t>Revenue Surplus/Deficit, Fiscal Deficit and Primary Deficit </a:t>
            </a:r>
            <a:r>
              <a:rPr b="1" lang="en-IN" sz="4400" spc="-1" strike="noStrike">
                <a:solidFill>
                  <a:srgbClr val="000000"/>
                </a:solidFill>
                <a:latin typeface="Calibri"/>
              </a:rPr>
              <a:t>which flow from the table. </a:t>
            </a:r>
            <a:endParaRPr b="0" lang="en-US" sz="4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200" spc="-1" strike="noStrike">
                <a:solidFill>
                  <a:srgbClr val="000000"/>
                </a:solidFill>
                <a:latin typeface="Calibri"/>
              </a:rPr>
              <a:t>Time series data on the State Government Finances:</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3200" spc="-1" strike="noStrike">
                <a:solidFill>
                  <a:srgbClr val="000000"/>
                </a:solidFill>
                <a:latin typeface="Calibri"/>
              </a:rPr>
              <a:t> </a:t>
            </a:r>
            <a:r>
              <a:rPr b="1" i="1" lang="en-US" sz="3200" spc="-1" strike="noStrike">
                <a:solidFill>
                  <a:srgbClr val="000000"/>
                </a:solidFill>
                <a:latin typeface="Calibri"/>
              </a:rPr>
              <a:t>Appendix 1.4 </a:t>
            </a:r>
            <a:r>
              <a:rPr b="0" lang="en-US" sz="3200" spc="-1" strike="noStrike">
                <a:solidFill>
                  <a:srgbClr val="000000"/>
                </a:solidFill>
                <a:latin typeface="Calibri"/>
              </a:rPr>
              <a:t>contains data showing trends in major fiscal aggregates since last five years in a more disaggregated view. Further </a:t>
            </a:r>
            <a:r>
              <a:rPr b="1" i="1" lang="en-US" sz="3200" spc="-1" strike="noStrike">
                <a:solidFill>
                  <a:srgbClr val="000000"/>
                </a:solidFill>
                <a:latin typeface="Calibri"/>
              </a:rPr>
              <a:t>Appendix 1.5 provides abstract of receipts and disbursements for the current year vis-à-vis last year in detailed manner</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Let us attempt Exercise 2.1 and 2.2 on preparation of time series data and abstract of receipts of disbursements which will help a lot in making analysis of various terms and framing the Report</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
          <p:cNvSpPr txBox="1"/>
          <p:nvPr/>
        </p:nvSpPr>
        <p:spPr>
          <a:xfrm>
            <a:off x="601560" y="1828800"/>
            <a:ext cx="7886880" cy="4572000"/>
          </a:xfrm>
          <a:prstGeom prst="rect">
            <a:avLst/>
          </a:prstGeom>
          <a:noFill/>
          <a:ln w="0">
            <a:noFill/>
          </a:ln>
        </p:spPr>
        <p:txBody>
          <a:bodyPr anchor="t">
            <a:normAutofit fontScale="99000"/>
          </a:bodyPr>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Budget Estimates and Actual</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trends in budget estimates, revised estimates and actual financial outcomes of some top level fiscal aggregates can be tabulated:</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rends in the budget under above mentioned categories will provide insight into the </a:t>
            </a:r>
            <a:r>
              <a:rPr b="1" lang="en-US" sz="2100" spc="-1" strike="noStrike">
                <a:solidFill>
                  <a:srgbClr val="000000"/>
                </a:solidFill>
                <a:latin typeface="Calibri"/>
              </a:rPr>
              <a:t>priorities of the Government</a:t>
            </a:r>
            <a:r>
              <a:rPr b="0" lang="en-US" sz="2100" spc="-1" strike="noStrike">
                <a:solidFill>
                  <a:srgbClr val="000000"/>
                </a:solidFill>
                <a:latin typeface="Calibri"/>
              </a:rPr>
              <a:t> and trends of actual expenditure/achievements will provide as </a:t>
            </a:r>
            <a:r>
              <a:rPr b="1" lang="en-US" sz="2100" spc="-1" strike="noStrike">
                <a:solidFill>
                  <a:srgbClr val="000000"/>
                </a:solidFill>
                <a:latin typeface="Calibri"/>
              </a:rPr>
              <a:t>how it had achieved the same</a:t>
            </a:r>
            <a:r>
              <a:rPr b="0" lang="en-US" sz="2100" spc="-1" strike="noStrike">
                <a:solidFill>
                  <a:srgbClr val="000000"/>
                </a:solidFill>
                <a:latin typeface="Calibri"/>
              </a:rPr>
              <a:t>. </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Funds transferred to State Implementing Agencies outside the State Budget</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unds under some Centrally Sponsored Schemes (CSS) are/were being also being transferred to the implementing agencies directly without routing through State Budget, details of such funds received need to be ascertained from the State Government and the impact of non-routing through State Budget analyzed. </a:t>
            </a: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9560" indent="-1695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Resources of the Sta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Resources of the State as per the Annual Finance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resources for financing the State Budget are categorised into revenue receipts and capital receip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Revenue receipts</a:t>
            </a:r>
            <a:r>
              <a:rPr b="0" lang="en-GB" sz="2100" spc="-1" strike="noStrike">
                <a:solidFill>
                  <a:srgbClr val="000000"/>
                </a:solidFill>
                <a:latin typeface="Calibri"/>
              </a:rPr>
              <a:t> include: (i) tax revenue from State’s own taxes like State Excise, VAT/ GST etc. (ii) State’s share in Central taxes/ duties under the Finance Commission award (iii) non-tax revenues under control of the State like interest/ dividend and user charges and (iv) grants-in-aid from the Central governmen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Capital receipts</a:t>
            </a:r>
            <a:r>
              <a:rPr b="0" lang="en-GB" sz="2100" spc="-1" strike="noStrike">
                <a:solidFill>
                  <a:srgbClr val="000000"/>
                </a:solidFill>
                <a:latin typeface="Calibri"/>
              </a:rPr>
              <a:t> include (i) non-debt capital receipts like recoveries of loans/ advances given by the State government, (ii) proceeds of disinvestment of equity in public sector companies or proceeds from sale of other assets like land/ buildings (iii) receipts, which create liabilities for the Government like market loans, borrowings from financial institutions/ commercial banks, loans and advances from the Union government and (iv) receipts into the public accounts of the State government as a banker or trustee of others’ funds like security deposi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
          <p:cNvSpPr txBox="1"/>
          <p:nvPr/>
        </p:nvSpPr>
        <p:spPr>
          <a:xfrm>
            <a:off x="628560" y="1825560"/>
            <a:ext cx="7886880" cy="4727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Revenue receip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trends and composition of revenue receipts over the period of last five years can presented and analysed through charts and their relation with GSDP can be presented in a tables/char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State’s Own Revenu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State’s performance in mobilisation of additional resources is assessed in terms of its own resources comprising revenue from its own tax and non-tax sources. The trend in State’s own tax and non-tax revenue can be presented and analysed through tables preferably by comparison during last five yea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Budget Estimates and Actual Tax revenu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Performance of the state in achieving the targets fixed in the budget estimates tax revenue under various heads over a period of last three years can be analys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State’s own non-tax revenu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trends and performance of Non-tax revenue comprising of the interest/dividends, power, forestry wild life etc., over a period of last five/ three years need to be presented and analysed through charts/ tabl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Grants in aid from the Union governm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Trend of </a:t>
            </a:r>
            <a:r>
              <a:rPr b="0" lang="en-GB" sz="2100" spc="-1" strike="noStrike">
                <a:solidFill>
                  <a:srgbClr val="000000"/>
                </a:solidFill>
                <a:latin typeface="Calibri"/>
              </a:rPr>
              <a:t>grants-in-aid from the Union government and its comparison with the total expenditure and revenue receipts over a period of last five years can be analysed and presented in through tabl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br>
              <a:rPr sz="3300"/>
            </a:b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By the end of the session the participants will be able to have an insight into trends and profile of key fiscal aggregates, committed expenditure, borrowing pattern, besides a brief account of central funds transferred directly to State implementing agencies through Off Budget route.</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
          <p:cNvSpPr txBox="1"/>
          <p:nvPr/>
        </p:nvSpPr>
        <p:spPr>
          <a:xfrm>
            <a:off x="628560" y="1825560"/>
            <a:ext cx="7886880" cy="4803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Optimisation of Finance Commission gra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actual release of share in Union taxes and duties to the State during last five years of the award period of Finance Commission </a:t>
            </a:r>
            <a:r>
              <a:rPr b="0" i="1" lang="en-GB" sz="2100" spc="-1" strike="noStrike">
                <a:solidFill>
                  <a:srgbClr val="000000"/>
                </a:solidFill>
                <a:latin typeface="Calibri"/>
              </a:rPr>
              <a:t>vis-à-vis</a:t>
            </a:r>
            <a:r>
              <a:rPr b="0" lang="en-GB" sz="2100" spc="-1" strike="noStrike">
                <a:solidFill>
                  <a:srgbClr val="000000"/>
                </a:solidFill>
                <a:latin typeface="Calibri"/>
              </a:rPr>
              <a:t> the projections made by the Commissions can be tabulated and analys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Public Account receip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tate, the Government acts as a trustee or banker in respect of sums credited to the public accounts and its major constituents are State Provident Fund, Insurance/ Pension Funds, Reserve Funds, Deposits and Advances. It is also used to record transitory transactions under Suspense and Miscellaneous and remittance heads before their final accounting to appropriate receipt or payment head of account as also cash balance transactions. Receipts and disbursements under various segments of the public accounts and their trend over last five years can be analysed as detailed in the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
          <p:cNvSpPr txBox="1"/>
          <p:nvPr/>
        </p:nvSpPr>
        <p:spPr>
          <a:xfrm>
            <a:off x="628560" y="1825200"/>
            <a:ext cx="7886880" cy="4498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Application of resourc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State raises resources to perform their sovereign functions, maintain levels of service delivery for social and economic services; extend the network of these services through capital expenditure, investments and to discharge their debt service obligations. It is also important to ensure that the fiscal correction and consolidation process does not adversely affect the quality of public expenditure directed towards maintenance of infrastructure, creation of new infrastructure and other needs of development and social justic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Growth and composition of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Growth and composition of expenditure </a:t>
            </a:r>
            <a:r>
              <a:rPr b="0" lang="en-US" sz="2100" spc="-1" strike="noStrike">
                <a:solidFill>
                  <a:srgbClr val="000000"/>
                </a:solidFill>
                <a:latin typeface="Calibri"/>
              </a:rPr>
              <a:t>ratio of </a:t>
            </a:r>
            <a:r>
              <a:rPr b="0" lang="en-GB" sz="2100" spc="-1" strike="noStrike">
                <a:solidFill>
                  <a:srgbClr val="000000"/>
                </a:solidFill>
                <a:latin typeface="Calibri"/>
              </a:rPr>
              <a:t>expenditure</a:t>
            </a:r>
            <a:r>
              <a:rPr b="0" lang="en-US" sz="2100" spc="-1" strike="noStrike">
                <a:solidFill>
                  <a:srgbClr val="000000"/>
                </a:solidFill>
                <a:latin typeface="Calibri"/>
              </a:rPr>
              <a:t> to the State GSDP and to revenue receipts and its buoyancy with respect to GSDP and revenue receipts </a:t>
            </a:r>
            <a:r>
              <a:rPr b="0" lang="en-GB" sz="2100" spc="-1" strike="noStrike">
                <a:solidFill>
                  <a:srgbClr val="000000"/>
                </a:solidFill>
                <a:latin typeface="Calibri"/>
              </a:rPr>
              <a:t>over a period of last five years can be presented and analysed through Chart and table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
          <p:cNvSpPr txBox="1"/>
          <p:nvPr/>
        </p:nvSpPr>
        <p:spPr>
          <a:xfrm>
            <a:off x="628560" y="1825560"/>
            <a:ext cx="7886880" cy="4880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Burden of unrecovered cost of procurement and supply of pow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function of </a:t>
            </a:r>
            <a:r>
              <a:rPr b="1" lang="en-US" sz="2100" spc="-1" strike="noStrike">
                <a:solidFill>
                  <a:srgbClr val="000000"/>
                </a:solidFill>
                <a:latin typeface="Calibri"/>
              </a:rPr>
              <a:t>electricity</a:t>
            </a:r>
            <a:r>
              <a:rPr b="0" lang="en-GB" sz="2100" spc="-1" strike="noStrike">
                <a:solidFill>
                  <a:srgbClr val="000000"/>
                </a:solidFill>
                <a:latin typeface="Calibri"/>
              </a:rPr>
              <a:t> supply to consumers is handled either departmentally or through DISCOMs. The trend in the gap between receipts from power consumers’ and expenditure on power purchase can be analys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Quality of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100" spc="-1" strike="noStrike">
                <a:solidFill>
                  <a:srgbClr val="000000"/>
                </a:solidFill>
                <a:latin typeface="Calibri"/>
              </a:rPr>
              <a:t>Adequacy of Public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o enhance human development the State is required to step up their expenditure on key social services like Education, Health etc. </a:t>
            </a:r>
            <a:r>
              <a:rPr b="1" lang="en-GB" sz="2100" spc="-1" strike="noStrike">
                <a:solidFill>
                  <a:srgbClr val="000000"/>
                </a:solidFill>
                <a:latin typeface="Calibri"/>
              </a:rPr>
              <a:t>A</a:t>
            </a:r>
            <a:r>
              <a:rPr b="0" lang="en-GB" sz="2100" spc="-1" strike="noStrike">
                <a:solidFill>
                  <a:srgbClr val="000000"/>
                </a:solidFill>
                <a:latin typeface="Calibri"/>
              </a:rPr>
              <a:t>nalysis of fiscal priority and fiscal capacity of the Government with regard to development expenditure (DE), social sector expenditure (SSE) and Capital expenditure (CE), Economic Sector (ESC) and aggregate expenditure (AE) etc over a period during the year under report can be tabulated and compared with average national level or similar or neighbouring stat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Efficiency of Expenditure Us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availability of better social and physical infrastructure in the State generally reflects the quality of its expenditure. The improvement in the quality of expenditure basically involves three aspects, viz., adequacy of the expenditure (i.e. adequate provisions for providing public services), efficiency of expenditure (use), and the effectiveness (assessment of outlay-outcome relationships for select services). In view of the importance of public expenditure on development heads from the point of view of social and economic development, it is important for the State governments to take appropriate expenditure rationalisation measures and lay emphasis on provision of core public and merit good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t>
            </a:r>
            <a:r>
              <a:rPr b="0" i="1" lang="en-GB" sz="2100" spc="-1" strike="noStrike">
                <a:solidFill>
                  <a:srgbClr val="000000"/>
                </a:solidFill>
                <a:latin typeface="Calibri"/>
              </a:rPr>
              <a:t>Core Public goods</a:t>
            </a:r>
            <a:r>
              <a:rPr b="0" lang="en-GB" sz="2100" spc="-1" strike="noStrike">
                <a:solidFill>
                  <a:srgbClr val="000000"/>
                </a:solidFill>
                <a:latin typeface="Calibri"/>
              </a:rPr>
              <a:t> are </a:t>
            </a:r>
            <a:r>
              <a:rPr b="0" lang="en-US" sz="2100" spc="-1" strike="noStrike">
                <a:solidFill>
                  <a:srgbClr val="000000"/>
                </a:solidFill>
                <a:latin typeface="Calibri"/>
              </a:rPr>
              <a:t>those which all citizens enjoy in common in the sense that each individual's consumption of such a good leads to no subtractions from any other individual's consumption of that good, e.g. enforcement of law and order, security and protection of our rights; pollution free air and other environmental goods and road infrastructure etc. </a:t>
            </a:r>
            <a:r>
              <a:rPr b="0" i="1" lang="en-US" sz="2100" spc="-1" strike="noStrike">
                <a:solidFill>
                  <a:srgbClr val="000000"/>
                </a:solidFill>
                <a:latin typeface="Calibri"/>
              </a:rPr>
              <a:t>Merit goods</a:t>
            </a:r>
            <a:r>
              <a:rPr b="0" lang="en-US" sz="2100" spc="-1" strike="noStrike">
                <a:solidFill>
                  <a:srgbClr val="000000"/>
                </a:solidFill>
                <a:latin typeface="Calibri"/>
              </a:rPr>
              <a:t> are </a:t>
            </a:r>
            <a:r>
              <a:rPr b="0" lang="en-US" sz="2100" spc="-1" strike="noStrike" u="sng">
                <a:solidFill>
                  <a:srgbClr val="0563c1"/>
                </a:solidFill>
                <a:uFillTx/>
                <a:latin typeface="Calibri"/>
                <a:hlinkClick r:id="rId1"/>
              </a:rPr>
              <a:t>commodities</a:t>
            </a:r>
            <a:r>
              <a:rPr b="0" lang="en-US" sz="2100" spc="-1" strike="noStrike">
                <a:solidFill>
                  <a:srgbClr val="000000"/>
                </a:solidFill>
                <a:latin typeface="Calibri"/>
              </a:rPr>
              <a:t> that the public sector provides free or at subsidized rates because an individual or society should have them on the basis of some concept of need, rather than ability and willingness to pay the government and therefore wishes to encourage their consumption. Examples of such goods include the provision of free or subsidized food for the poor to support nutrition, delivery of health services to improve quality of life and reduce morbidity, providing basic education to all, drinking water and sanitation etc.)</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
          <p:cNvSpPr txBox="1"/>
          <p:nvPr/>
        </p:nvSpPr>
        <p:spPr>
          <a:xfrm>
            <a:off x="628560" y="1825200"/>
            <a:ext cx="7886880" cy="465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 </a:t>
            </a:r>
            <a:r>
              <a:rPr b="1" lang="en-US" sz="2100" spc="-1" strike="noStrike">
                <a:solidFill>
                  <a:srgbClr val="000000"/>
                </a:solidFill>
                <a:latin typeface="Calibri"/>
              </a:rPr>
              <a:t>Analysis on development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analysis of expenditure data is disaggregated into development and non-development expenditure. All expenditure relating to Revenue Account, Capital Outlay and Loans and Advances is categorized into social services, economic services and general services. Broadly, the social and economic services constitute development expenditure, while expenditure on general services is treated as non-development expenditur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part from improving the allocation towards development expenditure particularly in view of the fiscal space being created on account of decline in debt servicing in recent years, the efficiency of expenditure use is also reflected by the ratio of capital expenditure to total expenditure (and/ or GSDP) and proportion of revenue expenditure being spent on operation and maintenance of the existing social and economic servic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higher the ratio of these components to total expenditure (and/ or GSDP), the better would be the quality of expenditure. Trends in development expenditure relative to the aggregate expenditure of the State during the current year </a:t>
            </a:r>
            <a:r>
              <a:rPr b="0" i="1" lang="en-GB" sz="2100" spc="-1" strike="noStrike">
                <a:solidFill>
                  <a:srgbClr val="000000"/>
                </a:solidFill>
                <a:latin typeface="Calibri"/>
              </a:rPr>
              <a:t>vis-à-vis </a:t>
            </a:r>
            <a:r>
              <a:rPr b="0" lang="en-GB" sz="2100" spc="-1" strike="noStrike">
                <a:solidFill>
                  <a:srgbClr val="000000"/>
                </a:solidFill>
                <a:latin typeface="Calibri"/>
              </a:rPr>
              <a:t>previous years as well as capital expenditure and the components of revenue expenditure incurred on the maintenance of the selected social and economic services can be presented in tables below and commented upon suitably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400" spc="-1" strike="noStrike">
                <a:solidFill>
                  <a:srgbClr val="000000"/>
                </a:solidFill>
                <a:latin typeface="Calibri"/>
              </a:rPr>
              <a:t>Effectiveness of the Expenditure, i.e. Outlay-Outcome Relationship</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Besides stepping up the expenditure on key social and economic services, enhancing human development requires the State to improve the delivery mechanism to obtain the desired outcomes. The State Government is expected to relate expenditure to outcomes in terms of quality, reach and the impact of Government expenditure. The system of presenting outcome budget needs to be introduced and audit can comment on the outlay-outcome relationship.</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 name=""/>
          <p:cNvSpPr txBox="1"/>
          <p:nvPr/>
        </p:nvSpPr>
        <p:spPr>
          <a:xfrm>
            <a:off x="628560" y="1825200"/>
            <a:ext cx="7886880" cy="465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Financial analysis of Government capital expenditure and invest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s part of the framework provided by the Fiscal Responsibility Budget Management (FRBM) Act, the States are expected to not only keep its fiscal deficit at low levels but also to meet its capital expenditure/ investment (including loans and advances) requirements out of the revenues. In addition, in a transition to complete dependence on market based resources, the State Governments need to initiate measures to earn adequate return on its investments and recover its cost of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on its budget in the form of implicit subsidy and take requisite steps to infuse transparency in financial operations. This section presents a broad financial analysis of investments and other capital expenditure undertaken by the Government during the current year </a:t>
            </a:r>
            <a:r>
              <a:rPr b="0" i="1" lang="en-GB" sz="2100" spc="-1" strike="noStrike">
                <a:solidFill>
                  <a:srgbClr val="000000"/>
                </a:solidFill>
                <a:latin typeface="Calibri"/>
              </a:rPr>
              <a:t>vis-a-vis</a:t>
            </a:r>
            <a:r>
              <a:rPr b="0" lang="en-GB" sz="2100" spc="-1" strike="noStrike">
                <a:solidFill>
                  <a:srgbClr val="000000"/>
                </a:solidFill>
                <a:latin typeface="Calibri"/>
              </a:rPr>
              <a:t> previous yea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3600" spc="-1" strike="noStrike">
                <a:solidFill>
                  <a:srgbClr val="000000"/>
                </a:solidFill>
                <a:latin typeface="Calibri"/>
              </a:rPr>
              <a:t>Incomplete projects</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600" spc="-1" strike="noStrike">
                <a:solidFill>
                  <a:srgbClr val="000000"/>
                </a:solidFill>
                <a:latin typeface="Calibri"/>
              </a:rPr>
              <a:t>On the basis of the information furnished by the departments, and as appearing in finance accounts, suitable comments can be made on incomplete projects costing more than Rs.</a:t>
            </a:r>
            <a:r>
              <a:rPr b="0" lang="en-US" sz="3600" spc="-1" strike="noStrike">
                <a:solidFill>
                  <a:srgbClr val="000000"/>
                </a:solidFill>
                <a:latin typeface="Calibri"/>
              </a:rPr>
              <a:t>1 crore and abo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I:  FINANCES OF THE STATE GOVERNMENT</a:t>
            </a:r>
            <a:br>
              <a:rPr sz="3300"/>
            </a:br>
            <a:endParaRPr b="0" lang="en-US" sz="3300" spc="-1" strike="noStrike">
              <a:solidFill>
                <a:srgbClr val="000000"/>
              </a:solidFill>
              <a:latin typeface="Calibri Light"/>
            </a:endParaRPr>
          </a:p>
        </p:txBody>
      </p:sp>
      <p:sp>
        <p:nvSpPr>
          <p:cNvPr id="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This chapter provides an overview of the finances of the State government during the financial year by benchmarking against past trends of major fiscal aggregates and its structural profile. </a:t>
            </a:r>
            <a:endParaRPr b="0" lang="en-US" sz="4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Investment and Retur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Based on data available  in Finance Accounts, analysis of cumulative investment in the Public sector undertakings and returns there against over a period of five years can be made by comparing average rate of interest on all government liabilities and difference between interest rate and return (</a:t>
            </a:r>
            <a:r>
              <a:rPr b="0" i="1" lang="en-GB" sz="2100" spc="-1" strike="noStrike">
                <a:solidFill>
                  <a:srgbClr val="000000"/>
                </a:solidFill>
                <a:latin typeface="Calibri"/>
              </a:rPr>
              <a:t>per-cent</a:t>
            </a:r>
            <a:r>
              <a:rPr b="0" lang="en-GB" sz="2100" spc="-1" strike="noStrike">
                <a:solidFill>
                  <a:srgbClr val="000000"/>
                </a:solidFill>
                <a:latin typeface="Calibri"/>
              </a:rPr>
              <a: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Loans and advances by State Governmen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P</a:t>
            </a:r>
            <a:r>
              <a:rPr b="0" lang="en-GB" sz="2100" spc="-1" strike="noStrike">
                <a:solidFill>
                  <a:srgbClr val="000000"/>
                </a:solidFill>
                <a:latin typeface="Calibri"/>
              </a:rPr>
              <a:t>osition of loans and advances, outstanding from various organisations, interest receipts </a:t>
            </a:r>
            <a:r>
              <a:rPr b="0" i="1" lang="en-GB" sz="2100" spc="-1" strike="noStrike">
                <a:solidFill>
                  <a:srgbClr val="000000"/>
                </a:solidFill>
                <a:latin typeface="Calibri"/>
              </a:rPr>
              <a:t>vis-a-vis</a:t>
            </a:r>
            <a:r>
              <a:rPr b="0" lang="en-GB" sz="2100" spc="-1" strike="noStrike">
                <a:solidFill>
                  <a:srgbClr val="000000"/>
                </a:solidFill>
                <a:latin typeface="Calibri"/>
              </a:rPr>
              <a:t> interest payments during the last 5 years can be analysed and commented upon suitabl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
          <p:cNvSpPr txBox="1"/>
          <p:nvPr/>
        </p:nvSpPr>
        <p:spPr>
          <a:xfrm>
            <a:off x="628560" y="1825560"/>
            <a:ext cx="7886880" cy="47275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Cash Balances and their investment</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nalyse Increase or decrease in the cash balance over a period of last five years can</a:t>
            </a: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Assets and Liabilities</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100" spc="-1" strike="noStrike">
                <a:solidFill>
                  <a:srgbClr val="000000"/>
                </a:solidFill>
                <a:latin typeface="Calibri"/>
              </a:rPr>
              <a:t>Growth and composition of Assets and Liabilities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Summary position of the Government’s financial liabilities such as borrowing from open market and financial institutions, loans and advances from the Union Government and net receipts under public accounts in respect of which the Government functions as a trustee or banker. The liabilities of the State Government depicted in the Finance Accounts, however, do not include future liabilities on account of pension and other retirement benefits payable to retired State employees, and contingent liabilities arising out of guarantees/ letters of comfort issued by the State government. Suitable comments can be made</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Fiscal Liabilit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composition of fiscal liabilities during the five years and trends in outstanding fiscal liabilities of the Government can be presented in tables/char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Management of Reserve Fund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movement of closing balances in various reserve funds can be depicted in suitable tables and comments on investment outside government accounts as also the dormant accounts having no or negligible transactions over a period of time can be commented up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Contingent liabiliti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100" spc="-1" strike="noStrike">
                <a:solidFill>
                  <a:srgbClr val="000000"/>
                </a:solidFill>
                <a:latin typeface="Calibri"/>
              </a:rPr>
              <a:t>Status of Guarante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maximum amount for which guarantees could be extended by the State and outstanding guarantees for the last five years can be tabulated and analysed. </a:t>
            </a:r>
            <a:r>
              <a:rPr b="0" i="1" lang="en-GB" sz="2100" spc="-1" strike="noStrike">
                <a:solidFill>
                  <a:srgbClr val="000000"/>
                </a:solidFill>
                <a:latin typeface="Calibri"/>
              </a:rPr>
              <a:t>Comments can be made for non-collection of guarantee fee, if any, by the Government in accordance with requirements of FRBM Ac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Debt profi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O</a:t>
            </a:r>
            <a:r>
              <a:rPr b="0" i="1" lang="en-US" sz="2100" spc="-1" strike="noStrike">
                <a:solidFill>
                  <a:srgbClr val="000000"/>
                </a:solidFill>
                <a:latin typeface="Calibri"/>
              </a:rPr>
              <a:t>utstanding public debt and other liabilities in last five years, showing the liabilities as per cent of GSDP and per capita can be presented in a ta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Debt sustainabilit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part from the magnitude of outstanding debt of the State government, it is important to assess the sustainability of the debt of the State government in terms of debt </a:t>
            </a:r>
            <a:r>
              <a:rPr b="0" lang="en-US" sz="2100" spc="-1" strike="noStrike">
                <a:solidFill>
                  <a:srgbClr val="000000"/>
                </a:solidFill>
                <a:latin typeface="Calibri"/>
              </a:rPr>
              <a:t>stabilization</a:t>
            </a:r>
            <a:r>
              <a:rPr b="0" lang="en-GB" sz="2100" spc="-1" strike="noStrike">
                <a:solidFill>
                  <a:srgbClr val="000000"/>
                </a:solidFill>
                <a:latin typeface="Calibri"/>
              </a:rPr>
              <a:t>, sufficiency of non-debt receipts, net availability of borrowed funds, burden of interest payments (measured by interest payments to revenue receipts ratio) and maturity profile of State government securities. Trends in some indicators of debt sustainability of the State can be tabulate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Arrangement for amortization of debt </a:t>
            </a: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rrangements for amortization of debt have to be brought in the repor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100" spc="-1" strike="noStrike">
                <a:solidFill>
                  <a:srgbClr val="000000"/>
                </a:solidFill>
                <a:latin typeface="Calibri"/>
              </a:rPr>
              <a:t>Quality of Deficit/ Surplu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The bifurcation of the factors resulting in primary deficit or surplus of the State can be analysed as detailed in the table to comment upon persistently high ratio of revenue deficit to fiscal deficit may also indicate that the asset base of the State was continuously shrinking and a part of borrowings (fiscal liabilities) was not having any asset backup</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100" spc="-1" strike="noStrike">
                <a:solidFill>
                  <a:srgbClr val="000000"/>
                </a:solidFill>
                <a:latin typeface="Calibri"/>
              </a:rPr>
              <a:t>Government obligations under the Fiscal Responsibility and Budget Management (FRBM) Act, 2006</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0000"/>
                </a:solidFill>
                <a:latin typeface="Calibri"/>
              </a:rPr>
              <a:t>Audit can comment upon the implementation of FRBM Act.</a:t>
            </a:r>
            <a:endParaRPr b="0" lang="en-US" sz="2100" spc="-1" strike="noStrike">
              <a:solidFill>
                <a:srgbClr val="000000"/>
              </a:solidFill>
              <a:latin typeface="Calibri"/>
            </a:endParaRPr>
          </a:p>
          <a:p>
            <a:pPr marL="171360" indent="-171360">
              <a:lnSpc>
                <a:spcPct val="90000"/>
              </a:lnSpc>
              <a:spcBef>
                <a:spcPts val="751"/>
              </a:spcBef>
              <a:buClr>
                <a:srgbClr val="00b0f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100" spc="-1" strike="noStrike">
                <a:solidFill>
                  <a:srgbClr val="00b0f0"/>
                </a:solidFill>
                <a:latin typeface="Calibri"/>
              </a:rPr>
              <a:t> </a:t>
            </a:r>
            <a:r>
              <a:rPr b="0" lang="en-GB" sz="4000" spc="-1" strike="noStrike">
                <a:solidFill>
                  <a:srgbClr val="00b0f0"/>
                </a:solidFill>
                <a:latin typeface="Calibri"/>
              </a:rPr>
              <a:t>Let us study a case of typical example of  Obligations under the Act and comments of Audit given in this ses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
          <p:cNvSpPr txBox="1"/>
          <p:nvPr/>
        </p:nvSpPr>
        <p:spPr>
          <a:xfrm>
            <a:off x="628560" y="1825200"/>
            <a:ext cx="7886880" cy="435132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4400" spc="-1" strike="noStrike">
                <a:solidFill>
                  <a:srgbClr val="000000"/>
                </a:solidFill>
                <a:latin typeface="Calibri"/>
              </a:rPr>
              <a:t>Conclusion and Recommendations</a:t>
            </a:r>
            <a:endParaRPr b="0" lang="en-US" sz="4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rPr>
              <a:t>Audit analysis on the finances of the state should be presented briefly in the conclusion and should be followed with recommendations.</a:t>
            </a:r>
            <a:endParaRPr b="0" lang="en-US" sz="44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I:  FINANCES OF THE STATE GOVERNMENT (contd.)</a:t>
            </a:r>
            <a:endParaRPr b="0" lang="en-US" sz="3300" spc="-1" strike="noStrike">
              <a:solidFill>
                <a:srgbClr val="000000"/>
              </a:solidFill>
              <a:latin typeface="Calibri Light"/>
            </a:endParaRPr>
          </a:p>
        </p:txBody>
      </p:sp>
      <p:sp>
        <p:nvSpPr>
          <p:cNvPr id="5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libri"/>
              </a:rPr>
              <a:t>Appendix 1.1 </a:t>
            </a:r>
            <a:r>
              <a:rPr b="0" lang="en-US" sz="2800" spc="-1" strike="noStrike">
                <a:solidFill>
                  <a:srgbClr val="000000"/>
                </a:solidFill>
                <a:latin typeface="Calibri"/>
              </a:rPr>
              <a:t>contains profile of the State and the development indicators relating to major infrastructure, includes General data and financial data of the state.</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libri"/>
              </a:rPr>
              <a:t>Appendix 1.2 </a:t>
            </a:r>
            <a:r>
              <a:rPr b="0" lang="en-US" sz="2800" spc="-1" strike="noStrike">
                <a:solidFill>
                  <a:srgbClr val="000000"/>
                </a:solidFill>
                <a:latin typeface="Calibri"/>
              </a:rPr>
              <a:t>contains the structure and layout of the Finance Accounts of the State government on which this Report is based.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libri"/>
              </a:rPr>
              <a:t>Appendix 1.3 </a:t>
            </a:r>
            <a:r>
              <a:rPr b="0" lang="en-US" sz="2800" spc="-1" strike="noStrike">
                <a:solidFill>
                  <a:srgbClr val="000000"/>
                </a:solidFill>
                <a:latin typeface="Calibri"/>
              </a:rPr>
              <a:t>briefly outlines the methodology adopted for the assessment of the fiscal position of the State.</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PTER-I:  FINANCES OF THE STATE GOVERNMENT (contd.)</a:t>
            </a:r>
            <a:endParaRPr b="0" lang="en-US" sz="3300" spc="-1" strike="noStrike">
              <a:solidFill>
                <a:srgbClr val="000000"/>
              </a:solidFill>
              <a:latin typeface="Calibri Light"/>
            </a:endParaRPr>
          </a:p>
        </p:txBody>
      </p:sp>
      <p:sp>
        <p:nvSpPr>
          <p:cNvPr id="5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200" spc="-1" strike="noStrike">
                <a:solidFill>
                  <a:srgbClr val="000000"/>
                </a:solidFill>
                <a:latin typeface="Calibri"/>
              </a:rPr>
              <a:t>Terms used and calculations:-</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graphicFrame>
        <p:nvGraphicFramePr>
          <p:cNvPr id="58" name=""/>
          <p:cNvGraphicFramePr/>
          <p:nvPr/>
        </p:nvGraphicFramePr>
        <p:xfrm>
          <a:off x="1066680" y="2438280"/>
          <a:ext cx="7010640" cy="3756240"/>
        </p:xfrm>
        <a:graphic>
          <a:graphicData uri="http://schemas.openxmlformats.org/drawingml/2006/table">
            <a:tbl>
              <a:tblPr/>
              <a:tblGrid>
                <a:gridCol w="2521080"/>
                <a:gridCol w="4489560"/>
              </a:tblGrid>
              <a:tr h="3621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Term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Basis of calculation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90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Rate of growth (ROG) of a paramet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ncrease of any parameter over previous year as per c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03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Buoyancy of paramet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ate of growth of the parameter/GSDP growth</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365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Buoyancy of parameter  (X) with respect to another parameter (Y)</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ate of growth of parameter (X)/ Rate of Growth of parameter (Y)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21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Development expenditu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Social services + Economic servic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2216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Average interest paid by the Stat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nterest payment /[(amount of previous year’s fiscal liabilities + current year’s fiscal liabilities)/2]*1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225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Interest received as per cent of loans outstanding</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nterest received/ [(opening balance + closing balance of loans and advances)/2]*100</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600" spc="-1" strike="noStrike">
                <a:solidFill>
                  <a:srgbClr val="000000"/>
                </a:solidFill>
                <a:latin typeface="Calibri Light"/>
              </a:rPr>
              <a:t>Terms used and calculations:- (contd.)</a:t>
            </a:r>
            <a:br>
              <a:rPr sz="3600"/>
            </a:br>
            <a:endParaRPr b="0" lang="en-US" sz="3600" spc="-1" strike="noStrike">
              <a:solidFill>
                <a:srgbClr val="000000"/>
              </a:solidFill>
              <a:latin typeface="Calibri Light"/>
            </a:endParaRPr>
          </a:p>
        </p:txBody>
      </p:sp>
      <p:graphicFrame>
        <p:nvGraphicFramePr>
          <p:cNvPr id="60" name=""/>
          <p:cNvGraphicFramePr/>
          <p:nvPr/>
        </p:nvGraphicFramePr>
        <p:xfrm>
          <a:off x="628560" y="1828800"/>
          <a:ext cx="7677360" cy="4343400"/>
        </p:xfrm>
        <a:graphic>
          <a:graphicData uri="http://schemas.openxmlformats.org/drawingml/2006/table">
            <a:tbl>
              <a:tblPr/>
              <a:tblGrid>
                <a:gridCol w="2760840"/>
                <a:gridCol w="4916520"/>
              </a:tblGrid>
              <a:tr h="43488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Revenue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Revenue receipts – Revenue expenditure</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868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Fiscal defici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evenue expenditure + Capital expenditure + Net loans and advances – Revenue receipts – Miscellaneous capital receipt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3344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Primary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iscal deficit – Interest paymen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701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Pre-devolution non-plan revenue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Non-plan revenue expenditure  - (State’s own tax revenue + State’s own non-tax revenue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868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State’s own deficit</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iscal deficit – Share in Union taxes /duties – Grant in aid received from the from Union Government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68320">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Calibri"/>
                        </a:rPr>
                        <a:t>Non-plan revenue gap</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just">
                        <a:lnSpc>
                          <a:spcPct val="115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Revenue deficit – Revenue deficit on plan account = Revenue deficit – (Plan Revenue expenditure –plan grant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Structure of Chapter 1</a:t>
            </a:r>
            <a:endParaRPr b="0" lang="en-US" sz="3300" spc="-1" strike="noStrike">
              <a:solidFill>
                <a:srgbClr val="000000"/>
              </a:solidFill>
              <a:latin typeface="Calibri Light"/>
            </a:endParaRPr>
          </a:p>
        </p:txBody>
      </p:sp>
      <p:sp>
        <p:nvSpPr>
          <p:cNvPr id="6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Profile of the Stat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It provides general data of the State, including area, population etc. Besides, comparison between the rate of growth of national GDP and State’s GSDP over a period of last five years benchmarking same against the targets fixed in the Finance commissions. </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
          <p:cNvSpPr txBox="1"/>
          <p:nvPr/>
        </p:nvSpPr>
        <p:spPr>
          <a:xfrm>
            <a:off x="628560" y="1825560"/>
            <a:ext cx="7886880" cy="44229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Salient features of  State’s Budgetary and Accounting System (typical for J&amp;K Sta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tate government secures legislative approval for spending from the Consolidated Fund of the Stat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tate Legislatures have enacted Fiscal Responsibility &amp; Budget Management (FRBM) Act, and passed FRBM Rules there under which </a:t>
            </a:r>
            <a:r>
              <a:rPr b="0" i="1" lang="en-US" sz="2100" spc="-1" strike="noStrike">
                <a:solidFill>
                  <a:srgbClr val="000000"/>
                </a:solidFill>
                <a:latin typeface="Calibri"/>
              </a:rPr>
              <a:t>inter alia </a:t>
            </a:r>
            <a:r>
              <a:rPr b="0" lang="en-US" sz="2100" spc="-1" strike="noStrike">
                <a:solidFill>
                  <a:srgbClr val="000000"/>
                </a:solidFill>
                <a:latin typeface="Calibri"/>
              </a:rPr>
              <a:t>specify the annual targets for (a) Revenue Deficit as percentage of Total Revenue Receipts (b) Fiscal Deficit as percentage of GSDP (c) Total Outstanding Liabilities as percentage of GSDP and (d) Committed Liabilitie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States follow system of classification of receipts and expenditure, which generally conforms to the function-cum-programme based system followed by the Central government at top level of major/minor heads of accou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rom FY-2015-16 the structure of State budgets under budgetary reforms by presenting an Annual Financial Statement (budget) and Demands for Grants. These Demands are discussed in the Legislature, replied by the Minister-in-charge of the Department and then passed. has changed and the budget has only two parts; the Receipts Budget and the Expenditure Budge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ld classification of the Plan and Non Plan has been discarded. Now there are two categories of expenditure, current and capital.  Audit can make comment on the results of outcome/performance budgeting/reporting by the department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2T07:14:52Z</dcterms:modified>
  <cp:revision>60</cp:revision>
  <dc:subject/>
  <dc:title>Duties and Powers of the Comptroller and Auditor General of India</dc:title>
</cp:coreProperties>
</file>