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E7E1D-7927-49FC-AE47-938961D74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B126B-8C76-4427-9F48-138DFDFE9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C0140-813C-4417-A136-27B8A214C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607BB-C9AF-4565-9C63-6B7D7522F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0B085-63DB-43E5-B84E-6385F0BAD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3D24D-96A5-4CF9-8465-8C5D294E4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DBC3E-6B3F-4E0B-8221-57DB718AD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108A1-4AA0-465F-924C-05136FF53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AD4D9-214B-407D-AC8B-AFAFF34E7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80AA3-176F-40BF-B1C4-E97B8FA40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C895F-6F6B-4C2F-B3A3-BC63057E3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67413-F119-4697-BAAF-DF40DEA37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4919-D609-4182-8155-9034740964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4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DC09-837A-468A-A3AB-9370021A45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oluments and </a:t>
            </a:r>
            <a:br>
              <a:rPr sz="4400"/>
            </a:br>
            <a:r>
              <a:rPr b="0" lang="en-US" sz="4400" spc="-1" strike="noStrike">
                <a:solidFill>
                  <a:srgbClr val="000000"/>
                </a:solidFill>
                <a:latin typeface="Arial"/>
              </a:rPr>
              <a:t>Average Emoluments</a:t>
            </a: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9A7C-34F1-4888-B53D-F76CD45EA0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olument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r>
              <a:rPr b="0" lang="en-US" sz="2800" spc="-1" strike="noStrike">
                <a:solidFill>
                  <a:srgbClr val="000000"/>
                </a:solidFill>
                <a:latin typeface="Arial"/>
              </a:rPr>
              <a:t>	</a:t>
            </a:r>
            <a:r>
              <a:rPr b="0" lang="en-US" sz="2800" spc="-1" strike="noStrike">
                <a:solidFill>
                  <a:srgbClr val="000000"/>
                </a:solidFill>
                <a:latin typeface="Arial"/>
              </a:rPr>
              <a:t>In respect of deputationist from one department to another who, while under orders for reversion to parent department proceeds on leave and retires without joining duty under parent department, the 'emoluments' for the period of leave should be taken as what they would have been  had he not been absent from duty from the post he was holding under the borrowing department before he proceeded on leave. (GID (4) below Rule 3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9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52A5F-9F5E-4C41-B1DA-2B43F6FF38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oluments</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en-US" sz="3200" spc="-1" strike="noStrike">
                <a:solidFill>
                  <a:srgbClr val="000000"/>
                </a:solidFill>
                <a:latin typeface="Arial"/>
              </a:rPr>
              <a:t>	</a:t>
            </a:r>
            <a:r>
              <a:rPr b="0" lang="en-US" sz="3200" spc="-1" strike="noStrike">
                <a:solidFill>
                  <a:srgbClr val="000000"/>
                </a:solidFill>
                <a:latin typeface="Arial"/>
              </a:rPr>
              <a:t>In the case of a re-employed pensioner (military or civil) who elects to retain his pension for earlier service and whose pay on reemployment has been reduced by an amount of his pension, the element of pension by which his pay is reduced shall be treated as 'emolum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CD5C-F029-4E44-8F46-014F98EE0A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moluments and Average Emolumen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oluments' for purposes of calculating various pensionary benefits other than Service/Retirement/Death Gratuity shall mean 'basic pay' as defined in FR 9 (21) (a) (i) (and includes stagnation increment, non-practising allowance, if any) which the Government servant was receiving immediately before his retirement or on the date of his death while in servi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0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2025D-4659-468C-B94C-1D80A0ACFD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moluments and Average Emolumen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rm 'pay' means, the pay in the VII  Pay Commission pay scales. In the case of Service/Retirement/Death Gratuity, Dearness Allowance admissible on the date of retirement/Death will also be treated as 'emoluments' in addition to the above.</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period w.e.f 1.4.2004 tio 31.12.2005 Dearness Allowance equal to 50% of 'Basic Pay' will be treated as 'Dearness Pay' and will count as 'emoluments' for the purpose of calculating Pension/Family Pension/Gratu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B7DE5-E218-42E6-8EC3-D81B0FF05B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verage Emolumen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emoluments' will be determined with reference to 'emoluments' drawn by the Government servant during the last ten months of his ser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1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277C-4B8E-434C-B68C-F53859D0C4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iods of leave or suspension during the last 10 months</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during the last 10 months of service, a Government servant had gone on leave other than Extra Ordinary Leave or had been suspended and later on reinstated without forfeiture of service the emoluments that he would have drawn had he not gone on leave or been suspended will be taken into account for calculation of average emolum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1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5294-3A54-48B2-99A7-34A7CC720E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iods of leave or suspension during the last 10 months</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taking such notional emoluments, the increases in pay, which were not actually drawn, should not be taken into account. For example, in the last 10 months of service, if a Government servant takes Half Pay Leave for 5 months and his next increment falls during the period of leave, the increment will not be taken into account from the month in which it is due because it is not actually drawn. It may be remembered that increments falling due during leave periods are drawn only from the date of rejoining du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7791-5A4A-407A-BDFA-A920B9170D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iods of leave or suspension during the last 10 months</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as an exception to the above, increments falling due during the currency of the </a:t>
            </a:r>
            <a:r>
              <a:rPr b="0" i="1" lang="en-US" sz="3200" spc="-1" strike="noStrike">
                <a:solidFill>
                  <a:srgbClr val="000000"/>
                </a:solidFill>
                <a:latin typeface="Arial"/>
              </a:rPr>
              <a:t>earned leave</a:t>
            </a:r>
            <a:r>
              <a:rPr b="0" lang="en-US" sz="3200" spc="-1" strike="noStrike">
                <a:solidFill>
                  <a:srgbClr val="000000"/>
                </a:solidFill>
                <a:latin typeface="Arial"/>
              </a:rPr>
              <a:t> not exceeding 120 days or during the first 120 days of EL exceeding 120 days, are taken as a part of emoluments even though they are not actually drawn. (Rule 3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2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5C0E6-D287-431A-8424-4ECA65A03B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en EOL or suspension occurs during the last 10 months</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last 10 months of service, if a Government servant was on EOL or under suspension which was not treated as qualifying for pension, such period of leave or suspension should be disregarded in the calculation of average emoluments and an equal period before the ten  months should be includ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5D714-DDF4-42C4-BA83-77E7FDC527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 reckon the period of 10 months</a:t>
            </a:r>
            <a:endParaRPr b="0" lang="en-US" sz="4000" spc="-1" strike="noStrike">
              <a:solidFill>
                <a:srgbClr val="000000"/>
              </a:solidFill>
              <a:latin typeface="Arial"/>
            </a:endParaRPr>
          </a:p>
        </p:txBody>
      </p:sp>
      <p:sp>
        <p:nvSpPr>
          <p:cNvPr id="135" name="PlaceHolder 2"/>
          <p:cNvSpPr>
            <a:spLocks noGrp="1"/>
          </p:cNvSpPr>
          <p:nvPr>
            <p:ph/>
          </p:nvPr>
        </p:nvSpPr>
        <p:spPr>
          <a:xfrm>
            <a:off x="152280" y="1417320"/>
            <a:ext cx="8763120" cy="47084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y on which a Government servant retires or is retired or is discharged or is allowed to resign from service, as the case may be, shall be treated as his last working day.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e of death shall also be treated as a working day.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uch cases, the period of 10 months should end on the date of retirement, i.e., the period will include the date of retirement/ dea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The date of voluntary retirement is treated as du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D1F26-2107-4C37-B273-5875534DB8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Overview</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previous session we discussed various periods qualifying for inclusion as ‘qualifying service’ for working out the pension entitlements for Central Government employe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ddition to the qualifying service, pension entitlements are also based on the emoluments and average emoluments drawn by employe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3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BD1FA-6CC6-4E3D-92B1-8117C3D4E1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moluments for Calculation of average emoluments</a:t>
            </a: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se 10 months may, in addition to actual duty, contain the following periods als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Leave with leave salary.</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 Period of suspension counting as qualifying service for pension.</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 Period of suspension subsequently treated as duty.</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n these cases, the actual amount of leave salary/pay drawn by the Government servant should not been taken 'but the emoluments' which the Government servant would have drawn if he had been on duty in Government service should be tak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4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A231-A870-44B9-953C-9CF2448449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moluments for Calculation of average emoluments</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An increment falling due during earned leave not exceeding 120 days in any one spell should be counted as emoluments for the purposes of pension even though it cannot be actually drawn and paid till he rejoins duty. But increment falling due during the period of any other kids of leave or during the period of earned leave beyond 120 days should not be counted as emoluments, and will count as 'emoluments' only from the date he rejoins duty and draws higher rate of p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D3354-B98A-454C-8E04-E4913AF92E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moluments for Calculation of average emoluments</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Where a Government servant immediately before his retirement or death while in service had proceeded on leave with leave salary after having held a higher appointment whether in an officiating or temporary capacity, the benefit of emoluments drawn in such higher appointment shall be given only if it is certified that he would have continued to hold the higher appointment but for his proceeding on lea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A51F8-BC8B-4709-A2CA-149F81B964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moluments for Calculation of average emoluments</a:t>
            </a:r>
            <a:endParaRPr b="0" lang="en-US" sz="40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As per Rule 7 of CCS (Joining Time) Rules, 1972, a Government servant on joining time shall be treated on duty during that period and shall be entitled to be paid joining time pay equal to the pay which was drawn before relinquishment of charge in the old post. Even on reversion from higher post to a lower post, the joining time pay will be equal to the pay of the higher post, which was drawn by him before relinquishment of the charge of the old post. The pay actually drawn for the period of joining time should be taken as 'emolu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DD61-B170-4A58-9278-01A023EA90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moluments for Calculation of average emoluments-Re-employed</a:t>
            </a:r>
            <a:endParaRPr b="0" lang="en-US" sz="36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en-US" sz="3200" spc="-1" strike="noStrike">
                <a:solidFill>
                  <a:srgbClr val="000000"/>
                </a:solidFill>
                <a:latin typeface="Arial"/>
              </a:rPr>
              <a:t>	</a:t>
            </a:r>
            <a:r>
              <a:rPr b="0" lang="en-US" sz="3200" spc="-1" strike="noStrike">
                <a:solidFill>
                  <a:srgbClr val="000000"/>
                </a:solidFill>
                <a:latin typeface="Arial"/>
              </a:rPr>
              <a:t>Where a pensioner who is re-employed  in Government service elects to retain his pension for earlier service and whose pay on re-employment has been reduced by an amount not exceeding his pension, the element of pension by which his pay in the reemployed post is reduced shall be treated as 'emol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6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5F7B-3C35-47E9-8ECA-AC4484A001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moluments for Calculation of average emoluments</a:t>
            </a: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en-US" sz="3200" spc="-1" strike="noStrike">
                <a:solidFill>
                  <a:srgbClr val="000000"/>
                </a:solidFill>
                <a:latin typeface="Arial"/>
              </a:rPr>
              <a:t>	</a:t>
            </a:r>
            <a:r>
              <a:rPr b="0" lang="en-US" sz="3200" spc="-1" strike="noStrike">
                <a:solidFill>
                  <a:srgbClr val="000000"/>
                </a:solidFill>
                <a:latin typeface="Arial"/>
              </a:rPr>
              <a:t>  Only basic pay as defined under FR 9 (21) (a) (i) (no special pay or personal pay), the non-practicising allowance and stagnation increments should be taken into accou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AB1A-DA83-41EB-B768-FBFD0E7176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ermination of the period of ten months</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lculation of average emoluments is to be based on the actual number of days contained in each month.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R (voluntary)   16-6-2019</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71" name=""/>
          <p:cNvGraphicFramePr/>
          <p:nvPr/>
        </p:nvGraphicFramePr>
        <p:xfrm>
          <a:off x="609480" y="3687840"/>
          <a:ext cx="7989840" cy="2179440"/>
        </p:xfrm>
        <a:graphic>
          <a:graphicData uri="http://schemas.openxmlformats.org/drawingml/2006/table">
            <a:tbl>
              <a:tblPr/>
              <a:tblGrid>
                <a:gridCol w="3048120"/>
                <a:gridCol w="2351160"/>
                <a:gridCol w="1498680"/>
                <a:gridCol w="1091880"/>
              </a:tblGrid>
              <a:tr h="544320">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ar</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ths</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s</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44680">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8-18 to 31-8-18</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546120">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18 to 31-5-19</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44320">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9 to 16-6-19</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69B2-EA6A-46BD-B9F1-61AF8099F9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en non-qualifying periods come in as interruptions</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st 10 months may contain the following periods specifically treated as non-qualifying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Leave without p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 Suspen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i) Overstay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7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628D-FC7F-4575-95A4-EB093DFA6D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en non-qualifying periods come in as interruptions</a:t>
            </a:r>
            <a:endParaRPr b="0" lang="en-US" sz="4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eriods should be disregarded and an equal period added before 10 months. After going backward and adding such equal period, one should verify whether all the broken periods put together make up 10 full months. If they do not make up an exact 10 full months, a few days should be added or deleted in initial spell in such a way that all the broken periods add up to 10 month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A9F1-D3DA-4A93-A469-5E886E97E3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Overview</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session we will cover the general conditions applicable to determining the emoluments and average emoluments for pension entitlements of Central Government employe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583A-4DD9-4CAD-ABB8-239F076496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rning Objectiv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this session the trainees will be able to work out the emoluments and average emoluments for grant of gratuity and pension to a Central Government Employe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6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8C77F-AFBC-4A96-BD4F-1C92F34670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olument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rm 'emoluments' means basic pay defined in FR 9 (21) (a) (i) immediately before retirement or on the date of his death and  includes non-practising allowance granted to MOs and stagnation increments.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1st January 1996, Dearness Allowance drawn on the date of retirement/death in service will also be reckoned as 'emoluments' for the purpose of Service/Retirement/Death Gratuity on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0A217-3D03-46F8-B1B9-AB011BC0C2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olument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period from 01.04.2004 to 31.12.2005, Dearness Allowance equal to 50% of the 'Basic Pay' was merged with 'Basic Pay' and treated as 'Dearness Pay'. The Dearness Pay will count as 'emoluments' for the purpose of Pension/Family Pension, Service Gratuity/Retirement and Death Gratu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7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7ABB4-EFE6-493C-9B1F-0722AF62F9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oluments</a:t>
            </a:r>
            <a:endParaRPr b="0" lang="en-US" sz="4400" spc="-1" strike="noStrike">
              <a:solidFill>
                <a:srgbClr val="000000"/>
              </a:solidFill>
              <a:latin typeface="Arial"/>
            </a:endParaRPr>
          </a:p>
        </p:txBody>
      </p:sp>
      <p:sp>
        <p:nvSpPr>
          <p:cNvPr id="75" name="PlaceHolder 2"/>
          <p:cNvSpPr>
            <a:spLocks noGrp="1"/>
          </p:cNvSpPr>
          <p:nvPr>
            <p:ph/>
          </p:nvPr>
        </p:nvSpPr>
        <p:spPr>
          <a:xfrm>
            <a:off x="151920" y="1066320"/>
            <a:ext cx="8991720" cy="4953240"/>
          </a:xfrm>
          <a:prstGeom prst="rect">
            <a:avLst/>
          </a:prstGeom>
          <a:noFill/>
          <a:ln w="0">
            <a:noFill/>
          </a:ln>
        </p:spPr>
        <p:txBody>
          <a:bodyPr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various kinds of absence from duty before retirement/death, emoluments will be reckoned as follows:</a:t>
            </a:r>
            <a:endParaRPr b="0" lang="en-US" sz="2400" spc="-1" strike="noStrike">
              <a:solidFill>
                <a:srgbClr val="000000"/>
              </a:solidFill>
              <a:latin typeface="Arial"/>
            </a:endParaRPr>
          </a:p>
          <a:p>
            <a:pPr marL="335880" indent="-3358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On leave with leave salary, or under suspension followed by reinstatement without forfeiture of service, the emoluments which he would have drawn had he not been absent from duty or suspended will be reckoned. </a:t>
            </a:r>
            <a:r>
              <a:rPr b="0" lang="en-US" sz="3200" spc="-1" strike="noStrike">
                <a:solidFill>
                  <a:srgbClr val="000000"/>
                </a:solidFill>
                <a:latin typeface="Arial"/>
              </a:rPr>
              <a:t> </a:t>
            </a:r>
            <a:r>
              <a:rPr b="1" lang="en-US" sz="2400" spc="-1" strike="noStrike">
                <a:solidFill>
                  <a:srgbClr val="000000"/>
                </a:solidFill>
                <a:latin typeface="Arial"/>
              </a:rPr>
              <a:t>Provided that any increase in pay (other than the EL increment ) which is not actually drawn shall not form part of his emoluments</a:t>
            </a:r>
            <a:r>
              <a:rPr b="0" lang="en-US" sz="3200" spc="-1" strike="noStrike">
                <a:solidFill>
                  <a:srgbClr val="000000"/>
                </a:solidFill>
                <a:latin typeface="Arial"/>
              </a:rPr>
              <a:t>.</a:t>
            </a:r>
            <a:endParaRPr b="0" lang="en-US" sz="3200" spc="-1" strike="noStrike">
              <a:solidFill>
                <a:srgbClr val="000000"/>
              </a:solidFill>
              <a:latin typeface="Arial"/>
            </a:endParaRPr>
          </a:p>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benefit of emoluments drawn in higher officiating appointments will be given if it is certified that he would have continued to hold the higher appointment but for his proceeding on lea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1B541-EE5F-425D-9DB7-C9A7BC5D09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olument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On EOL the emoluments drawn immediately before proceeding on EOL will be reckoned irrespective of whether the extraordinary leave is reckoned as 'qualifying service' or not.</a:t>
            </a:r>
            <a:endParaRPr b="0" lang="en-US" sz="2800" spc="-1" strike="noStrike">
              <a:solidFill>
                <a:srgbClr val="000000"/>
              </a:solidFill>
              <a:latin typeface="Arial"/>
            </a:endParaRPr>
          </a:p>
          <a:p>
            <a:pPr marL="329040" indent="-3290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If he is on Earned leave before retirement/ death and earns an increment; during such leave (but it is not withheld), the increment will also be reckoned as emoluments (though it is not actually paid) if it falls due during the first 120 days of earned lea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D89B0-39E9-4C3D-9EF5-AA4B86B282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olument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Pay drawn while on Foreign Service will not be treated as emoluments, but the pay, which he would have drawn under Government, had he not been on Foreign Service, will alone be treated as emoluments.</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en-US" sz="2800" spc="-1" strike="noStrike">
                <a:solidFill>
                  <a:srgbClr val="000000"/>
                </a:solidFill>
                <a:latin typeface="Arial"/>
              </a:rPr>
              <a:t>	</a:t>
            </a:r>
            <a:r>
              <a:rPr b="0" lang="en-US" sz="2800" spc="-1" strike="noStrike">
                <a:solidFill>
                  <a:srgbClr val="000000"/>
                </a:solidFill>
                <a:latin typeface="Arial"/>
              </a:rPr>
              <a:t>If transferred to an Autonomous Body consequent on the conversion of a government department into an Autonomous Body, and the Government servant opts to retain the pensionary benefits under the rules of the Government, emoluments drawn under the Autonomous Body will be reckoned. (Rule 3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6:14:50Z</dcterms:created>
  <dc:creator> a g officejammu</dc:creator>
  <dc:description/>
  <dc:language>en-US</dc:language>
  <cp:lastModifiedBy>hp</cp:lastModifiedBy>
  <dcterms:modified xsi:type="dcterms:W3CDTF">2019-07-04T12:11:59Z</dcterms:modified>
  <cp:revision>29</cp:revision>
  <dc:subject/>
  <dc:title>Emoluments and  Average Emoluments</dc:title>
</cp:coreProperties>
</file>