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4A038A-2E28-4CDA-A45A-B87D3F6F9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E4703-E897-4216-8B72-25BCFA352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B2AB48-62F8-4ECB-8C99-C2B53F37A1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84E323-CF73-421C-A091-185B0B3939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2D02C-BE51-4263-8A7E-8005416AD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CE80D-09CC-4322-955B-8C9A7C9C7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859EF-1039-4A63-A39C-16620BBEB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14381-A651-4898-8480-855188280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0271B-A49F-44E3-9D56-AA3A60219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9CA27-FA70-41E1-9DDF-261DB6A51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3A73F-3BC6-401D-979A-0F29305B2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E1538-E0EF-47A1-ACC3-B067F326D2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e Breaking</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34FFC-34DC-43BF-98BE-C78CBE148F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e Breaking</a:t>
            </a:r>
            <a:endParaRPr b="0" lang="en-US" sz="1400" spc="-1" strike="noStrike">
              <a:solidFill>
                <a:srgbClr val="000000"/>
              </a:solidFill>
              <a:latin typeface="Arial"/>
            </a:endParaRPr>
          </a:p>
        </p:txBody>
      </p:sp>
      <p:sp>
        <p:nvSpPr>
          <p:cNvPr id="4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BA933-D17F-4D6E-B215-207D07BADC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rse Outline</a:t>
            </a:r>
            <a:endParaRPr b="0" lang="en-US" sz="44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e Breaking</a:t>
            </a:r>
            <a:endParaRPr b="0" lang="en-US" sz="1400" spc="-1" strike="noStrike">
              <a:solidFill>
                <a:srgbClr val="000000"/>
              </a:solidFill>
              <a:latin typeface="Arial"/>
            </a:endParaRPr>
          </a:p>
        </p:txBody>
      </p:sp>
      <p:sp>
        <p:nvSpPr>
          <p:cNvPr id="8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CBE8C-2848-47CD-ACDF-046A5F33C0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rse Outline</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ssion 8- Commutation of Pensio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ctive: At the end of the session the trainees will be able to state the procedure for commutation of pension and also work out the family pension admissible to the family of a Central Government employee or pensioner who dies while in service or after retiremen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e Breaking</a:t>
            </a:r>
            <a:endParaRPr b="0" lang="en-US" sz="1400" spc="-1" strike="noStrike">
              <a:solidFill>
                <a:srgbClr val="000000"/>
              </a:solidFill>
              <a:latin typeface="Arial"/>
            </a:endParaRPr>
          </a:p>
        </p:txBody>
      </p:sp>
      <p:sp>
        <p:nvSpPr>
          <p:cNvPr id="9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A847F-50D5-48F9-A489-45AFE368C5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rse Outline</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ssion 9- Central Civil Services (Extraordinary Pension) Rules, 1939</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ctive: At the end of this session, the trainees will be able to state the circumstances in which the Central Civil Services (Extraordinary Pension) Rules, 1939 are applicable to the Central Government employees and the procedure for the application of these rules and benefits available under these rule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e Breaking</a:t>
            </a:r>
            <a:endParaRPr b="0" lang="en-US" sz="1400" spc="-1" strike="noStrike">
              <a:solidFill>
                <a:srgbClr val="000000"/>
              </a:solidFill>
              <a:latin typeface="Arial"/>
            </a:endParaRPr>
          </a:p>
        </p:txBody>
      </p:sp>
      <p:sp>
        <p:nvSpPr>
          <p:cNvPr id="9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9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15DD5-625E-4790-B6F5-634A82277C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rse Outline</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ssion 10- Test, Conclusion and Valediction (Objective: This session will be utilized to test the comprehension of the subject by trainees through a multidimensional test exercise.  The course will also be concluded by valediction and distribution of certificates of participation in the training cours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e Breaking</a:t>
            </a:r>
            <a:endParaRPr b="0" lang="en-US" sz="1400" spc="-1" strike="noStrike">
              <a:solidFill>
                <a:srgbClr val="000000"/>
              </a:solidFill>
              <a:latin typeface="Arial"/>
            </a:endParaRPr>
          </a:p>
        </p:txBody>
      </p:sp>
      <p:sp>
        <p:nvSpPr>
          <p:cNvPr id="4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4E18F-CDE0-4149-A78E-561C50DF0F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rse Objectiv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end of this training course  the participants will be able to state and workout the Pension Entitlements of Central Government Employe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e Breaking</a:t>
            </a:r>
            <a:endParaRPr b="0" lang="en-US" sz="1400" spc="-1" strike="noStrike">
              <a:solidFill>
                <a:srgbClr val="000000"/>
              </a:solidFill>
              <a:latin typeface="Arial"/>
            </a:endParaRPr>
          </a:p>
        </p:txBody>
      </p:sp>
      <p:sp>
        <p:nvSpPr>
          <p:cNvPr id="5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DC93F-4110-4259-AE11-47AE60175C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rse outlin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ssion 1- Registration, Introduction and Inauguration (</a:t>
            </a:r>
            <a:r>
              <a:rPr b="1" lang="en-US" sz="3200" spc="-1" strike="noStrike">
                <a:solidFill>
                  <a:srgbClr val="000000"/>
                </a:solidFill>
                <a:latin typeface="Arial"/>
              </a:rPr>
              <a:t>Objective</a:t>
            </a:r>
            <a:r>
              <a:rPr b="0" lang="en-US" sz="3200" spc="-1" strike="noStrike">
                <a:solidFill>
                  <a:srgbClr val="000000"/>
                </a:solidFill>
                <a:latin typeface="Arial"/>
              </a:rPr>
              <a:t>: This activity is intended to help you get to share personal information about each other and thereby get to know each other better and also to inform you about the course objective and course outli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e Breaking</a:t>
            </a:r>
            <a:endParaRPr b="0" lang="en-US" sz="1400" spc="-1" strike="noStrike">
              <a:solidFill>
                <a:srgbClr val="000000"/>
              </a:solidFill>
              <a:latin typeface="Arial"/>
            </a:endParaRPr>
          </a:p>
        </p:txBody>
      </p:sp>
      <p:sp>
        <p:nvSpPr>
          <p:cNvPr id="5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AC970-7284-439E-9248-4A358051F0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rse Outline</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ssion 2- Pension Entitlements-an introduc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 At the end of this session the trainees will be able to state introduction to pension entitlements,NPS and evolution of rules and regulations governing pensionary benefi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e Breaking</a:t>
            </a:r>
            <a:endParaRPr b="0" lang="en-US" sz="1400" spc="-1" strike="noStrike">
              <a:solidFill>
                <a:srgbClr val="000000"/>
              </a:solidFill>
              <a:latin typeface="Arial"/>
            </a:endParaRPr>
          </a:p>
        </p:txBody>
      </p:sp>
      <p:sp>
        <p:nvSpPr>
          <p:cNvPr id="6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F89A7-2054-44E2-80B8-2A70A1255A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rse Outline</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ssion 3-Pension Entitlements -General Conditions and Class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 At the end of this session the trainees will be able to state the conditions applicable to grant of pension to Central Government employees and different classes of pension applicable to the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e Breaking</a:t>
            </a:r>
            <a:endParaRPr b="0" lang="en-US" sz="1400" spc="-1" strike="noStrike">
              <a:solidFill>
                <a:srgbClr val="000000"/>
              </a:solidFill>
              <a:latin typeface="Arial"/>
            </a:endParaRPr>
          </a:p>
        </p:txBody>
      </p:sp>
      <p:sp>
        <p:nvSpPr>
          <p:cNvPr id="6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0E1EA-DE09-40AB-910A-4280EF78FD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rse Outline</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ssion 4- Pension Entitlements-Qualifying Serv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 At the end of this session the trainees will be able to work out the qualifying service for grant of pension to a Central Government Employe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e Breaking</a:t>
            </a:r>
            <a:endParaRPr b="0" lang="en-US" sz="1400" spc="-1" strike="noStrike">
              <a:solidFill>
                <a:srgbClr val="000000"/>
              </a:solidFill>
              <a:latin typeface="Arial"/>
            </a:endParaRPr>
          </a:p>
        </p:txBody>
      </p:sp>
      <p:sp>
        <p:nvSpPr>
          <p:cNvPr id="7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86ED7-8E4A-4A80-9433-F1EF89FAAC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rse Outline</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ssion 5- Emoluments and Average Emolumen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 At the end of this session the trainees will be able to work out the emoluments and average emoluments for grant of gratuity and pension to a Central Government Employe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e Breaking</a:t>
            </a:r>
            <a:endParaRPr b="0" lang="en-US" sz="1400" spc="-1" strike="noStrike">
              <a:solidFill>
                <a:srgbClr val="000000"/>
              </a:solidFill>
              <a:latin typeface="Arial"/>
            </a:endParaRPr>
          </a:p>
        </p:txBody>
      </p:sp>
      <p:sp>
        <p:nvSpPr>
          <p:cNvPr id="7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078B1-256F-40A3-92C2-A88984E08A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rse Outline</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ssion 6- </a:t>
            </a:r>
            <a:r>
              <a:rPr b="1" lang="en-US" sz="3600" spc="-1" strike="noStrike">
                <a:solidFill>
                  <a:srgbClr val="000000"/>
                </a:solidFill>
                <a:latin typeface="Arial"/>
              </a:rPr>
              <a:t>Amount of Pension and Gratuity.</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ctive: At the end of this session the trainees will be able to work out the pension and gratuity entitlements of Central Governments employees from the given qualifying service and the given emoluments.</a:t>
            </a:r>
            <a:r>
              <a:rPr b="0" lang="en-US" sz="3200" spc="-1" strike="noStrike">
                <a:solidFill>
                  <a:srgbClr val="000000"/>
                </a:solidFill>
                <a:latin typeface="Arial"/>
              </a:rPr>
              <a:t> </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e Breaking</a:t>
            </a:r>
            <a:endParaRPr b="0" lang="en-US" sz="1400" spc="-1" strike="noStrike">
              <a:solidFill>
                <a:srgbClr val="000000"/>
              </a:solidFill>
              <a:latin typeface="Arial"/>
            </a:endParaRPr>
          </a:p>
        </p:txBody>
      </p:sp>
      <p:sp>
        <p:nvSpPr>
          <p:cNvPr id="8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676FA-775F-444C-909D-B49FBFFD82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rse Outline</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ssion 7- Authorization of Pension and Gratuit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ctive: At the end of the session the trainees will be able to state the prescribed procedure for authorization of pension entitlements of Central Government employees.</a:t>
            </a:r>
            <a:r>
              <a:rPr b="0" lang="en-US" sz="3200" spc="-1" strike="noStrike">
                <a:solidFill>
                  <a:srgbClr val="000000"/>
                </a:solidFill>
                <a:latin typeface="Arial"/>
              </a:rPr>
              <a:t> </a:t>
            </a:r>
            <a:r>
              <a:rPr b="1" lang="en-US"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3T06:49:15Z</dcterms:created>
  <dc:creator> a g officejammu</dc:creator>
  <dc:description/>
  <dc:language>en-US</dc:language>
  <cp:lastModifiedBy>HP</cp:lastModifiedBy>
  <dcterms:modified xsi:type="dcterms:W3CDTF">2019-06-16T15:27:36Z</dcterms:modified>
  <cp:revision>9</cp:revision>
  <dc:subject/>
  <dc:title>Learning Objective</dc:title>
</cp:coreProperties>
</file>