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9947275"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11A84-FD90-4E71-92EE-D8C628534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FD764-3417-4911-9ACE-F79818D1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1BA14-1CAF-48C2-8048-DD65D6715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3D428-F118-4234-BEE0-D9362BB07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38C82-B70B-47AB-BF1A-5A1C1A929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BF272-2035-440F-AA99-A7C8531AA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B1705-F131-4FEE-92C5-315C601B1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8986E-B8F0-42C8-A83D-E9BA0C0EB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E3514-FF9D-45E6-9B29-F85DD8A8D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05B10-D33F-42DD-A4B1-C93AD7B83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E3CAA-CCBC-45DE-93AF-AD7B12440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94CEC-60DF-4429-83B4-15B7BB81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FD615-87ED-4D63-A69B-E5A9283A4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D2EA3-9D59-4010-8287-2FDEEEDD9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E31BF-9A4A-49CA-A05A-CFCD8F3C1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00653-514B-43E2-8805-6C331F2D9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7B53F-C533-40B0-988F-6A79127D2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16C98-DEB7-4A28-A2FB-C63B7AF59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5D089-66CA-4618-9B8B-5C07862B6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A59AC-E2A3-452A-8DFB-942AEEC20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68655-4FFF-433C-9A9C-061D6F9F8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80354-CDA9-47B1-9C38-7A1316B4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94C5-883E-46BA-93C1-7658DCB2E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06E4-59BD-4157-847F-4787D7F5B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RTI Jammu</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Pension Entitlements</a:t>
            </a:r>
            <a:endParaRPr b="0" lang="en-US" sz="9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A960-B3E5-4C7E-940C-763ECB48044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A2E1-9D5F-40E6-A6D6-C2058895069A}" type="slidenum">
              <a:rPr b="0" lang="en-I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05120"/>
            <a:ext cx="7772400" cy="3124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900" spc="-1" strike="noStrike">
                <a:solidFill>
                  <a:srgbClr val="000000"/>
                </a:solidFill>
                <a:latin typeface="Calibri Light"/>
              </a:rPr>
              <a:t>INTRODUCTION TO PENSION</a:t>
            </a:r>
            <a:r>
              <a:rPr b="1" lang="en-US" sz="3700" spc="-1" strike="noStrike">
                <a:solidFill>
                  <a:srgbClr val="000000"/>
                </a:solidFill>
                <a:latin typeface="Calibri Light"/>
              </a:rPr>
              <a:t> </a:t>
            </a:r>
            <a:endParaRPr b="0" lang="en-US" sz="3700" spc="-1" strike="noStrike">
              <a:solidFill>
                <a:srgbClr val="000000"/>
              </a:solidFill>
              <a:latin typeface="Calibri Light"/>
            </a:endParaRPr>
          </a:p>
        </p:txBody>
      </p:sp>
      <p:sp>
        <p:nvSpPr>
          <p:cNvPr id="83" name="PlaceHolder 2"/>
          <p:cNvSpPr>
            <a:spLocks noGrp="1"/>
          </p:cNvSpPr>
          <p:nvPr>
            <p:ph type="subTitle"/>
          </p:nvPr>
        </p:nvSpPr>
        <p:spPr>
          <a:xfrm>
            <a:off x="837720" y="2514600"/>
            <a:ext cx="7620120" cy="373392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84" name="Rectangle 7"/>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5" name="Rectangle 8"/>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86" name="Rectangle 9"/>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2C18-9045-45CB-ABBD-A62850027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28" name=""/>
          <p:cNvSpPr txBox="1"/>
          <p:nvPr/>
        </p:nvSpPr>
        <p:spPr>
          <a:xfrm>
            <a:off x="661680" y="1904760"/>
            <a:ext cx="7948440" cy="472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ensionary system in India seems to have originated about the middle of the last century as a non-contributory system on the lines prevalent in the UK.</a:t>
            </a:r>
            <a:endParaRPr b="0" lang="en-US" sz="2100" spc="-1" strike="noStrike">
              <a:solidFill>
                <a:srgbClr val="000000"/>
              </a:solidFill>
              <a:latin typeface="Calibri"/>
            </a:endParaRPr>
          </a:p>
        </p:txBody>
      </p:sp>
      <p:sp>
        <p:nvSpPr>
          <p:cNvPr id="12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3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17ED-F37E-414C-AD01-11ECCC415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Pension is not deferred pay</a:t>
            </a:r>
            <a:endParaRPr b="0" lang="en-US" sz="2900" spc="-1" strike="noStrike">
              <a:solidFill>
                <a:srgbClr val="000000"/>
              </a:solidFill>
              <a:latin typeface="Calibri Light"/>
            </a:endParaRPr>
          </a:p>
        </p:txBody>
      </p:sp>
      <p:sp>
        <p:nvSpPr>
          <p:cNvPr id="13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nsion is regarded  in many quarters as deferred pay.</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Government have not accepted this concept.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 employee is not eligible for pension unless the qualifying service is paid for and in rendered in a post under the Government.</a:t>
            </a:r>
            <a:endParaRPr b="0" lang="en-US" sz="2100" spc="-1" strike="noStrike">
              <a:solidFill>
                <a:srgbClr val="000000"/>
              </a:solidFill>
              <a:latin typeface="Calibri"/>
            </a:endParaRPr>
          </a:p>
        </p:txBody>
      </p:sp>
      <p:sp>
        <p:nvSpPr>
          <p:cNvPr id="13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3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79A5-48DF-448E-8286-E781AE7E3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Pension is not deferred pay</a:t>
            </a:r>
            <a:endParaRPr b="0" lang="en-US" sz="2900" spc="-1" strike="noStrike">
              <a:solidFill>
                <a:srgbClr val="000000"/>
              </a:solidFill>
              <a:latin typeface="Calibri Light"/>
            </a:endParaRPr>
          </a:p>
        </p:txBody>
      </p:sp>
      <p:sp>
        <p:nvSpPr>
          <p:cNvPr id="13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the recent past, provision was made for grant of pension to the employees who did not hold substantive appointment at the time of retirement; but had rendered not less than ten years of service if they retire on superannuation or invalidation or rendered not less than twenty years and retire voluntarily. </a:t>
            </a:r>
            <a:endParaRPr b="0" lang="en-US" sz="2100" spc="-1" strike="noStrike">
              <a:solidFill>
                <a:srgbClr val="000000"/>
              </a:solidFill>
              <a:latin typeface="Calibri"/>
            </a:endParaRPr>
          </a:p>
        </p:txBody>
      </p:sp>
      <p:sp>
        <p:nvSpPr>
          <p:cNvPr id="13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4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264F-7055-47B4-A917-FB3A68AD1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nsion is not deferred pay</a:t>
            </a:r>
            <a:endParaRPr b="0" lang="en-US" sz="3300" spc="-1" strike="noStrike">
              <a:solidFill>
                <a:srgbClr val="000000"/>
              </a:solidFill>
              <a:latin typeface="Calibri Light"/>
            </a:endParaRPr>
          </a:p>
        </p:txBody>
      </p:sp>
      <p:sp>
        <p:nvSpPr>
          <p:cNvPr id="14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Future good conduct of the pensioner is an implied condition for every grant of pension and its continuance in future. If the pensioner is convicted of a serious crime or is found guilty of grave misconduct, the appointing authority can withdraw the pension in full or in part, either permanently or for a specified period.</a:t>
            </a:r>
            <a:endParaRPr b="0" lang="en-US" sz="3200" spc="-1" strike="noStrike">
              <a:solidFill>
                <a:srgbClr val="000000"/>
              </a:solidFill>
              <a:latin typeface="Calibri"/>
            </a:endParaRPr>
          </a:p>
        </p:txBody>
      </p:sp>
      <p:sp>
        <p:nvSpPr>
          <p:cNvPr id="14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4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6C6B-EB42-44BF-9EB5-AF647C290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The value of pension</a:t>
            </a:r>
            <a:endParaRPr b="0" lang="en-US" sz="2900" spc="-1" strike="noStrike">
              <a:solidFill>
                <a:srgbClr val="000000"/>
              </a:solidFill>
              <a:latin typeface="Calibri Light"/>
            </a:endParaRPr>
          </a:p>
        </p:txBody>
      </p:sp>
      <p:sp>
        <p:nvSpPr>
          <p:cNvPr id="14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 </a:t>
            </a:r>
            <a:r>
              <a:rPr b="0" lang="en-US" sz="2700" spc="-1" strike="noStrike">
                <a:solidFill>
                  <a:srgbClr val="000000"/>
                </a:solidFill>
                <a:latin typeface="Calibri"/>
              </a:rPr>
              <a:t>A</a:t>
            </a:r>
            <a:r>
              <a:rPr b="1" lang="en-US" sz="2700" spc="-1" strike="noStrike">
                <a:solidFill>
                  <a:srgbClr val="000000"/>
                </a:solidFill>
                <a:latin typeface="Calibri"/>
              </a:rPr>
              <a:t> </a:t>
            </a:r>
            <a:r>
              <a:rPr b="0" lang="en-US" sz="2700" spc="-1" strike="noStrike">
                <a:solidFill>
                  <a:srgbClr val="000000"/>
                </a:solidFill>
                <a:latin typeface="Calibri"/>
              </a:rPr>
              <a:t>pension has in essence the character of a conditional entitlement and the root  of the idea of pension lies in a long-term relationship between the employer and the employee of a service normally spanning an employee's whole working life, followed by the annuity for the rest of his life. </a:t>
            </a:r>
            <a:endParaRPr b="0" lang="en-US" sz="27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Pension is an objective and a cherished goal one works up to and looks forward to. </a:t>
            </a:r>
            <a:endParaRPr b="0" lang="en-US" sz="2700" spc="-1" strike="noStrike">
              <a:solidFill>
                <a:srgbClr val="000000"/>
              </a:solidFill>
              <a:latin typeface="Calibri"/>
            </a:endParaRPr>
          </a:p>
        </p:txBody>
      </p:sp>
      <p:sp>
        <p:nvSpPr>
          <p:cNvPr id="14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5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B010-7221-44A5-A2B7-133DBECCC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The value of pension</a:t>
            </a:r>
            <a:endParaRPr b="0" lang="en-US" sz="2900" spc="-1" strike="noStrike">
              <a:solidFill>
                <a:srgbClr val="000000"/>
              </a:solidFill>
              <a:latin typeface="Calibri Light"/>
            </a:endParaRPr>
          </a:p>
        </p:txBody>
      </p:sp>
      <p:sp>
        <p:nvSpPr>
          <p:cNvPr id="15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It is the culmination of the long journey in one's service career. Once a man has earned his pension after hard labour of several years, he can afford to relax and start enjoying the fruit as long as he is gifted to liv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nsion is valuable in the sense that it is secure. </a:t>
            </a:r>
            <a:endParaRPr b="0" lang="en-US" sz="2100" spc="-1" strike="noStrike">
              <a:solidFill>
                <a:srgbClr val="000000"/>
              </a:solidFill>
              <a:latin typeface="Calibri"/>
            </a:endParaRPr>
          </a:p>
        </p:txBody>
      </p:sp>
      <p:sp>
        <p:nvSpPr>
          <p:cNvPr id="15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5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DCF1-35D2-4791-9CC4-DEA090D9E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The value of pension</a:t>
            </a:r>
            <a:endParaRPr b="0" lang="en-US" sz="3300" spc="-1" strike="noStrike">
              <a:solidFill>
                <a:srgbClr val="000000"/>
              </a:solidFill>
              <a:latin typeface="Calibri Light"/>
            </a:endParaRPr>
          </a:p>
        </p:txBody>
      </p:sp>
      <p:sp>
        <p:nvSpPr>
          <p:cNvPr id="15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Supreme Court has held that pension is a valuable right vested in a Government servant and that the right to receive pension is property under Article 31 (1) of the Constitution and if it is denied to an employee, a writ of mandamus could be issued to the State to properly consider the claim; of the pensioner for payment of pension according to law. </a:t>
            </a:r>
            <a:endParaRPr b="0" lang="en-US" sz="2700" spc="-1" strike="noStrike">
              <a:solidFill>
                <a:srgbClr val="000000"/>
              </a:solidFill>
              <a:latin typeface="Calibri"/>
            </a:endParaRPr>
          </a:p>
        </p:txBody>
      </p:sp>
      <p:sp>
        <p:nvSpPr>
          <p:cNvPr id="15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6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408A-6BB2-47FE-8D67-EA0DCBEF6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The value of pension</a:t>
            </a:r>
            <a:endParaRPr b="0" lang="en-US" sz="3300" spc="-1" strike="noStrike">
              <a:solidFill>
                <a:srgbClr val="000000"/>
              </a:solidFill>
              <a:latin typeface="Calibri Light"/>
            </a:endParaRPr>
          </a:p>
        </p:txBody>
      </p:sp>
      <p:sp>
        <p:nvSpPr>
          <p:cNvPr id="16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us, Courts will not allow refusal, reduction, forfeiture of pension unless there are genuine grounds for doing so, and the employees can also seek redress in the Courts of law, whenever they feel that justice has been denied to them.</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6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91DA-53A1-4087-80BA-B0F77AC01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The value of pension</a:t>
            </a:r>
            <a:endParaRPr b="0" lang="en-US" sz="3300" spc="-1" strike="noStrike">
              <a:solidFill>
                <a:srgbClr val="000000"/>
              </a:solidFill>
              <a:latin typeface="Calibri Light"/>
            </a:endParaRPr>
          </a:p>
        </p:txBody>
      </p:sp>
      <p:sp>
        <p:nvSpPr>
          <p:cNvPr id="16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Only misconduct of the gravest character can lead to forfeiture of a pension once sanctioned. Pension is also secure against attachment, seizure or sequestration by process of any Court of Law.</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16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7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411B-A849-48E6-8937-9431FA12F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The value of pension</a:t>
            </a:r>
            <a:endParaRPr b="0" lang="en-US" sz="3300" spc="-1" strike="noStrike">
              <a:solidFill>
                <a:srgbClr val="000000"/>
              </a:solidFill>
              <a:latin typeface="Calibri Light"/>
            </a:endParaRPr>
          </a:p>
        </p:txBody>
      </p:sp>
      <p:sp>
        <p:nvSpPr>
          <p:cNvPr id="17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mounts owed by the pensioner to Government though undisputed cannot be recovered by deduction from pension except with his express consen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ension is thus a sacrosanct and a protected possession and is, therefore, greatly valued.</a:t>
            </a:r>
            <a:endParaRPr b="0" lang="en-US" sz="2800" spc="-1" strike="noStrike">
              <a:solidFill>
                <a:srgbClr val="000000"/>
              </a:solidFill>
              <a:latin typeface="Calibri"/>
            </a:endParaRPr>
          </a:p>
        </p:txBody>
      </p:sp>
      <p:sp>
        <p:nvSpPr>
          <p:cNvPr id="17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7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DC4F-5326-4917-9450-FD040FEA8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Introduction</a:t>
            </a:r>
            <a:endParaRPr b="0" lang="en-US" sz="3300" spc="-1" strike="noStrike">
              <a:solidFill>
                <a:srgbClr val="000000"/>
              </a:solidFill>
              <a:latin typeface="Calibri Light"/>
            </a:endParaRPr>
          </a:p>
        </p:txBody>
      </p:sp>
      <p:sp>
        <p:nvSpPr>
          <p:cNvPr id="8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nsion is an important post-retirement benefit for employe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uch more important for Government Servants as it is the only significant source of sustenance for them in their post retirement years. </a:t>
            </a:r>
            <a:endParaRPr b="0" lang="en-US" sz="2100" spc="-1" strike="noStrike">
              <a:solidFill>
                <a:srgbClr val="000000"/>
              </a:solidFill>
              <a:latin typeface="Calibri"/>
            </a:endParaRPr>
          </a:p>
        </p:txBody>
      </p:sp>
      <p:sp>
        <p:nvSpPr>
          <p:cNvPr id="8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9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A3D1-E11C-40B3-911F-A7B824DBF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7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Pension Rules for Central Government servants were mostly included in the Civil Service Regulations and the Superior Civil Service Rules until April 1950.</a:t>
            </a:r>
            <a:endParaRPr b="0" lang="en-US" sz="27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Liberalized in 1950 through a memorandum issued by M/o Finance.</a:t>
            </a:r>
            <a:endParaRPr b="0" lang="en-US" sz="27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liberalization in 1950 not in the form of amendment to rules, nevertheless came to be referred to as ‘Liberalized Pension Rules’. </a:t>
            </a:r>
            <a:endParaRPr b="0" lang="en-US" sz="27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7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8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FEE8-5C39-4565-98B5-957AF2BF2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8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amily Pension Scheme, 1964 introduced by Finance Ministry vide  O.M. No. 9 (16)-e. V/63, dated the 31st December, 1963, which was also amended by a number of Office Memoranda issued thereafter. </a:t>
            </a:r>
            <a:endParaRPr b="0" lang="en-US" sz="2100" spc="-1" strike="noStrike">
              <a:solidFill>
                <a:srgbClr val="000000"/>
              </a:solidFill>
              <a:latin typeface="Calibri"/>
            </a:endParaRPr>
          </a:p>
        </p:txBody>
      </p:sp>
      <p:sp>
        <p:nvSpPr>
          <p:cNvPr id="18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8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BB31-E747-4F1B-BCE9-19F373C1B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8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facilitate easy reference and proper comprehension, the provisions were brought out by the Government at one place in the form of statutory rules titled, "The Central Civil Services (Pension) Rules, 1972", which came into force with effect from 1st June, 1972. </a:t>
            </a:r>
            <a:endParaRPr b="0" lang="en-US" sz="2100" spc="-1" strike="noStrike">
              <a:solidFill>
                <a:srgbClr val="000000"/>
              </a:solidFill>
              <a:latin typeface="Calibri"/>
            </a:endParaRPr>
          </a:p>
        </p:txBody>
      </p:sp>
      <p:sp>
        <p:nvSpPr>
          <p:cNvPr id="18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9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43CB-2BFF-4F64-9614-2A5C89648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9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Henceforth, the grant of pensionary benefits to the Central Government employees are governed by the provisions contained in these rules.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new defined contributory pension scheme was introduced for Central Government employees appointed on or after 1st January 2004. </a:t>
            </a:r>
            <a:endParaRPr b="0" lang="en-US" sz="2100" spc="-1" strike="noStrike">
              <a:solidFill>
                <a:srgbClr val="000000"/>
              </a:solidFill>
              <a:latin typeface="Calibri"/>
            </a:endParaRPr>
          </a:p>
        </p:txBody>
      </p:sp>
      <p:sp>
        <p:nvSpPr>
          <p:cNvPr id="19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9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59D1-6089-44A1-84D9-1ED7E36AA6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160"/>
            <a:ext cx="769608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98" name=""/>
          <p:cNvSpPr txBox="1"/>
          <p:nvPr/>
        </p:nvSpPr>
        <p:spPr>
          <a:xfrm>
            <a:off x="152280" y="1905120"/>
            <a:ext cx="8763120" cy="4038480"/>
          </a:xfrm>
          <a:prstGeom prst="rect">
            <a:avLst/>
          </a:prstGeom>
          <a:noFill/>
          <a:ln w="0">
            <a:noFill/>
          </a:ln>
        </p:spPr>
        <p:txBody>
          <a:bodyPr anchor="t">
            <a:normAutofit/>
          </a:bodyPr>
          <a:p>
            <a:pPr marL="639720" indent="-63972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CCS (Pension) Rules 1972 are applicable to all permanent Central Government servants including civilian Government servants in the Defence services borne on pensionable establishments, appointed on or before 31st day of December, 2003, but are not applicable to:</a:t>
            </a:r>
            <a:endParaRPr b="0" lang="en-US" sz="2700" spc="-1" strike="noStrike">
              <a:solidFill>
                <a:srgbClr val="000000"/>
              </a:solidFill>
              <a:latin typeface="Calibri"/>
            </a:endParaRPr>
          </a:p>
          <a:p>
            <a:pPr marL="639720" indent="-6397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Railway Employees;</a:t>
            </a:r>
            <a:endParaRPr b="0" lang="en-US" sz="2700" spc="-1" strike="noStrike">
              <a:solidFill>
                <a:srgbClr val="000000"/>
              </a:solidFill>
              <a:latin typeface="Calibri"/>
            </a:endParaRPr>
          </a:p>
          <a:p>
            <a:pPr marL="639720" indent="-6397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Members of All India Services (viz., IAS, IPS &amp; IFS).</a:t>
            </a:r>
            <a:endParaRPr b="0" lang="en-US" sz="2700" spc="-1" strike="noStrike">
              <a:solidFill>
                <a:srgbClr val="000000"/>
              </a:solidFill>
              <a:latin typeface="Calibri"/>
            </a:endParaRPr>
          </a:p>
          <a:p>
            <a:pPr marL="639720" indent="-6397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Persons entitled to a CPF, paid from contingencies, person recruited for service in diplomatic, consular or other Indian establishments in foreign etc</a:t>
            </a:r>
            <a:endParaRPr b="0" lang="en-US" sz="2700" spc="-1" strike="noStrike">
              <a:solidFill>
                <a:srgbClr val="000000"/>
              </a:solidFill>
              <a:latin typeface="Calibri"/>
            </a:endParaRPr>
          </a:p>
        </p:txBody>
      </p:sp>
      <p:sp>
        <p:nvSpPr>
          <p:cNvPr id="19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0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3745-01F9-4800-BAFE-46ACA52F5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I Jammu</a:t>
            </a:r>
            <a:endParaRPr b="0" lang="en-US" sz="900" spc="-1" strike="noStrike">
              <a:solidFill>
                <a:srgbClr val="000000"/>
              </a:solidFill>
              <a:latin typeface="Arial"/>
            </a:endParaRPr>
          </a:p>
        </p:txBody>
      </p:sp>
      <p:sp>
        <p:nvSpPr>
          <p:cNvPr id="203"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nsion Entitlements</a:t>
            </a:r>
            <a:endParaRPr b="0" lang="en-US" sz="900" spc="-1" strike="noStrike">
              <a:solidFill>
                <a:srgbClr val="000000"/>
              </a:solidFill>
              <a:latin typeface="Arial"/>
            </a:endParaRPr>
          </a:p>
        </p:txBody>
      </p:sp>
      <p:sp>
        <p:nvSpPr>
          <p:cNvPr id="204"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E685-FB8C-4A68-BC72-A616BDC1ED3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205" name=""/>
          <p:cNvGraphicFramePr/>
          <p:nvPr/>
        </p:nvGraphicFramePr>
        <p:xfrm>
          <a:off x="304920" y="1203480"/>
          <a:ext cx="8686800" cy="4892400"/>
        </p:xfrm>
        <a:graphic>
          <a:graphicData uri="http://schemas.openxmlformats.org/drawingml/2006/table">
            <a:tbl>
              <a:tblPr/>
              <a:tblGrid>
                <a:gridCol w="1476360"/>
                <a:gridCol w="1388880"/>
                <a:gridCol w="1562040"/>
                <a:gridCol w="1938600"/>
                <a:gridCol w="2092320"/>
                <a:gridCol w="228600"/>
              </a:tblGrid>
              <a:tr h="11430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EARL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V CPC</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w.e.f 1.1.199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VI CPC</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w.e.f 1.1.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VII CPC</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w.e.f 1.120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Min Pension (per month)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3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1,2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3,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9,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Max Pension</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per month)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4,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15,000 </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50% of highest p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45,000</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50% of highest pay)</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IN" sz="1800" spc="-1" strike="noStrike">
                          <a:solidFill>
                            <a:srgbClr val="000000"/>
                          </a:solidFill>
                          <a:latin typeface="Calibri"/>
                        </a:rPr>
                        <a:t>Excl Addl pension</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1,25,000</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50% of 2.5lakh)</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IN" sz="1800" spc="-1" strike="noStrike">
                          <a:solidFill>
                            <a:srgbClr val="000000"/>
                          </a:solidFill>
                          <a:latin typeface="Calibri"/>
                        </a:rPr>
                        <a:t>Excl Addl pen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30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Gratu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2.5 lak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3.5 lak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10 lak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20 lak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6" name="Rectangle 4"/>
          <p:cNvSpPr/>
          <p:nvPr/>
        </p:nvSpPr>
        <p:spPr>
          <a:xfrm>
            <a:off x="1066680" y="304920"/>
            <a:ext cx="6477120" cy="60948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Pension &amp; Gratuity ceiling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228240"/>
            <a:ext cx="769608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Pension highlights (V CPC)</a:t>
            </a:r>
            <a:endParaRPr b="0" lang="en-US" sz="3300" spc="-1" strike="noStrike">
              <a:solidFill>
                <a:srgbClr val="000000"/>
              </a:solidFill>
              <a:latin typeface="Calibri Light"/>
            </a:endParaRPr>
          </a:p>
        </p:txBody>
      </p:sp>
      <p:sp>
        <p:nvSpPr>
          <p:cNvPr id="208" name=""/>
          <p:cNvSpPr txBox="1"/>
          <p:nvPr/>
        </p:nvSpPr>
        <p:spPr>
          <a:xfrm>
            <a:off x="628560" y="1066320"/>
            <a:ext cx="7886880" cy="5110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Pension</a:t>
            </a:r>
            <a:r>
              <a:rPr b="0" lang="en-US" sz="2100" spc="-1" strike="noStrike">
                <a:solidFill>
                  <a:srgbClr val="000000"/>
                </a:solidFill>
                <a:latin typeface="Calibri"/>
              </a:rPr>
              <a:t> shall continue to be 50% of average 'emoluments'.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ge of retirement on superannuation enhanced from 58 years to 60 years with effect from 13th May 1998.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efinition of emoluments for the purpose of calculation of all kinds of gratuities (Retirement, Death, Service, Terminal) may be revised to include the DA on the date of retirement.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existing varying rates of family pension for different categories of employees (30%, 20% and 15%) replaced by a uniform rate of 30% of pay for all categories of employees.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view of the increase in age of superannuation to 60 years, the family pension at enhanced rates admissible for a period of 7 years or till the employee/pensioner would have attained the age of 67 years, had he survived.</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rmitted to commute up to 40% of their pension against the existing limit of 1/3rd of their pens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I Jammu</a:t>
            </a:r>
            <a:endParaRPr b="0" lang="en-US" sz="900" spc="-1" strike="noStrike">
              <a:solidFill>
                <a:srgbClr val="000000"/>
              </a:solidFill>
              <a:latin typeface="Arial"/>
            </a:endParaRPr>
          </a:p>
        </p:txBody>
      </p:sp>
      <p:sp>
        <p:nvSpPr>
          <p:cNvPr id="21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nsion Entitlements</a:t>
            </a:r>
            <a:endParaRPr b="0" lang="en-US" sz="900" spc="-1" strike="noStrike">
              <a:solidFill>
                <a:srgbClr val="000000"/>
              </a:solidFill>
              <a:latin typeface="Arial"/>
            </a:endParaRPr>
          </a:p>
        </p:txBody>
      </p:sp>
      <p:sp>
        <p:nvSpPr>
          <p:cNvPr id="21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54AE-8E03-40F7-944A-D53EF892AF5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12" name="Rectangle 1"/>
          <p:cNvSpPr/>
          <p:nvPr/>
        </p:nvSpPr>
        <p:spPr>
          <a:xfrm>
            <a:off x="628560" y="914400"/>
            <a:ext cx="7886880" cy="526248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Important Changes after Vth CPC</a:t>
            </a:r>
            <a:endParaRPr b="0" lang="en-US" sz="3300" spc="-1" strike="noStrike">
              <a:solidFill>
                <a:srgbClr val="000000"/>
              </a:solidFill>
              <a:latin typeface="Calibri Light"/>
            </a:endParaRPr>
          </a:p>
        </p:txBody>
      </p:sp>
      <p:sp>
        <p:nvSpPr>
          <p:cNvPr id="214"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National Pension System (NPS) came up with effect from January 1, 2004 (except for armed forces).</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rom 1st April 2004 Dearness Allowance equal to 50 % of the Basic Pay merged with the Basic Pay and shown distinctly as 'Dearness Pay (DP)' and will count as 'emolument' for the purpose of pension/family pension.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Dearness Pay will be deducted from Dearness Allowance. Pension and Family Pension will be calculated at 50% and 30% respectively subject to a minimum of Rs 1,913 and a maximum of 50% and 30% respectively of the highest pay (Rs 30,000) plus DP in the Government</a:t>
            </a:r>
            <a:endParaRPr b="0" lang="en-US" sz="2100" spc="-1" strike="noStrike">
              <a:solidFill>
                <a:srgbClr val="000000"/>
              </a:solidFill>
              <a:latin typeface="Calibri"/>
            </a:endParaRPr>
          </a:p>
        </p:txBody>
      </p:sp>
      <p:sp>
        <p:nvSpPr>
          <p:cNvPr id="215"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6"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17"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0374-6B72-4EF3-A5A4-8B79DA8D14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228240"/>
            <a:ext cx="769608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Pension highlights (VI CPC)</a:t>
            </a:r>
            <a:endParaRPr b="0" lang="en-US" sz="3300" spc="-1" strike="noStrike">
              <a:solidFill>
                <a:srgbClr val="000000"/>
              </a:solidFill>
              <a:latin typeface="Calibri Light"/>
            </a:endParaRPr>
          </a:p>
        </p:txBody>
      </p:sp>
      <p:sp>
        <p:nvSpPr>
          <p:cNvPr id="219" name=""/>
          <p:cNvSpPr txBox="1"/>
          <p:nvPr/>
        </p:nvSpPr>
        <p:spPr>
          <a:xfrm>
            <a:off x="628560" y="914400"/>
            <a:ext cx="7886880" cy="5286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Linkage of full pension with 33 years of Q S dispensed with. </a:t>
            </a:r>
            <a:r>
              <a:rPr b="0" lang="en-US" sz="2200" spc="-1" strike="noStrike">
                <a:solidFill>
                  <a:srgbClr val="000000"/>
                </a:solidFill>
                <a:latin typeface="Calibri"/>
              </a:rPr>
              <a:t>Once an employee renders the minimum pensionable service of 20/10 years, pension should be paid at 50% of the average emoluments received during the past 10 months or the pay last drawn, whichever is more beneficial to the retiring employee</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The benefit of adding years of qualifying service for the purpose of computation of pension is withdrawn.</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Introduced additional pension to pensioners/FP more than 80 years of age from 20% to 100%.</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The enhanced family pension to the family of a Government servant who dies in service is payable for a period of 10 years without any upper age limit.</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The dependency criteria for the purpose of family pension shall be minimum family pension along with the dearness relief thereon.</a:t>
            </a:r>
            <a:endParaRPr b="0" lang="en-US" sz="2200" spc="-1" strike="noStrike">
              <a:solidFill>
                <a:srgbClr val="000000"/>
              </a:solidFill>
              <a:latin typeface="Calibri"/>
            </a:endParaRPr>
          </a:p>
        </p:txBody>
      </p:sp>
      <p:sp>
        <p:nvSpPr>
          <p:cNvPr id="220"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I Jammu</a:t>
            </a:r>
            <a:endParaRPr b="0" lang="en-US" sz="900" spc="-1" strike="noStrike">
              <a:solidFill>
                <a:srgbClr val="000000"/>
              </a:solidFill>
              <a:latin typeface="Arial"/>
            </a:endParaRPr>
          </a:p>
        </p:txBody>
      </p:sp>
      <p:sp>
        <p:nvSpPr>
          <p:cNvPr id="221"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nsion Entitlements</a:t>
            </a:r>
            <a:endParaRPr b="0" lang="en-US" sz="900" spc="-1" strike="noStrike">
              <a:solidFill>
                <a:srgbClr val="000000"/>
              </a:solidFill>
              <a:latin typeface="Arial"/>
            </a:endParaRPr>
          </a:p>
        </p:txBody>
      </p:sp>
      <p:sp>
        <p:nvSpPr>
          <p:cNvPr id="222"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DBE5-5A3E-4D75-B6FE-BAF6E6B8291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23" name="Rectangle 1"/>
          <p:cNvSpPr/>
          <p:nvPr/>
        </p:nvSpPr>
        <p:spPr>
          <a:xfrm>
            <a:off x="628560" y="914400"/>
            <a:ext cx="7886880" cy="518148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ession Overview</a:t>
            </a:r>
            <a:endParaRPr b="0" lang="en-US" sz="33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uring this session we will cov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troduction to pension entitlements;</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volution of rules and regulation relating to pension entitlements to Central Government employees over the years.</a:t>
            </a:r>
            <a:endParaRPr b="0" lang="en-US" sz="2100" spc="-1" strike="noStrike">
              <a:solidFill>
                <a:srgbClr val="000000"/>
              </a:solidFill>
              <a:latin typeface="Calibri"/>
            </a:endParaRPr>
          </a:p>
        </p:txBody>
      </p:sp>
      <p:sp>
        <p:nvSpPr>
          <p:cNvPr id="9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9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52F7-B603-4A4D-BB0D-FA6A3BBBA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rning Objective</a:t>
            </a:r>
            <a:endParaRPr b="0" lang="en-US" sz="3300" spc="-1" strike="noStrike">
              <a:solidFill>
                <a:srgbClr val="000000"/>
              </a:solidFill>
              <a:latin typeface="Calibri Light"/>
            </a:endParaRPr>
          </a:p>
        </p:txBody>
      </p:sp>
      <p:sp>
        <p:nvSpPr>
          <p:cNvPr id="9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t the end of this session the trainees will be able to state introduction to pension entitlements and evolution of rules and regulations governing pensionary benefits.</a:t>
            </a:r>
            <a:endParaRPr b="0" lang="en-US" sz="2100" spc="-1" strike="noStrike">
              <a:solidFill>
                <a:srgbClr val="000000"/>
              </a:solidFill>
              <a:latin typeface="Calibri"/>
            </a:endParaRPr>
          </a:p>
        </p:txBody>
      </p:sp>
      <p:sp>
        <p:nvSpPr>
          <p:cNvPr id="9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0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3550-53B3-4FF3-88BF-8FF5C9EB2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What is pension-Its value in life</a:t>
            </a:r>
            <a:endParaRPr b="0" lang="en-US" sz="3700" spc="-1" strike="noStrike">
              <a:solidFill>
                <a:srgbClr val="000000"/>
              </a:solidFill>
              <a:latin typeface="Calibri Light"/>
            </a:endParaRPr>
          </a:p>
        </p:txBody>
      </p:sp>
      <p:sp>
        <p:nvSpPr>
          <p:cNvPr id="103" name=""/>
          <p:cNvSpPr txBox="1"/>
          <p:nvPr/>
        </p:nvSpPr>
        <p:spPr>
          <a:xfrm>
            <a:off x="762120" y="1828440"/>
            <a:ext cx="7624800" cy="434340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Main schemes of retirement benefits for the Central Government employees:</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Pension scheme;  </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NPS (National Pension System)</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Contributory Provident Fund Scheme. </a:t>
            </a:r>
            <a:endParaRPr b="0" lang="en-US" sz="3600" spc="-1" strike="noStrike">
              <a:solidFill>
                <a:srgbClr val="000000"/>
              </a:solidFill>
              <a:latin typeface="Calibri"/>
            </a:endParaRPr>
          </a:p>
        </p:txBody>
      </p:sp>
      <p:sp>
        <p:nvSpPr>
          <p:cNvPr id="10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0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C0E9-255F-493F-A3B4-C0BB97D314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08" name=""/>
          <p:cNvSpPr txBox="1"/>
          <p:nvPr/>
        </p:nvSpPr>
        <p:spPr>
          <a:xfrm>
            <a:off x="1047240" y="1980720"/>
            <a:ext cx="7339320" cy="3868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Non-industrial staff in the departments of Central Government are governed by the pension Scheme. </a:t>
            </a:r>
            <a:endParaRPr b="0" lang="en-US" sz="26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industrial staff in these departments, persons appointed on contract for specified periods as also scientific and technical personnel entering Government service at a relatively advanced age are generally covered by Contributory Provident Fund Scheme. </a:t>
            </a:r>
            <a:endParaRPr b="0" lang="en-US" sz="2600" spc="-1" strike="noStrike">
              <a:solidFill>
                <a:srgbClr val="000000"/>
              </a:solidFill>
              <a:latin typeface="Calibri"/>
            </a:endParaRPr>
          </a:p>
        </p:txBody>
      </p:sp>
      <p:sp>
        <p:nvSpPr>
          <p:cNvPr id="10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1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F10B-B372-4886-A1E0-2FE892D05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13" name=""/>
          <p:cNvSpPr txBox="1"/>
          <p:nvPr/>
        </p:nvSpPr>
        <p:spPr>
          <a:xfrm>
            <a:off x="533160" y="1904760"/>
            <a:ext cx="8381880" cy="42670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An employee gets a recurring monthly payment for life and a lump sum gratuity at the time of his retirement, both determined with reference to the length of his service and the pay drawn by him. </a:t>
            </a:r>
            <a:endParaRPr b="0" lang="en-US" sz="3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Pension is not only compensation for loyal service rendered in the past, but it also has a broader significance.</a:t>
            </a:r>
            <a:endParaRPr b="0" lang="en-US" sz="3200" spc="-1" strike="noStrike">
              <a:solidFill>
                <a:srgbClr val="000000"/>
              </a:solidFill>
              <a:latin typeface="Calibri"/>
            </a:endParaRPr>
          </a:p>
        </p:txBody>
      </p:sp>
      <p:sp>
        <p:nvSpPr>
          <p:cNvPr id="11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1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86EF-B3DD-47BF-8CA1-A0E29C1F1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18" name=""/>
          <p:cNvSpPr txBox="1"/>
          <p:nvPr/>
        </p:nvSpPr>
        <p:spPr>
          <a:xfrm>
            <a:off x="533160" y="1904760"/>
            <a:ext cx="8381880" cy="42670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in that it is a measure of socio-economic justice which ensures economic security in the fall of life when physical and mental prowess is ebbing out corresponding to ageing proces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2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1D52-890E-4CE0-818F-CEF2EE21B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23" name=""/>
          <p:cNvSpPr txBox="1"/>
          <p:nvPr/>
        </p:nvSpPr>
        <p:spPr>
          <a:xfrm>
            <a:off x="661680" y="1904760"/>
            <a:ext cx="7948440" cy="47242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term has been judicially defined as a stated allowance or stipend made in consideration  of past service or a surrender of  rights or emoluments to one retired from service. </a:t>
            </a:r>
            <a:endParaRPr b="0" lang="en-US" sz="27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us, the pension is earned by rendering long and efficient service and can be said to be a deferred portion of the compensation  for service rendered. In the event of his death, his/her spouse gets a monthly payment for life.</a:t>
            </a:r>
            <a:endParaRPr b="0" lang="en-US" sz="27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2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2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4A63-FAB8-4B6F-9BDD-29391E5EBD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hp</cp:lastModifiedBy>
  <cp:lastPrinted>2019-06-19T08:57:32Z</cp:lastPrinted>
  <dcterms:modified xsi:type="dcterms:W3CDTF">2019-07-04T09:28:55Z</dcterms:modified>
  <cp:revision>73</cp:revision>
  <dc:subject/>
  <dc:title>PowerPoint Presentation</dc:title>
</cp:coreProperties>
</file>