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220E5-CA87-461A-9F07-7BE7D061B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6EB2-B4FE-412E-A48B-3881C63FF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6B62F-AE3E-46FB-8D69-80D79D4EB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72F96-7ECD-4149-9D6C-F99DB2717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635E3-7044-4807-804B-80C488A4F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8FB08-37C6-49D4-9360-DA98577D8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7DAD7-6371-4EF3-90DC-3F8C0E2A4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6C84-AE56-4F9D-B6B8-7DB4083C6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0F726-6826-45EE-88B1-CDF8099D1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4FEAB-50C0-47DC-B282-55BDA4844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E7CD9-D97F-4CBC-B0CF-164426721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E1D20-F674-4845-92EC-CE4182108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17D6-E726-462C-982C-EF57FFE3C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ount of Pension and Gratu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3631-D6E6-425F-9770-9ADB39B33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ount of Pension</a:t>
            </a:r>
            <a:endParaRPr b="0" lang="en-US" sz="4400" spc="-1" strike="noStrike">
              <a:solidFill>
                <a:srgbClr val="000000"/>
              </a:solidFill>
              <a:latin typeface="Arial"/>
            </a:endParaRPr>
          </a:p>
        </p:txBody>
      </p:sp>
      <p:sp>
        <p:nvSpPr>
          <p:cNvPr id="87" name=""/>
          <p:cNvSpPr txBox="1"/>
          <p:nvPr/>
        </p:nvSpPr>
        <p:spPr>
          <a:xfrm>
            <a:off x="457200" y="1417320"/>
            <a:ext cx="8229600" cy="4708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r the amount of superannuation pension was payable to a Central Government employee with 33 years of qualifying service as 50% of the average emoluments. Where the qualifying service of an employee was less than 33 years, the pension admissible was proportionately reduced (prior to 1.1.1996)</a:t>
            </a:r>
            <a:endParaRPr b="0" lang="en-US" sz="3200" spc="-1" strike="noStrike">
              <a:solidFill>
                <a:srgbClr val="000000"/>
              </a:solidFill>
              <a:latin typeface="Arial"/>
            </a:endParaRPr>
          </a:p>
        </p:txBody>
      </p:sp>
      <p:sp>
        <p:nvSpPr>
          <p:cNvPr id="8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EEA8-7C64-4CE9-B037-085E5ACF6D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imum amount of Pension</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The Minimum basic pension presently w.e.f 01.01.2016 is Rs.9000 per month   The minimum limit is applicable to all kinds of allowanc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ions including compassionate Maximum limit on pension is 50% of the highest pay in the Government of India (presently Rs.1,25,000) per month</a:t>
            </a:r>
            <a:endParaRPr b="0" lang="en-US" sz="3200" spc="-1" strike="noStrike">
              <a:solidFill>
                <a:srgbClr val="000000"/>
              </a:solidFill>
              <a:latin typeface="Arial"/>
            </a:endParaRPr>
          </a:p>
        </p:txBody>
      </p:sp>
      <p:sp>
        <p:nvSpPr>
          <p:cNvPr id="9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EEDF-84D2-4A0D-A044-A82265D6BE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9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0AD3-26F1-444F-9A62-0348C0FE9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99" name=""/>
          <p:cNvGraphicFramePr/>
          <p:nvPr/>
        </p:nvGraphicFramePr>
        <p:xfrm>
          <a:off x="457200" y="942840"/>
          <a:ext cx="7620120" cy="5486400"/>
        </p:xfrm>
        <a:graphic>
          <a:graphicData uri="http://schemas.openxmlformats.org/drawingml/2006/table">
            <a:tbl>
              <a:tblPr/>
              <a:tblGrid>
                <a:gridCol w="2816280"/>
                <a:gridCol w="2144520"/>
                <a:gridCol w="2659320"/>
              </a:tblGrid>
              <a:tr h="500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83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4.1987 to 31.03.1992</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325/-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2,850/-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30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4.1992 to 31.12.1995</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375/-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3,750/-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83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1.1996 to 31.03.2004</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275/-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2,500/-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30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4.2004 to 31.12.2005</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913/-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8,750/-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83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01.01.2006 to 31.12.2015</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Rs 3,500/-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Rs 45,000/- P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Rule 49(2)</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30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1.2016 onwards</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9,000/-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25,000/-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
        <p:nvSpPr>
          <p:cNvPr id="100" name="Rectangle 1"/>
          <p:cNvSpPr/>
          <p:nvPr/>
        </p:nvSpPr>
        <p:spPr>
          <a:xfrm>
            <a:off x="353880" y="114120"/>
            <a:ext cx="73422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inimum &amp; maximum limits of pension from 1.4.1987 onwards are as und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imum amount of Pension</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in the case of retirement on or after 01.01.1996, the full pension shall not be less than 50 % of the minimum of the scale of pay for the post last held by the Government servant at the time of his/her retirement </a:t>
            </a:r>
            <a:endParaRPr b="0" lang="en-US" sz="3200" spc="-1" strike="noStrike">
              <a:solidFill>
                <a:srgbClr val="000000"/>
              </a:solidFill>
              <a:latin typeface="Arial"/>
            </a:endParaRPr>
          </a:p>
        </p:txBody>
      </p:sp>
      <p:sp>
        <p:nvSpPr>
          <p:cNvPr id="1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5161-A4E7-4741-B24E-11D958D3A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nding of pension/gratui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pension (all classes) finally determined under Rule 49(2) shall be expressed in whole rupees and any fraction of a rupee shall be rounded off to the next higher rupee.</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92B8-E25A-4D7D-9061-F291F05E6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arness Relief to Pensioners</a:t>
            </a:r>
            <a:endParaRPr b="0" lang="en-US" sz="40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Dearness relief will be sanctioned from 1st July and 1st January every year based on increase in price-rise neutralization will be allowed uniformly to all pensioners/family pensioners.  The Dearness Relief on pension is payable only after orders in that regard are issued by the Government of Indi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r>
              <a:rPr b="0" lang="en-US" sz="2800" spc="-1" strike="noStrike">
                <a:solidFill>
                  <a:srgbClr val="000000"/>
                </a:solidFill>
                <a:latin typeface="Arial"/>
              </a:rPr>
              <a:t>	</a:t>
            </a:r>
            <a:r>
              <a:rPr b="0" lang="en-US" sz="2800" spc="-1" strike="noStrike">
                <a:solidFill>
                  <a:srgbClr val="000000"/>
                </a:solidFill>
                <a:latin typeface="Arial"/>
              </a:rPr>
              <a:t>Any fraction of a rupee shall be rounded off to the next higher rupee.</a:t>
            </a:r>
            <a:endParaRPr b="0" lang="en-US" sz="2800" spc="-1" strike="noStrike">
              <a:solidFill>
                <a:srgbClr val="000000"/>
              </a:solidFill>
              <a:latin typeface="Arial"/>
            </a:endParaRPr>
          </a:p>
        </p:txBody>
      </p:sp>
      <p:sp>
        <p:nvSpPr>
          <p:cNvPr id="1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21B9-2D20-4D8F-895E-FBAAF0EAB5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tirement Gratuity</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irement Gratuity' is admissible to a Government servant who retires from service after completion of </a:t>
            </a:r>
            <a:r>
              <a:rPr b="0" lang="en-US" sz="2800" spc="-1" strike="noStrike">
                <a:solidFill>
                  <a:srgbClr val="c00000"/>
                </a:solidFill>
                <a:latin typeface="Arial"/>
              </a:rPr>
              <a:t>qualifying</a:t>
            </a:r>
            <a:r>
              <a:rPr b="0" lang="en-US" sz="2800" spc="-1" strike="noStrike">
                <a:solidFill>
                  <a:srgbClr val="000000"/>
                </a:solidFill>
                <a:latin typeface="Arial"/>
              </a:rPr>
              <a:t> service of 5 years. The amount of 'retirement gratuity' shall be equal to one-fourth of his emoluments for each completed six-monthly period of qualifying service, subject to a maximum of  33 Yrs of Qhalifying service &amp; amount as Rupees 20.00 lakh in the case of retirements on or after 01.01.2016. There is no ceiling on reckonable emoluments for calculation of gratuity.</a:t>
            </a:r>
            <a:endParaRPr b="0" lang="en-US" sz="2800" spc="-1" strike="noStrike">
              <a:solidFill>
                <a:srgbClr val="000000"/>
              </a:solidFill>
              <a:latin typeface="Arial"/>
            </a:endParaRPr>
          </a:p>
        </p:txBody>
      </p:sp>
      <p:sp>
        <p:nvSpPr>
          <p:cNvPr id="11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E873-6024-4731-9CA9-E360BEEA0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2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2A7C-4D42-463B-AFCA-2B9C15A8F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4" name=""/>
          <p:cNvGraphicFramePr/>
          <p:nvPr/>
        </p:nvGraphicFramePr>
        <p:xfrm>
          <a:off x="380880" y="1066680"/>
          <a:ext cx="8305920" cy="5178600"/>
        </p:xfrm>
        <a:graphic>
          <a:graphicData uri="http://schemas.openxmlformats.org/drawingml/2006/table">
            <a:tbl>
              <a:tblPr/>
              <a:tblGrid>
                <a:gridCol w="3135600"/>
                <a:gridCol w="5170320"/>
              </a:tblGrid>
              <a:tr h="54288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servi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of Death Gratu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than One yea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s emolum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756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year or more but less than 5 year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imes of  monthly emolum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900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 or more but less than 11 year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times of monthly emolument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756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Years or more but less than 20 year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times of monthly emolum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3692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years or mor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f month’s emoluments for every completed six monthly period of Q. S.  subject to a maximum of 33 times of emoluments and Rs 20 lakh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Rectangle 5"/>
          <p:cNvSpPr/>
          <p:nvPr/>
        </p:nvSpPr>
        <p:spPr>
          <a:xfrm>
            <a:off x="1447920" y="457200"/>
            <a:ext cx="5410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th Grat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um Retirement/Death Gratuity</a:t>
            </a:r>
            <a:endParaRPr b="0" lang="en-US" sz="3600" spc="-1" strike="noStrike">
              <a:solidFill>
                <a:srgbClr val="000000"/>
              </a:solidFill>
              <a:latin typeface="Arial"/>
            </a:endParaRPr>
          </a:p>
        </p:txBody>
      </p:sp>
      <p:graphicFrame>
        <p:nvGraphicFramePr>
          <p:cNvPr id="127" name=""/>
          <p:cNvGraphicFramePr/>
          <p:nvPr/>
        </p:nvGraphicFramePr>
        <p:xfrm>
          <a:off x="457200" y="1600200"/>
          <a:ext cx="8229600" cy="4525920"/>
        </p:xfrm>
        <a:graphic>
          <a:graphicData uri="http://schemas.openxmlformats.org/drawingml/2006/table"/>
        </a:graphic>
      </p:graphicFrame>
      <p:sp>
        <p:nvSpPr>
          <p:cNvPr id="12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2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C125-68EF-4D0D-8FEA-0516C1B6EE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7"/>
          <p:cNvSpPr/>
          <p:nvPr/>
        </p:nvSpPr>
        <p:spPr>
          <a:xfrm>
            <a:off x="457200" y="2136600"/>
            <a:ext cx="77724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eiling on all Gratuities has been raised to Rs. 20 </a:t>
            </a:r>
            <a:r>
              <a:rPr b="1" lang="en-US" sz="2800" spc="-1" strike="noStrike">
                <a:solidFill>
                  <a:srgbClr val="000000"/>
                </a:solidFill>
                <a:latin typeface="Arial"/>
              </a:rPr>
              <a:t>lakhs</a:t>
            </a:r>
            <a:r>
              <a:rPr b="1" lang="en-US" sz="2800" spc="-1" strike="noStrike">
                <a:solidFill>
                  <a:srgbClr val="000000"/>
                </a:solidFill>
                <a:latin typeface="Arial"/>
                <a:ea typeface="Times New Roman"/>
              </a:rPr>
              <a:t> w.e.f.  01.01.2016 (earlier the limit was Rs.10 lakhs). DA admissible on the date of retirement is also to be added with pay for calculation of gratuity. </a:t>
            </a:r>
            <a:r>
              <a:rPr b="1" lang="en-US" sz="2800" spc="-1" strike="noStrike">
                <a:solidFill>
                  <a:srgbClr val="000000"/>
                </a:solidFill>
                <a:latin typeface="Arial"/>
                <a:ea typeface="Times New Roman"/>
              </a:rPr>
              <a:t>The ceiling on Gratuity shall increase by 25% whenever the dearness allowance rises by 50% of the basic p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 for Gratuity</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emoluments' for purposes of calculating Gratuity shall mean basic pay as defined in FR 9 (21) (a) (i) which the Government servant was receiving immediately before his retirement or on the date of death while in service and will also include non-practising allowance granted to Medical Officers and stagnation increment(s). There will be no ceiling on reckonable 'emoluments' for calculating Service/Retirement/Death Gratuity. </a:t>
            </a:r>
            <a:endParaRPr b="0" lang="en-US" sz="2800" spc="-1" strike="noStrike">
              <a:solidFill>
                <a:srgbClr val="000000"/>
              </a:solidFill>
              <a:latin typeface="Arial"/>
            </a:endParaRPr>
          </a:p>
        </p:txBody>
      </p:sp>
      <p:sp>
        <p:nvSpPr>
          <p:cNvPr id="13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D6D6-4AAF-41B1-BFD6-342E6E36D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two sessions we discussed the periods qualifying for inclusion as ‘qualifying service’ for working out the pension entitlements and method of working out the emoluments and average emoluments for working out pension entitlements for Central Government employees.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is session we will discuss the amount of pension and gratuity payable to Central Government employees, given the length of qualifying service and the average emoluments drawn by them. </a:t>
            </a:r>
            <a:endParaRPr b="0" lang="en-US" sz="2800" spc="-1" strike="noStrike">
              <a:solidFill>
                <a:srgbClr val="000000"/>
              </a:solidFill>
              <a:latin typeface="Arial"/>
            </a:endParaRPr>
          </a:p>
        </p:txBody>
      </p:sp>
      <p:sp>
        <p:nvSpPr>
          <p:cNvPr id="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A41F-666A-4056-9749-3EC0D74E1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unding off Gratu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Service /Retirement/ Death Gratuity and commuted value of pension as finally calculated should be rounded off to the </a:t>
            </a:r>
            <a:r>
              <a:rPr b="0" lang="en-US" sz="3200" spc="-1" strike="noStrike">
                <a:solidFill>
                  <a:srgbClr val="c00000"/>
                </a:solidFill>
                <a:latin typeface="Arial"/>
              </a:rPr>
              <a:t>next higher rupe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4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F866-B9D5-4E32-8F5F-EF05DBF0BE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iduary Gratuity</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th Gratuity' payable in the case of death of a Government servant while in service after completion of 5 years qualifying service  is subject to the minimum of '12 times of emoluments' which he was getting at the time of death but there is no such minimum in the case of Retirement Gratuity payable on retir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D536-EBB1-4B28-9240-1E0766FFD3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iduary Gratuity</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overnment servant dies within 5 years from the date of his retirement and the sums actually received by him at the time of his death on account of pension or Service Gratuity and Retirement Gratuity are less than 12 times of his emoluments at the time of retirement, the deficiency may be granted to the nominee(s) and heir(s). The deficiency paid is called 'Residuary Gratuity'. </a:t>
            </a:r>
            <a:endParaRPr b="0" lang="en-US" sz="3200" spc="-1" strike="noStrike">
              <a:solidFill>
                <a:srgbClr val="000000"/>
              </a:solidFill>
              <a:latin typeface="Arial"/>
            </a:endParaRPr>
          </a:p>
        </p:txBody>
      </p:sp>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7A44-E664-4555-BBAA-6F9892836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mination</a:t>
            </a: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vernment servant shall, on his initial confirmation in a service or post, make a nomination in the prescribed form conferring on one or more persons the right to receive the Death Gratuity payable to him in the event of his death while in service and the right to receive the Retirement Gratuity which having become due to him on retirement remains unpaid at the time of his death. If he nominates more than one member, he shall specify in the nomination the amount of share payable to each of the nominees in such manner as to cover the entire amount of gratuity.</a:t>
            </a:r>
            <a:endParaRPr b="0" lang="en-US" sz="2400" spc="-1" strike="noStrike">
              <a:solidFill>
                <a:srgbClr val="000000"/>
              </a:solidFill>
              <a:latin typeface="Arial"/>
            </a:endParaRPr>
          </a:p>
        </p:txBody>
      </p:sp>
      <p:sp>
        <p:nvSpPr>
          <p:cNvPr id="1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0624-9435-4BF8-A11B-E91621BE10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mination</a:t>
            </a:r>
            <a:endParaRPr b="0" lang="en-US" sz="4400" spc="-1" strike="noStrike">
              <a:solidFill>
                <a:srgbClr val="000000"/>
              </a:solidFill>
              <a:latin typeface="Arial"/>
            </a:endParaRPr>
          </a:p>
        </p:txBody>
      </p:sp>
      <p:sp>
        <p:nvSpPr>
          <p:cNvPr id="158" name=""/>
          <p:cNvSpPr txBox="1"/>
          <p:nvPr/>
        </p:nvSpPr>
        <p:spPr>
          <a:xfrm>
            <a:off x="228600" y="1219320"/>
            <a:ext cx="8610480" cy="4906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the time of making nomination, the Government servant has a 'family', the nomination,  shall not be in favour of any person or persons other than members of 'his 'family'.</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mily' for this purpose mean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3200" spc="-1" strike="noStrike">
                <a:solidFill>
                  <a:srgbClr val="000000"/>
                </a:solidFill>
                <a:latin typeface="Arial"/>
              </a:rPr>
              <a:t>	</a:t>
            </a:r>
            <a:r>
              <a:rPr b="0" lang="en-US" sz="3200" spc="-1" strike="noStrike">
                <a:solidFill>
                  <a:srgbClr val="000000"/>
                </a:solidFill>
                <a:latin typeface="Arial"/>
              </a:rPr>
              <a:t>wife or wives/husband including judicially separated wife/wives or husband,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t>
            </a:r>
            <a:r>
              <a:rPr b="0" lang="en-US" sz="3200" spc="-1" strike="noStrike">
                <a:solidFill>
                  <a:srgbClr val="c00000"/>
                </a:solidFill>
                <a:latin typeface="Arial"/>
              </a:rPr>
              <a:t>ii)son(s) including stepson(s), and adopted son(s)</a:t>
            </a:r>
            <a:endParaRPr b="0" lang="en-US" sz="3200" spc="-1" strike="noStrike">
              <a:solidFill>
                <a:srgbClr val="000000"/>
              </a:solidFill>
              <a:latin typeface="Arial"/>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7B22-7BA5-463A-A0A5-14EFB4D11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mination</a:t>
            </a:r>
            <a:endParaRPr b="0" lang="en-US" sz="4400" spc="-1" strike="noStrike">
              <a:solidFill>
                <a:srgbClr val="000000"/>
              </a:solidFill>
              <a:latin typeface="Arial"/>
            </a:endParaRPr>
          </a:p>
        </p:txBody>
      </p:sp>
      <p:sp>
        <p:nvSpPr>
          <p:cNvPr id="163" name=""/>
          <p:cNvSpPr txBox="1"/>
          <p:nvPr/>
        </p:nvSpPr>
        <p:spPr>
          <a:xfrm>
            <a:off x="228600" y="1600200"/>
            <a:ext cx="86868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a:t>
            </a:r>
            <a:r>
              <a:rPr b="0" lang="en-US" sz="3200" spc="-1" strike="noStrike">
                <a:solidFill>
                  <a:srgbClr val="000000"/>
                </a:solidFill>
                <a:latin typeface="Arial"/>
              </a:rPr>
              <a:t>	</a:t>
            </a:r>
            <a:r>
              <a:rPr b="0" lang="en-US" sz="3200" spc="-1" strike="noStrike">
                <a:solidFill>
                  <a:srgbClr val="000000"/>
                </a:solidFill>
                <a:latin typeface="Arial"/>
              </a:rPr>
              <a:t>unmarried daughter(s) including stepdaughter(s), and adopted daughter(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a:t>
            </a:r>
            <a:r>
              <a:rPr b="0" lang="en-US" sz="3200" spc="-1" strike="noStrike">
                <a:solidFill>
                  <a:srgbClr val="000000"/>
                </a:solidFill>
                <a:latin typeface="Arial"/>
              </a:rPr>
              <a:t>	</a:t>
            </a:r>
            <a:r>
              <a:rPr b="0" lang="en-US" sz="3200" spc="-1" strike="noStrike">
                <a:solidFill>
                  <a:srgbClr val="000000"/>
                </a:solidFill>
                <a:latin typeface="Arial"/>
              </a:rPr>
              <a:t>widowed daughter(s) including stepdaughter(s) and adopted daugh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Arial"/>
              </a:rPr>
              <a:t>	</a:t>
            </a:r>
            <a:r>
              <a:rPr b="0" lang="en-US" sz="3200" spc="-1" strike="noStrike">
                <a:solidFill>
                  <a:srgbClr val="000000"/>
                </a:solidFill>
                <a:latin typeface="Arial"/>
              </a:rPr>
              <a:t>fat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a:t>
            </a:r>
            <a:r>
              <a:rPr b="0" lang="en-US" sz="3200" spc="-1" strike="noStrike">
                <a:solidFill>
                  <a:srgbClr val="000000"/>
                </a:solidFill>
                <a:latin typeface="Arial"/>
              </a:rPr>
              <a:t>	</a:t>
            </a:r>
            <a:r>
              <a:rPr b="0" lang="en-US" sz="3200" spc="-1" strike="noStrike">
                <a:solidFill>
                  <a:srgbClr val="000000"/>
                </a:solidFill>
                <a:latin typeface="Arial"/>
              </a:rPr>
              <a:t> mother, </a:t>
            </a:r>
            <a:endParaRPr b="0" lang="en-US" sz="3200" spc="-1" strike="noStrike">
              <a:solidFill>
                <a:srgbClr val="000000"/>
              </a:solidFill>
              <a:latin typeface="Arial"/>
            </a:endParaRPr>
          </a:p>
        </p:txBody>
      </p:sp>
      <p:sp>
        <p:nvSpPr>
          <p:cNvPr id="1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4EA6-9726-4A12-B56C-61A8DB19E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mination</a:t>
            </a:r>
            <a:endParaRPr b="0" lang="en-US"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i)</a:t>
            </a:r>
            <a:r>
              <a:rPr b="0" lang="en-US" sz="3200" spc="-1" strike="noStrike">
                <a:solidFill>
                  <a:srgbClr val="000000"/>
                </a:solidFill>
                <a:latin typeface="Arial"/>
              </a:rPr>
              <a:t>	</a:t>
            </a:r>
            <a:r>
              <a:rPr b="0" lang="en-US" sz="3200" spc="-1" strike="noStrike">
                <a:solidFill>
                  <a:srgbClr val="000000"/>
                </a:solidFill>
                <a:latin typeface="Arial"/>
              </a:rPr>
              <a:t>brother(s) below the age of eighteen years including stepbrother(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ii)</a:t>
            </a:r>
            <a:r>
              <a:rPr b="0" lang="en-US" sz="3200" spc="-1" strike="noStrike">
                <a:solidFill>
                  <a:srgbClr val="000000"/>
                </a:solidFill>
                <a:latin typeface="Arial"/>
              </a:rPr>
              <a:t>	</a:t>
            </a:r>
            <a:r>
              <a:rPr b="0" lang="en-US" sz="3200" spc="-1" strike="noStrike">
                <a:solidFill>
                  <a:srgbClr val="000000"/>
                </a:solidFill>
                <a:latin typeface="Arial"/>
              </a:rPr>
              <a:t>unmarried sister(s) and widowed sister(s) including stepsister(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x)</a:t>
            </a:r>
            <a:r>
              <a:rPr b="0" lang="en-US" sz="3200" spc="-1" strike="noStrike">
                <a:solidFill>
                  <a:srgbClr val="000000"/>
                </a:solidFill>
                <a:latin typeface="Arial"/>
              </a:rPr>
              <a:t>	</a:t>
            </a:r>
            <a:r>
              <a:rPr b="0" lang="en-US" sz="3200" spc="-1" strike="noStrike">
                <a:solidFill>
                  <a:srgbClr val="000000"/>
                </a:solidFill>
                <a:latin typeface="Arial"/>
              </a:rPr>
              <a:t>married daughter(s) and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rPr>
              <a:t>children of predeceased son.</a:t>
            </a:r>
            <a:endParaRPr b="0" lang="en-US" sz="3200" spc="-1" strike="noStrike">
              <a:solidFill>
                <a:srgbClr val="000000"/>
              </a:solidFill>
              <a:latin typeface="Arial"/>
            </a:endParaRPr>
          </a:p>
        </p:txBody>
      </p:sp>
      <p:sp>
        <p:nvSpPr>
          <p:cNvPr id="1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C4DF-596B-49CF-B774-CBC1F589BD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ons to whom gratuity is payable</a:t>
            </a:r>
            <a:endParaRPr b="0" lang="en-US" sz="40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irement Gratuity amount is payable to the Government servant at the time of his retiremen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overnment servant dies after retirement but before receiving the amount of Retirement Gratuity admissible, the amount of Retirement Gratuity shall be payable to the nominee according to the share specified in the nomination. </a:t>
            </a:r>
            <a:endParaRPr b="0" lang="en-US" sz="3200" spc="-1" strike="noStrike">
              <a:solidFill>
                <a:srgbClr val="000000"/>
              </a:solidFill>
              <a:latin typeface="Arial"/>
            </a:endParaRPr>
          </a:p>
        </p:txBody>
      </p:sp>
      <p:sp>
        <p:nvSpPr>
          <p:cNvPr id="1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94F5-84B0-4FE8-AFFF-34E26B25C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ons to whom gratuity is payable</a:t>
            </a:r>
            <a:endParaRPr b="0" lang="en-US" sz="40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the Death Gratuity admissible in the event if the death of a Government servant while in service shall be payable to the nominee(s) according to the share specified in the nomination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c00000"/>
                </a:solidFill>
                <a:latin typeface="Arial"/>
              </a:rPr>
              <a:t>If there is no nomination the gratuity shall be paid to all surviving members of family defined under Rule 50  in equal shares [Rule 51 (1) (b)].</a:t>
            </a:r>
            <a:endParaRPr b="0" lang="en-US" sz="2800" spc="-1" strike="noStrike">
              <a:solidFill>
                <a:srgbClr val="000000"/>
              </a:solidFill>
              <a:latin typeface="Arial"/>
            </a:endParaRPr>
          </a:p>
        </p:txBody>
      </p:sp>
      <p:sp>
        <p:nvSpPr>
          <p:cNvPr id="17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8668-2352-440A-99F3-D92519F7A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barring a person from receiving Gratuity</a:t>
            </a:r>
            <a:endParaRPr b="0" lang="en-US" sz="40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person, who, in the event of death of a Government servant while in service, is eligible to receive gratuity either by being the nominee or otherwise as provided in Rule 51 of CCS (Pension) Rules, is charged with the offence of murdering the Government servant or for abetting in the commission of such an offence, his claim to receive his share of the gratuity, shall remain suspended till the conclusion of the criminal proceedings instituted against him. </a:t>
            </a:r>
            <a:endParaRPr b="0" lang="en-US" sz="2800" spc="-1" strike="noStrike">
              <a:solidFill>
                <a:srgbClr val="000000"/>
              </a:solidFill>
              <a:latin typeface="Arial"/>
            </a:endParaRPr>
          </a:p>
        </p:txBody>
      </p:sp>
      <p:sp>
        <p:nvSpPr>
          <p:cNvPr id="1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86DC-32CF-4F75-A968-9E56FF014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session the trainees will be able to work out the pension and gratuity entitlements of Central Governments employees from the given qualifying service and the given emoluments. </a:t>
            </a:r>
            <a:endParaRPr b="0" lang="en-US" sz="3200" spc="-1" strike="noStrike">
              <a:solidFill>
                <a:srgbClr val="000000"/>
              </a:solidFill>
              <a:latin typeface="Arial"/>
            </a:endParaRPr>
          </a:p>
        </p:txBody>
      </p:sp>
      <p:sp>
        <p:nvSpPr>
          <p:cNvPr id="5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760E-B50F-42AD-86FA-8075AA966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pse of Death/Retirement Gratuity</a:t>
            </a:r>
            <a:endParaRPr b="0" lang="en-US" sz="40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ath Gratuity/Retirement Gratuity shall lapse to the Government in cases, where the Government servant dies while in service or after retirement without receiving the amount of gratuity and leaves behind no family and (A) has made no nomination, or (B) the nomination made by him does not subsist. </a:t>
            </a:r>
            <a:endParaRPr b="0" lang="en-US" sz="2600" spc="-1" strike="noStrike">
              <a:solidFill>
                <a:srgbClr val="000000"/>
              </a:solidFill>
              <a:latin typeface="Arial"/>
            </a:endParaRPr>
          </a:p>
          <a:p>
            <a:pPr marL="339480" indent="-33948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Provided that the amount of death gratuity/retirement gratuity shall be payable to the person in whose favour a succession certificate in respect of the gratuity in question has been granted by a Court of Law. (Proviso to Rule 52)</a:t>
            </a:r>
            <a:endParaRPr b="0" lang="en-US" sz="2600" spc="-1" strike="noStrike">
              <a:solidFill>
                <a:srgbClr val="000000"/>
              </a:solidFill>
              <a:latin typeface="Arial"/>
            </a:endParaRPr>
          </a:p>
        </p:txBody>
      </p:sp>
      <p:sp>
        <p:nvSpPr>
          <p:cNvPr id="1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71F4-4837-46DA-857B-EFB28C428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very of Government due from Retirement/Death Gratuity</a:t>
            </a:r>
            <a:endParaRPr b="0" lang="en-US" sz="40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ermissible to make recovery of Government dues from the Retirement Gratuity/Death Gratuity dues in respect of a Government servant even without obtaining his consent, or without obtaining the consent of the members of his family in the case of the deceased Government Servant, as the case may be.</a:t>
            </a:r>
            <a:endParaRPr b="0" lang="en-US" sz="3200" spc="-1" strike="noStrike">
              <a:solidFill>
                <a:srgbClr val="000000"/>
              </a:solidFill>
              <a:latin typeface="Arial"/>
            </a:endParaRPr>
          </a:p>
        </p:txBody>
      </p:sp>
      <p:sp>
        <p:nvSpPr>
          <p:cNvPr id="19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2FF6-8967-4F32-8F86-3F8A43726C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Exemption of Gratuity from Income Tax &amp; Court attachment  </a:t>
            </a:r>
            <a:br>
              <a:rPr sz="4400"/>
            </a:br>
            <a:endParaRPr b="0" lang="en-US" sz="4400" spc="-1" strike="noStrike">
              <a:solidFill>
                <a:srgbClr val="000000"/>
              </a:solidFill>
              <a:latin typeface="Arial"/>
            </a:endParaRPr>
          </a:p>
        </p:txBody>
      </p:sp>
      <p:sp>
        <p:nvSpPr>
          <p:cNvPr id="19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9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B4AD-0DB3-4FF6-856C-80CE4693F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Rectangle 5"/>
          <p:cNvSpPr/>
          <p:nvPr/>
        </p:nvSpPr>
        <p:spPr>
          <a:xfrm>
            <a:off x="457200" y="2136600"/>
            <a:ext cx="8229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der section 10(10) of the Income Tax Act, no income tax is leviable on the Reirement Gratuity or Death Gratuity amoun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der the provisions of Code of Civil Procedure, the Retirement Gratuity or Death Gratuity is not liable to be attached by Courts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nsion and Gratuity</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irement benefit to retiring   Government servants consists of:</a:t>
            </a: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nthly recurring payment after retirement termed 'Pension'; and</a:t>
            </a: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ump sum payment termed 'Retirement Gratuity'. </a:t>
            </a:r>
            <a:endParaRPr b="0" lang="en-US" sz="3200" spc="-1" strike="noStrike">
              <a:solidFill>
                <a:srgbClr val="000000"/>
              </a:solidFill>
              <a:latin typeface="Arial"/>
            </a:endParaRPr>
          </a:p>
        </p:txBody>
      </p:sp>
      <p:sp>
        <p:nvSpPr>
          <p:cNvPr id="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287C-A419-47BF-8F34-86BD57616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nsion and Gratuit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servant who retires from service with a qualifying service of less than ten years is not entitled for the payment of 'Pension' but is entitled for the payment of a lump sum amount termed 'Service Gratuity'. </a:t>
            </a:r>
            <a:endParaRPr b="0" lang="en-US" sz="3200" spc="-1" strike="noStrike">
              <a:solidFill>
                <a:srgbClr val="000000"/>
              </a:solidFill>
              <a:latin typeface="Arial"/>
            </a:endParaRPr>
          </a:p>
        </p:txBody>
      </p:sp>
      <p:sp>
        <p:nvSpPr>
          <p:cNvPr id="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27A8-8DE5-447F-A3E7-96580AFB9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tuity-Types</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660240" indent="-6602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irement Gratuity', which is admissible to the Government servant on his retirement after completion of 5 years' qualifying service, and</a:t>
            </a:r>
            <a:endParaRPr b="0" lang="en-US" sz="3200" spc="-1" strike="noStrike">
              <a:solidFill>
                <a:srgbClr val="000000"/>
              </a:solidFill>
              <a:latin typeface="Arial"/>
            </a:endParaRPr>
          </a:p>
          <a:p>
            <a:pPr marL="660240" indent="-6602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 Gratuity', which is payable to his nominee(s)/ family in the event of his death while in service.</a:t>
            </a:r>
            <a:endParaRPr b="0" lang="en-US" sz="3200" spc="-1" strike="noStrike">
              <a:solidFill>
                <a:srgbClr val="000000"/>
              </a:solidFill>
              <a:latin typeface="Arial"/>
            </a:endParaRPr>
          </a:p>
        </p:txBody>
      </p:sp>
      <p:sp>
        <p:nvSpPr>
          <p:cNvPr id="6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ED53-CA21-4228-BE7B-F7E2B5467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tuity</a:t>
            </a:r>
            <a:endParaRPr b="0" lang="en-US" sz="4400" spc="-1" strike="noStrike">
              <a:solidFill>
                <a:srgbClr val="000000"/>
              </a:solidFill>
              <a:latin typeface="Arial"/>
            </a:endParaRPr>
          </a:p>
        </p:txBody>
      </p:sp>
      <p:sp>
        <p:nvSpPr>
          <p:cNvPr id="72" name=""/>
          <p:cNvSpPr txBox="1"/>
          <p:nvPr/>
        </p:nvSpPr>
        <p:spPr>
          <a:xfrm>
            <a:off x="304560" y="1600200"/>
            <a:ext cx="8381880" cy="4525920"/>
          </a:xfrm>
          <a:prstGeom prst="rect">
            <a:avLst/>
          </a:prstGeom>
          <a:noFill/>
          <a:ln w="0">
            <a:noFill/>
          </a:ln>
        </p:spPr>
        <p:txBody>
          <a:bodyPr anchor="t">
            <a:normAutofit/>
          </a:bodyPr>
          <a:p>
            <a:pPr marL="660240" indent="-66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tuity is based on:</a:t>
            </a:r>
            <a:endParaRPr b="0" lang="en-US" sz="3200" spc="-1" strike="noStrike">
              <a:solidFill>
                <a:srgbClr val="000000"/>
              </a:solidFill>
              <a:latin typeface="Arial"/>
            </a:endParaRPr>
          </a:p>
          <a:p>
            <a:pPr marL="660240" indent="-6602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years of qualifying service i.e. the period of service which counts for pension ; and</a:t>
            </a:r>
            <a:endParaRPr b="0" lang="en-US" sz="3200" spc="-1" strike="noStrike">
              <a:solidFill>
                <a:srgbClr val="000000"/>
              </a:solidFill>
              <a:latin typeface="Arial"/>
            </a:endParaRPr>
          </a:p>
          <a:p>
            <a:pPr marL="660240" indent="-6602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luments' . </a:t>
            </a:r>
            <a:endParaRPr b="0" lang="en-US" sz="3200" spc="-1" strike="noStrike">
              <a:solidFill>
                <a:srgbClr val="000000"/>
              </a:solidFill>
              <a:latin typeface="Arial"/>
            </a:endParaRPr>
          </a:p>
        </p:txBody>
      </p:sp>
      <p:sp>
        <p:nvSpPr>
          <p:cNvPr id="7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6F6E-474F-4F9C-A9E8-30651E652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ount of Pension</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servant who retires from service before completing qualifying service of ten years is not eligible for the payment of pension; but a lump sum amount termed as 'Service Gratuity'.</a:t>
            </a:r>
            <a:endParaRPr b="0" lang="en-US" sz="3200" spc="-1" strike="noStrike">
              <a:solidFill>
                <a:srgbClr val="000000"/>
              </a:solidFill>
              <a:latin typeface="Arial"/>
            </a:endParaRPr>
          </a:p>
        </p:txBody>
      </p:sp>
      <p:sp>
        <p:nvSpPr>
          <p:cNvPr id="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A52F-8731-4626-8BAA-EF2F9260D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ount of Pension</a:t>
            </a:r>
            <a:endParaRPr b="0" lang="en-US" sz="4400" spc="-1" strike="noStrike">
              <a:solidFill>
                <a:srgbClr val="000000"/>
              </a:solidFill>
              <a:latin typeface="Arial"/>
            </a:endParaRPr>
          </a:p>
        </p:txBody>
      </p:sp>
      <p:sp>
        <p:nvSpPr>
          <p:cNvPr id="82" name=""/>
          <p:cNvSpPr txBox="1"/>
          <p:nvPr/>
        </p:nvSpPr>
        <p:spPr>
          <a:xfrm>
            <a:off x="457200" y="1600200"/>
            <a:ext cx="8229600" cy="4952880"/>
          </a:xfrm>
          <a:prstGeom prst="rect">
            <a:avLst/>
          </a:prstGeom>
          <a:noFill/>
          <a:ln w="0">
            <a:noFill/>
          </a:ln>
        </p:spPr>
        <p:txBody>
          <a:bodyPr anchor="t">
            <a:normAutofit fontScale="91000"/>
          </a:bodyPr>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superannuation pension payable to a Central Government employee w.e.f 1.1.2006 is calculated with reference to emoluments (i.e.last basic pay) or average emoluments (i.e. average of the basic pay drawn during the last 10 months of the service) whichever is more beneficial. The amount of pension is 50% of the emoluments or average emoluments whichever is beneficial</a:t>
            </a:r>
            <a:endParaRPr b="0" lang="en-US" sz="3200" spc="-1" strike="noStrike">
              <a:solidFill>
                <a:srgbClr val="000000"/>
              </a:solidFill>
              <a:latin typeface="Arial"/>
            </a:endParaRPr>
          </a:p>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8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4EC7-B9F5-4E8F-81BF-EFDE0BFDF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9:57:41Z</dcterms:created>
  <dc:creator> a g officejammu</dc:creator>
  <dc:description/>
  <dc:language>en-US</dc:language>
  <cp:lastModifiedBy>JP</cp:lastModifiedBy>
  <dcterms:modified xsi:type="dcterms:W3CDTF">2019-11-04T07:32:13Z</dcterms:modified>
  <cp:revision>63</cp:revision>
  <dc:subject/>
  <dc:title>Amount of Pension and Gratuity</dc:title>
</cp:coreProperties>
</file>