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3076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896400" y="746280"/>
            <a:ext cx="4967640" cy="37274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901440" y="4722480"/>
            <a:ext cx="495756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5680"/>
            <a:ext cx="293040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Nagpur</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30760" y="9445680"/>
            <a:ext cx="29304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5795-807C-4CDC-96B5-EBACE03443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6"/>
          <p:cNvSpPr/>
          <p:nvPr/>
        </p:nvSpPr>
        <p:spPr>
          <a:xfrm>
            <a:off x="0" y="9445680"/>
            <a:ext cx="293040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Nagpur</a:t>
            </a: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896760" y="746280"/>
            <a:ext cx="4967640" cy="3727440"/>
          </a:xfrm>
          <a:prstGeom prst="rect">
            <a:avLst/>
          </a:prstGeom>
          <a:ln w="0">
            <a:noFill/>
          </a:ln>
        </p:spPr>
      </p:sp>
      <p:sp>
        <p:nvSpPr>
          <p:cNvPr id="123" name="PlaceHolder 2"/>
          <p:cNvSpPr>
            <a:spLocks noGrp="1"/>
          </p:cNvSpPr>
          <p:nvPr>
            <p:ph type="body"/>
          </p:nvPr>
        </p:nvSpPr>
        <p:spPr>
          <a:xfrm>
            <a:off x="901440" y="4722480"/>
            <a:ext cx="495756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79D76-0095-4BE3-8F0B-87644373B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5761F-7C1A-47D5-9415-9CC9B04E8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21F64-399F-4405-B936-3E2588382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F041C-7EE0-46F4-96C7-9C8FFF521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0D565-BC7D-4822-94A7-5CEB1A6BB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9D293-E2C9-4317-96E4-B134FFC4D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BB9A1-0672-4114-8A1B-F7CEAEE5D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866DD-F910-44EE-9B50-8EA5C8AB7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21CEA-2A65-4499-B520-3B54DA942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13C71-4292-4654-8A9C-9CEC65DAA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A2B36-B0F1-4F87-A8D4-3BE7B4533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8DF8E-3BD8-42D5-9060-2298FB8AD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82BF7-FBDD-46E2-916E-AE37F6781181}"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165320"/>
            <a:ext cx="8229600" cy="49305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rPr>
              <a:t>By the end of this session the participants will get familiarized with concepts of Financial Management and Budgetary control. Besides Concept of Financial reporting as per Chapter III of Report of State Finances (RSF) will also come up for discussion </a:t>
            </a:r>
            <a:endParaRPr b="0" lang="en-US" sz="4000" spc="-1" strike="noStrike">
              <a:solidFill>
                <a:srgbClr val="000000"/>
              </a:solidFill>
              <a:latin typeface="Calibri"/>
            </a:endParaRPr>
          </a:p>
        </p:txBody>
      </p:sp>
      <p:sp>
        <p:nvSpPr>
          <p:cNvPr id="4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Session Overview:</a:t>
            </a:r>
            <a:br>
              <a:rPr sz="3300"/>
            </a:br>
            <a:endParaRPr b="0" lang="en-US" sz="33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cases where expenditure is being incurred upon an object for which no provision has been made in the original estimates, after proper examination, it should be submitted to the A.G. for consideration as to whether the cases should be treated as tentatively “</a:t>
            </a:r>
            <a:r>
              <a:rPr b="1" lang="en-US" sz="2100" spc="-1" strike="noStrike">
                <a:solidFill>
                  <a:srgbClr val="000000"/>
                </a:solidFill>
                <a:latin typeface="Calibri"/>
              </a:rPr>
              <a:t>New Service</a:t>
            </a:r>
            <a:r>
              <a:rPr b="0" lang="en-US" sz="2100" spc="-1" strike="noStrike">
                <a:solidFill>
                  <a:srgbClr val="000000"/>
                </a:solidFill>
                <a:latin typeface="Calibri"/>
              </a:rPr>
              <a: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llowing procedure should be followed by the Appropriation Accounts Section with regard to Appropriation Audit work:</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i)  The preliminary appropriation audit of the various grants which </a:t>
            </a:r>
            <a:r>
              <a:rPr b="0" i="1" lang="en-US" sz="2100" spc="-1" strike="noStrike">
                <a:solidFill>
                  <a:srgbClr val="000000"/>
                </a:solidFill>
                <a:latin typeface="Calibri"/>
              </a:rPr>
              <a:t>inter alia</a:t>
            </a:r>
            <a:r>
              <a:rPr b="0" lang="en-US" sz="2100" spc="-1" strike="noStrike">
                <a:solidFill>
                  <a:srgbClr val="000000"/>
                </a:solidFill>
                <a:latin typeface="Calibri"/>
              </a:rPr>
              <a:t> includes issue of warning slips, etc.</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fter the close of March (Preliminary) Accounts the Appropriation Accounts Section (AAS) should call for explanations for variations from the Controlling Officer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
          <p:cNvSpPr txBox="1"/>
          <p:nvPr/>
        </p:nvSpPr>
        <p:spPr>
          <a:xfrm>
            <a:off x="628560" y="1825200"/>
            <a:ext cx="7886880" cy="46515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milar procedure will have to be followed by the AAS after closure of March (Final) and (Supplementary) Accounts.  At these stages, ie. After closure of March (Final) and March (Supplementary) Accounts, the Controlling Officers will have to be intimated of the change in the figures (if any), previously reported to them after the close of March (Preliminary) Accounts, so as to enable them to revise their explanation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o obviate delays in the compilation of Appropriation Accounts, so as to ensure its submission to the Comptroller and Auditor General on the due dates, following measures are to be adopted:</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  Actuals, both under receipts and expenditure, should be compared with the revised Budget Estimates and sanctioned grants respectively and any variation as disclosed by the scrutiny should be investigated and set right forthwith.</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The periodical reconciliation of expenditure by Controlling Officers is not delayed and that prompt action is taken to set right the discrepancies noticed.</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Orders of re-appropriation and surrenders should be scrutinized as soon as they are received and noted in the Appropriation Audit Register promptly with reasons for increase or reduction.  In cases where reasons for savings are not furnished, they should be immediately called for.  All re-appropriation orders should contain a certificate to the effect that the amounts in question are not being re-appropriated to meet a new item of recurring expenditure, not provided for in the budget estimate of the year, which requires sanction of the higher authority.  It should be seen that the re-appropriation orders are not otherwise defectiv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The Statement showing grants and expenditure by sub-heads accompanied by a statement giving reasons for variation of re-appropriation and whenever possible also reasons for variations between the final modified grants and the actual expenditure, should be sent to the Controlling Officers immediately after the March (Preliminary) accounts are compiled.</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Progressive totals by sub-heads and minor heads separately for ‘charged’ and ‘voted’ should invariably be taken in the Consolidated Abstracts, and Section-I-Debt heads-State, every month and no correction should be made therein without proper authorization/attestation.  As the Appropriation and Finance Accounts are based on the figures recorded in the Consolidated Abstracts, it is necessary that these Abstracts are maintained properl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Steps should be taken to find out and clear all outstanding under the suspense head ‘Departmental Adjusting Accounts’ as this head has to close without any balance at the end of the year, and on their clearance depends the correctness of the actuals under the major head concerned.</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The findings in Chapter II of RSF appear in the following manne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u="sng">
                <a:solidFill>
                  <a:srgbClr val="000000"/>
                </a:solidFill>
                <a:uFillTx/>
                <a:latin typeface="Calibri"/>
              </a:rPr>
              <a:t>Summary of Appropriation Accou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summarized position of actual expenditure during the year of report against grants/ appropriations can be given in </a:t>
            </a:r>
            <a:r>
              <a:rPr b="1" lang="en-US" sz="2100" spc="-1" strike="noStrike">
                <a:solidFill>
                  <a:srgbClr val="000000"/>
                </a:solidFill>
                <a:latin typeface="Calibri"/>
              </a:rPr>
              <a:t>Table</a:t>
            </a:r>
            <a:r>
              <a:rPr b="0" lang="en-US" sz="2100" spc="-1" strike="noStrike">
                <a:solidFill>
                  <a:srgbClr val="000000"/>
                </a:solidFill>
                <a:latin typeface="Calibri"/>
              </a:rPr>
              <a: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Summarized position of Actual Expenditure </a:t>
            </a:r>
            <a:r>
              <a:rPr b="1" i="1" lang="en-US" sz="2100" spc="-1" strike="noStrike">
                <a:solidFill>
                  <a:srgbClr val="000000"/>
                </a:solidFill>
                <a:latin typeface="Calibri"/>
              </a:rPr>
              <a:t>vis-à-vis </a:t>
            </a:r>
            <a:r>
              <a:rPr b="1" lang="en-US" sz="2100" spc="-1" strike="noStrike">
                <a:solidFill>
                  <a:srgbClr val="000000"/>
                </a:solidFill>
                <a:latin typeface="Calibri"/>
              </a:rPr>
              <a:t>Original/ Supplementary provision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Financial Accountability and Budget Managemen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100" spc="-1" strike="noStrike">
                <a:solidFill>
                  <a:srgbClr val="000000"/>
                </a:solidFill>
                <a:latin typeface="Calibri"/>
              </a:rPr>
              <a:t>Expenditure in Excess of legislative approval by certain Departments</a:t>
            </a:r>
            <a:r>
              <a:rPr b="0" lang="en-IN" sz="2100" spc="-1" strike="noStrike">
                <a:solidFill>
                  <a:srgbClr val="000000"/>
                </a:solidFill>
                <a:latin typeface="Calibri"/>
              </a:rPr>
              <a:t> </a:t>
            </a:r>
            <a:r>
              <a:rPr b="0" lang="en-US" sz="2100" spc="-1" strike="noStrike">
                <a:solidFill>
                  <a:srgbClr val="000000"/>
                </a:solidFill>
                <a:latin typeface="Calibri"/>
              </a:rPr>
              <a:t>Audit may analyse/identify the cases where expenditure exceeding `1 crore or more than 20 </a:t>
            </a:r>
            <a:r>
              <a:rPr b="0" i="1" lang="en-US" sz="2100" spc="-1" strike="noStrike">
                <a:solidFill>
                  <a:srgbClr val="000000"/>
                </a:solidFill>
                <a:latin typeface="Calibri"/>
              </a:rPr>
              <a:t>per cent </a:t>
            </a:r>
            <a:r>
              <a:rPr b="0" lang="en-US" sz="2100" spc="-1" strike="noStrike">
                <a:solidFill>
                  <a:srgbClr val="000000"/>
                </a:solidFill>
                <a:latin typeface="Calibri"/>
              </a:rPr>
              <a:t>of the provision and comment on the excess expenditure during the yea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Excess over provisions requiring regularizatio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shall identify all the cases of excess expenditure over the provisions incurred from the Consolidated Fund of the State during the year that require regularization in the following tabl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Regularization of excess expenditur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onstitutional provisions require that excess over grant/ appropriation be got regularized by the legislature.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s per Section 82 of the Constitution of Jammu and Kashmir, it is mandatory for the State Government to get the excess over a grant/appropriation regularized by the State Legislature. Although no time limit for regularization of excess expenditure has been prescribed under the Section, the regularization of excess expenditure is done after the completion of discussion of the Appropriation Accounts by the Public Accounts Committee (PAC).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shall comment on the quantum of excess expenditure requiring regularization.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Expenditure without Provisio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s per the Budget Manual, expenditure should not be incurred on a scheme/ service without provision of funds. Audit shall comment on expenditure incurred in the Major heads of account without any provision in the original estimates/supplementary demand and without any re‑appropriation orders to this effect. Comment may flow from the following tabl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Rush of expenditur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ccording to codal provisions, rush of expenditure in the closing months of a financial year should be avoided. Audit can analyse the expenditure incurred during the last quarter as well as during the last month of the year vis-à-vis the total expenditure during the year. The comments can flow from a table to be prepared</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Saving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rough analysis of appropriation account, the audit can ascertain the number of cases, where savings exceeded `1 crore in each case or by more than 20 </a:t>
            </a:r>
            <a:r>
              <a:rPr b="0" i="1" lang="en-US" sz="2100" spc="-1" strike="noStrike">
                <a:solidFill>
                  <a:srgbClr val="000000"/>
                </a:solidFill>
                <a:latin typeface="Calibri"/>
              </a:rPr>
              <a:t>per cent </a:t>
            </a:r>
            <a:r>
              <a:rPr b="0" lang="en-US" sz="2100" spc="-1" strike="noStrike">
                <a:solidFill>
                  <a:srgbClr val="000000"/>
                </a:solidFill>
                <a:latin typeface="Calibri"/>
              </a:rPr>
              <a:t>of the total provision.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Persistent Savings by certain Departme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can analyse the grants with persistent savings of more than `one crore in each case and also by 10 </a:t>
            </a:r>
            <a:r>
              <a:rPr b="0" i="1" lang="en-US" sz="2100" spc="-1" strike="noStrike">
                <a:solidFill>
                  <a:srgbClr val="000000"/>
                </a:solidFill>
                <a:latin typeface="Calibri"/>
              </a:rPr>
              <a:t>per cent </a:t>
            </a:r>
            <a:r>
              <a:rPr b="0" lang="en-US" sz="2100" spc="-1" strike="noStrike">
                <a:solidFill>
                  <a:srgbClr val="000000"/>
                </a:solidFill>
                <a:latin typeface="Calibri"/>
              </a:rPr>
              <a:t>or more of the total grant over a period of last five years and detail them in a tabulated form.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Leaning Objective: -</a:t>
            </a:r>
            <a:br>
              <a:rPr sz="3300"/>
            </a:br>
            <a:endParaRPr b="0" lang="en-US" sz="3300" spc="-1" strike="noStrike">
              <a:solidFill>
                <a:srgbClr val="000000"/>
              </a:solidFill>
              <a:latin typeface="Calibri Light"/>
            </a:endParaRPr>
          </a:p>
        </p:txBody>
      </p:sp>
      <p:sp>
        <p:nvSpPr>
          <p:cNvPr id="5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rPr>
              <a:t>The participants will be able to acquire knowledge of Appropriation Act, Matters relating to Audit against provision of Funds, and Financial reporting requirements in chapters II and III of Report of State Finances (RSF)</a:t>
            </a:r>
            <a:endParaRPr b="0" lang="en-US" sz="4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Anticipated savings not surrendered</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s per the State Budget Manual, the spending departments are required to surrender the grants/appropriations or portion thereof to the Finance Department as and when the savings are anticipated.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can ascertain the details of grants/appropriations under Revenue Section and Capital Section in which savings had occurred during the year but the anticipated savings had not been surrendered.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Non-surrender of funds (savings) deprives the Government to transfer these funds to other needy sector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Unnecessary/ Excessive/ Inadequate supplementary provision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can analyse the details of where supplementary Grant was obtained in excess of the original provision in anticipation of expenditure and the final expenditure was even less than the original grant so as to highlight the inadequate system of Fund projection leading to unnecessary allotment of additional fund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urther, audit shall also analyse the cases where the the supplementary provision proved insufficient leaving an uncovered aggregate excess expenditure.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Non-reconciliation of Departmental figur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o enable Controlling Officers of the Departments to exercise effective control over spending, to keep it within the budget grants and to ensure accuracy of their accounts, the State Financial Rules stipulate that expenditure during the financial year recorded in their books be reconciled by them every month with that recorded in the books of the Accountant General (A&amp;E), Jammu and Kashmir.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can comment on as to how many controlling officers had reconciled the expenditure during the year what was the extent of non-reconciled expenditur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Errors in budgeting proces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can also comment on the errors in budgeting processing wherever noticed during the appropriation of audit. These can include lump sum budgetary provisions placed with Controlling Officers in various Demands for Grants instead of detailed head-wise/scheme-wise, provisions which, is in contravention of the State Financial Rules, Closure of Capital heads of accounts at sub-head level in the demand for grants and non-provision of detailed breakup in the approved demand for grants up to object head level etc.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 name=""/>
          <p:cNvSpPr txBox="1"/>
          <p:nvPr/>
        </p:nvSpPr>
        <p:spPr>
          <a:xfrm>
            <a:off x="628560" y="1825200"/>
            <a:ext cx="7886880" cy="4351320"/>
          </a:xfrm>
          <a:prstGeom prst="rect">
            <a:avLst/>
          </a:prstGeom>
          <a:noFill/>
          <a:ln w="0">
            <a:noFill/>
          </a:ln>
        </p:spPr>
        <p:txBody>
          <a:bodyPr anchor="t">
            <a:normAutofit fontScale="98000"/>
          </a:bodyPr>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Drawal of Funds to avoid lapse of Budgetary Grants</a:t>
            </a:r>
            <a:endParaRPr b="0" lang="en-US" sz="21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nancial rules do not permit drawal of funds to avoid lapsing of budget grant. According to the provisions of Jammu and Kashmir Financial Code Vol-I [Rule 2.16 (5)] no money should be drawn from the treasury unless it is required for immediate disbursement. Besides, it is not permissible to draw money from treasury for keeping in Banks or under civil deposits to prevent the lapse of Budgetary Grants. The 13th Finance Commission also recommended that the Public Accounts should not be treated as an alternative to the Consolidated Fund and Government expenditure should be directly incurred from the Consolidated Fund avoiding transfer from Consolidated Fund to the Public Account. Audit can comment on operation of such deposit heads where the amounts are drawn to avoid lapsing of budget grant. </a:t>
            </a:r>
            <a:endParaRPr b="0" lang="en-US" sz="21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Unrealistic forecasting of resourc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Jammu and Kashmir State Budget Manual stipulates that the Budget of the State is based on the departmental estimates submitted by the Controlling Officers. Both the departmental and the district estimate should always receive careful personal attention of the officers who submit them and should be as accurate as possible. Audit can analyse the departmental estimates vis-à-vis actual figures in the account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Mis-classification of Grants-in-Aid and Subsid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can comment on mis-classifications of Grants-in-Aid if any made by the State Government to various Institutions/Bodies in accordance with Indian Government Accounting Standard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Outcome of Review of selected Gra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can review of Budgetary Procedure and control over Expenditure in respect of test checked grants and highlight the audit observations which can include (i) </a:t>
            </a:r>
            <a:r>
              <a:rPr b="0" i="1" lang="en-US" sz="2100" spc="-1" strike="noStrike">
                <a:solidFill>
                  <a:srgbClr val="000000"/>
                </a:solidFill>
                <a:latin typeface="Calibri"/>
              </a:rPr>
              <a:t>Unrealistic Budget Provision (ii) Excess over provision requiring regularization (iii)Entire Provision remained unutilized (iv) Persistent saving (v)Anticipated savings not surrendered (vi) Expenditure incurred without Budgetary Provision (vii) Less Expenditure (Savings) under the Gra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Outcome of Inspection of Treasuries</a:t>
            </a:r>
            <a:r>
              <a:rPr b="0" lang="en-US" sz="2100" spc="-1" strike="noStrike">
                <a:solidFill>
                  <a:srgbClr val="000000"/>
                </a:solidFill>
                <a:latin typeface="Calibri"/>
              </a:rPr>
              <a: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uitable major comments on outcome of Inspection of Treasuries viz lapses in exchequer control, with impact thereon can be commented under this heading</a:t>
            </a:r>
            <a:r>
              <a:rPr b="0" lang="en-IN" sz="2100" spc="-1" strike="noStrike">
                <a:solidFill>
                  <a:srgbClr val="000000"/>
                </a:solidFill>
                <a:latin typeface="Calibri"/>
              </a:rPr>
              <a:t> </a:t>
            </a:r>
            <a:r>
              <a:rPr b="0" lang="en-US" sz="2100" spc="-1" strike="noStrike">
                <a:solidFill>
                  <a:srgbClr val="000000"/>
                </a:solidFill>
                <a:latin typeface="Calibri"/>
              </a:rPr>
              <a:t>Comments on Non- reimbursement of pension etc. by Pay &amp; Accounts Offices/ Defence Accounts Department may be suitably commented upon.  Transactions which initially arise in the State Treasuries but are adjustable by the PAO/ Defence are placed under suspense for eventual adjustments.  A specific mention may be made regarding   the amounts paid by the state treasuries on behalf of  Central Pension Accounting Officer, New Delhi and Controller Of Defence Accounts or other Accounting authories which remain un adjusted in the Accounts of State for want of non-submission of vouchers by such Accounting Authoritie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Conclusio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t the end of chapter audit can sum up the overall conclusion on the audit analysis of the appropriation account as contained in the repor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Recommendation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Keeping in view of the audit conclusion, appropriate recommendations need to be given. </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HAPTER – III</a:t>
            </a:r>
            <a:br>
              <a:rPr sz="3300"/>
            </a:br>
            <a:endParaRPr b="0" lang="en-US" sz="3300" spc="-1" strike="noStrike">
              <a:solidFill>
                <a:srgbClr val="000000"/>
              </a:solidFill>
              <a:latin typeface="Calibri Light"/>
            </a:endParaRPr>
          </a:p>
        </p:txBody>
      </p:sp>
      <p:sp>
        <p:nvSpPr>
          <p:cNvPr id="10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FINANCIAL REPORTING</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 sound internal financial reporting with relevant and reliable information significantly contributes to efficient and effective governance by the State Government. Compliance with financial rules, procedures and directives as well as the timeliness and quality of reporting on the status of such compliances is thus one of the attributes of good governance. The reports on compliance and controls, if effective and operational, assist the State Government in meeting its basic stewardship responsibilities, including strategic planning and decision making.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FINANCIAL MANAGEMENT AND BUDGETARY CONTROL</a:t>
            </a:r>
            <a:br>
              <a:rPr sz="3300"/>
            </a:br>
            <a:endParaRPr b="0" lang="en-US" sz="3300" spc="-1" strike="noStrike">
              <a:solidFill>
                <a:srgbClr val="000000"/>
              </a:solidFill>
              <a:latin typeface="Calibri Light"/>
            </a:endParaRPr>
          </a:p>
        </p:txBody>
      </p:sp>
      <p:sp>
        <p:nvSpPr>
          <p:cNvPr id="5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ppropriation Accounts are accounts of the expenditure, voted and charged, of the Government for each financial year compared with the amounts of voted grants and appropriations charged for different purposes as specified in the schedules appended to the Appropriation Acts. These Accounts list the original budget estimates, supplementary grants, surrenders and re-appropriations distinctly and indicate actual capital and revenue expenditure on various specified services </a:t>
            </a:r>
            <a:r>
              <a:rPr b="0" i="1" lang="en-US" sz="2100" spc="-1" strike="noStrike">
                <a:solidFill>
                  <a:srgbClr val="000000"/>
                </a:solidFill>
                <a:latin typeface="Calibri"/>
              </a:rPr>
              <a:t>vis-à-vis </a:t>
            </a:r>
            <a:r>
              <a:rPr b="0" lang="en-US" sz="2100" spc="-1" strike="noStrike">
                <a:solidFill>
                  <a:srgbClr val="000000"/>
                </a:solidFill>
                <a:latin typeface="Calibri"/>
              </a:rPr>
              <a:t>those authorized by the Appropriation Act in respect of both charged and voted items of budget. Appropriation Accounts, thus, facilitate management of finances and monitoring of budgetary provisions and are, therefore, complementary to Finance Account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Pendency in submission of Detailed Countersigned Contingent (DC) Bills against Abstract Contingent (AC) Bill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s per rules (Chapter-VIII of the Jammu and Kashmir Financial Code Vol-1) every Drawing Officer has to certify in each abstract contingent bill that detailed bills for all contingent charges drawn by him prior to the first of the current month have been forwarded to the respective controlling officers for countersignature and transmit the same to the Accountant General (A&amp;E) Jammu &amp; Kashmir.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can analyse and comment on non/delayed submission of corresponding DC bill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Delay in furnishing of Utilisation Certificat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tonomous Bodies/authorities not having sufficient resources of their own are assisted financially by the Government through release of Grant-in-Aid (GIA) to be spent on specific purposes. Financial Rules provide that for the grants provided for specific purposes, Utilization Certificates (UCs) should be obtained by the departmental officers from the grantees and after verification, these should be forwarded to the Accountant General (A&amp;E), within 18 months from the date of their sanction unless specified otherwise. Audit can analyse and comment on non/delayed submission of utilisaiton certificates by the grante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Non-submission/delay in submission of Annual accounts by Autonomous Bodi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 terms of the Section 14, Sections 19(3) and 20(1) the annual accounts of certain autonomous bodies were required to be audited by the Comptroller and Auditor General (C&amp;AG) of India. Audit can comment on non/ delay in submission of annual accounts by the autonomous bodie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Non-submission/ delay in submission of accounts by these Bodies receiving substantial funding from the State Budget is a serious financial irregularity. The audited accounts of these Statutory Bodies cannot be presented to the State Legislature as required under the Statutes under which these Bodies were created. This deprives the State Legislature to get a feedback on their activities and financial performanc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
          <p:cNvSpPr txBox="1"/>
          <p:nvPr/>
        </p:nvSpPr>
        <p:spPr>
          <a:xfrm>
            <a:off x="628560" y="1825200"/>
            <a:ext cx="7886880" cy="4498920"/>
          </a:xfrm>
          <a:prstGeom prst="rect">
            <a:avLst/>
          </a:prstGeom>
          <a:noFill/>
          <a:ln w="0">
            <a:noFill/>
          </a:ln>
        </p:spPr>
        <p:txBody>
          <a:bodyPr anchor="t">
            <a:normAutofit fontScale="99000"/>
          </a:bodyPr>
          <a:p>
            <a:pPr marL="169560" indent="-16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Departmentally Managed Commercial Undertakings</a:t>
            </a:r>
            <a:endParaRPr b="0" lang="en-US" sz="2100" spc="-1" strike="noStrike">
              <a:solidFill>
                <a:srgbClr val="000000"/>
              </a:solidFill>
              <a:latin typeface="Calibri"/>
            </a:endParaRPr>
          </a:p>
          <a:p>
            <a:pPr marL="169560" indent="-16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departmental undertakings of certain Government departments performing activities of commercial nature are also required to prepare </a:t>
            </a:r>
            <a:r>
              <a:rPr b="0" i="1" lang="en-US" sz="2100" spc="-1" strike="noStrike">
                <a:solidFill>
                  <a:srgbClr val="000000"/>
                </a:solidFill>
                <a:latin typeface="Calibri"/>
              </a:rPr>
              <a:t>proforma </a:t>
            </a:r>
            <a:r>
              <a:rPr b="0" lang="en-US" sz="2100" spc="-1" strike="noStrike">
                <a:solidFill>
                  <a:srgbClr val="000000"/>
                </a:solidFill>
                <a:latin typeface="Calibri"/>
              </a:rPr>
              <a:t>accounts in the prescribed format annually. The finalised accounts of departmentally managed commercial and quasi-commercial undertakings reflect their overall financial health and efficiency in conducting their business. In the absence of timely finalisation of accounts, corrective measures, if any required, for ensuring accountability and improving efficiency cannot be taken on time. Besides, the delay is fraught with risk of fraud and leakage of public money. The Heads of the Government Departments are required to ensure that the undertakings prepare such accounts and submit the same to the Accountant General (Audit), Jammu and Kashmir for audit within a specified time frame. Audit can comment on delay/ non-submission of account by these undertakings. </a:t>
            </a:r>
            <a:endParaRPr b="0" lang="en-US" sz="2100" spc="-1" strike="noStrike">
              <a:solidFill>
                <a:srgbClr val="000000"/>
              </a:solidFill>
              <a:latin typeface="Calibri"/>
            </a:endParaRPr>
          </a:p>
          <a:p>
            <a:pPr marL="169560" indent="-16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 addition to the above issues audit can also comment on any other issues noticed during the audit of Finance and appropriation accounts which may include the comment regarding completeness of the accounts, outstanding liabilities etc. One of such issues can b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Opaqueness in Govt. accounts</a:t>
            </a:r>
            <a:r>
              <a:rPr b="0" lang="en-IN" sz="2100" spc="-1" strike="noStrike">
                <a:solidFill>
                  <a:srgbClr val="000000"/>
                </a:solidFill>
                <a:latin typeface="Calibri"/>
              </a:rPr>
              <a:t> </a:t>
            </a:r>
            <a:r>
              <a:rPr b="1" lang="en-US" sz="2100" spc="-1" strike="noStrike">
                <a:solidFill>
                  <a:srgbClr val="000000"/>
                </a:solidFill>
                <a:latin typeface="Calibri"/>
              </a:rPr>
              <a:t>(Bookings under Minor Head</a:t>
            </a:r>
            <a:r>
              <a:rPr b="0" lang="en-IN" sz="2100" spc="-1" strike="noStrike">
                <a:solidFill>
                  <a:srgbClr val="000000"/>
                </a:solidFill>
                <a:latin typeface="Calibri"/>
              </a:rPr>
              <a:t> </a:t>
            </a:r>
            <a:r>
              <a:rPr b="1" lang="en-US" sz="2100" spc="-1" strike="noStrike">
                <a:solidFill>
                  <a:srgbClr val="000000"/>
                </a:solidFill>
                <a:latin typeface="Calibri"/>
              </a:rPr>
              <a:t>800- 'Other Receipts' and 'Other Expenditure') for which we may attempt an exercise</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Booking under Minor Head 800 other receipts and 800 other expenditure is opaque as they do not disclose the Schemes, programmes to which they relate. In such cases generally the major schemes are not depicted distinctly in the Finance Accounts, though the details of this expenditure are depicted in the sub-head (scheme) level or below in the detailed demands for Grants and corresponding head-wise Appropriation Accounts forming part of the State Government Accounts. Classification of large amounts booked under the minor head '800'-Other receipts/ expenditure affects the transparency and the fair picture in financial reporting.</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Conclusio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t the end of chapter audit can sum up the overall conclusion on as contained in this chapter of the repor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Recommendation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Keeping in view of the audit conclusion, appropriate recommendations need to be given.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28560" y="1825200"/>
            <a:ext cx="788688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8800" spc="-1" strike="noStrike">
                <a:solidFill>
                  <a:srgbClr val="000000"/>
                </a:solidFill>
                <a:latin typeface="Calibri"/>
              </a:rPr>
              <a:t>THANK YOU</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of appropriations by the Comptroller and Auditor General of India seeks to ascertain whether the expenditure actually incurred under various grants is within the authorization given under the Appropriation Act and that the expenditure required to be charged under the provisions of the Constitution is so charged. It also ascertains whether the expenditure so incurred is in conformity with the law, relevant rules, regulations and instruction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
          <p:cNvSpPr txBox="1"/>
          <p:nvPr/>
        </p:nvSpPr>
        <p:spPr>
          <a:xfrm>
            <a:off x="628560" y="1825200"/>
            <a:ext cx="7886880" cy="4351320"/>
          </a:xfrm>
          <a:prstGeom prst="rect">
            <a:avLst/>
          </a:prstGeom>
          <a:noFill/>
          <a:ln w="0">
            <a:noFill/>
          </a:ln>
        </p:spPr>
        <p:txBody>
          <a:bodyPr anchor="t">
            <a:normAutofit fontScale="98000"/>
          </a:bodyPr>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APPROPRIATION ACT</a:t>
            </a:r>
            <a:endParaRPr b="0" lang="en-US" sz="21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u="sng">
                <a:solidFill>
                  <a:srgbClr val="000000"/>
                </a:solidFill>
                <a:uFillTx/>
                <a:latin typeface="Calibri"/>
              </a:rPr>
              <a:t>After the An</a:t>
            </a:r>
            <a:r>
              <a:rPr b="0" lang="en-US" sz="2100" spc="-1" strike="noStrike">
                <a:solidFill>
                  <a:srgbClr val="000000"/>
                </a:solidFill>
                <a:latin typeface="Calibri"/>
              </a:rPr>
              <a:t>nual Budget has been finally approved by the Legislature with or without modifications in the estimates presented by the Minister of Finance or a motion for vote on account in respect of making grants in advance in respect of the estimated expenditure for a part of the ensuing financial year is passed by the Legislature, an Appropriation Bill or an Appropriation (Vote on Account) Bill should be presented to the Legislature.  The Bills contain Schedules showing specific purposes and services and the limits up to which expenditure on those purposes and services can be incurred from the Consolidated Fund during the whole or a part of the ensuing financial year as the case may be.  When the Bills are passed by the Legislature and are assented to by the Governor, they become the Appropriation Act or the Appropriation (Vote on Account) Act respectively.</a:t>
            </a:r>
            <a:endParaRPr b="0" lang="en-US" sz="21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 name=""/>
          <p:cNvSpPr txBox="1"/>
          <p:nvPr/>
        </p:nvSpPr>
        <p:spPr>
          <a:xfrm>
            <a:off x="628560" y="1825200"/>
            <a:ext cx="7886880" cy="45752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ANALYSIS OF BUDGET ESTIMAT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Under the provisions contained in Article 266 of the Constitution it is not permissible to withdraw any money from the Consolidated Fund of the State except under appropriations made by law of the Legislature.  Positive expenditure to be incurred during a financial year, out of the Consolidated Fund of the State, under each Major head of account or a demand, is required to be specifically authorized by the Legislature, notwithstanding the receipts or recoveries under a particular major head which are adjusted in reduction of the expenditure thereunder according to the principles of accounting laid down by the Comptroller and Auditor General of India.  The demands to be presented to the Legislature should, therefore, be for the estimated gross expenditure, exclusive of the estimated credit or recoveries shown as deductions from the expenditure under the relevant budget head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xcept where the expenditure is covered by standing sanctions or where necessary powers have been delegated to the administrative departments, heads of departments and subordinate authorities, with the concurrence of the Finance Department, the provision of funds in the budget by itself conveys no sanction to the authorities concerned to incur expenditure.  The following conditions must be satisfied before public money is spen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Calibri"/>
              <a:buAutoNum type="romanL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nancial sanction to the Scheme or item of expenditure should be accorded by the competent authorit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Calibri"/>
              <a:buAutoNum type="romanL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Requisite provision for expenditure should be made available by the authority competent to sanction expenditure.  In the case of the works expenditure, this sanction should include both administrative approval and technical sanction of competent authoriti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Calibri"/>
              <a:buAutoNum type="romanL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3" name=""/>
          <p:cNvSpPr txBox="1"/>
          <p:nvPr/>
        </p:nvSpPr>
        <p:spPr>
          <a:xfrm>
            <a:off x="628560" y="1825200"/>
            <a:ext cx="788688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ii. Sufficient funds for meeting the expenditure should be provided for in the Appropriation Act or made available by re-appropriation by the authorities competent to sanction re-appropriations.</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iv. </a:t>
            </a:r>
            <a:r>
              <a:rPr b="0" lang="en-US" sz="2100" spc="-1" strike="noStrike">
                <a:solidFill>
                  <a:srgbClr val="000000"/>
                </a:solidFill>
                <a:latin typeface="Calibri"/>
              </a:rPr>
              <a:t>No breach of the canons of financial propriety  should involved </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PREPARATION &amp; MAINTENANCE OF APPROPRIATION AUDIT REGISTE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s provided in Para 3.15.1 of C&amp;AG’s MSO (Audit) Vol. 1, the Appropriation Audit Register is required to be maintained in Form MSO (T) 94 by the Section entrusted with the Work of Appropriation Accounts.  All orders from State Govt. regarding sanction to original grants approved by the legislature at the time of passage of annual budget shall be noted in this register and indicated by letter ‘O’, Orders sanctioning supplementary grants passed by the legislature shall be scrutinized and noted below the original grants and indicated by the letter ‘S’ (S-1, S-2, S-3) orders of re-appropriation sanctioned by the executive authorities for transfer of funds from one sub head to another within the same grant shall be noted below the supplementary grant and indicated by the letter ‘R’ Total of figure O, S, R will give the figures of final Grant, where Govt. surrender part of the funds, orders of surrender of grants are also noted in this regard and </a:t>
            </a:r>
            <a:r>
              <a:rPr b="1" lang="en-US" sz="1800" spc="-1" strike="noStrike">
                <a:solidFill>
                  <a:srgbClr val="000000"/>
                </a:solidFill>
                <a:latin typeface="Calibri"/>
              </a:rPr>
              <a:t>Final Modified Grants</a:t>
            </a:r>
            <a:r>
              <a:rPr b="0" lang="en-US" sz="1800" spc="-1" strike="noStrike">
                <a:solidFill>
                  <a:srgbClr val="000000"/>
                </a:solidFill>
                <a:latin typeface="Calibri"/>
              </a:rPr>
              <a:t> (FMG) worked out.</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5:29:29Z</dcterms:created>
  <dc:creator>a g officejammu</dc:creator>
  <dc:description/>
  <dc:language>en-US</dc:language>
  <cp:lastModifiedBy>Hewlett-Packard Company</cp:lastModifiedBy>
  <dcterms:modified xsi:type="dcterms:W3CDTF">2019-01-24T10:54:10Z</dcterms:modified>
  <cp:revision>66</cp:revision>
  <dc:subject/>
  <dc:title>Duties and Powers of the Comptroller and Auditor General of India</dc:title>
</cp:coreProperties>
</file>