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839BB-99FB-44CA-861C-10F523D64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069D4-D584-4AC3-BDB8-7167F609D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89FF4-D18D-483C-842D-E664506B6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F2D88-3E11-4BAB-BCEF-559B2CE4C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11DAE8-45D3-424A-9703-6BC8049F6B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0F8A6-B9B6-4989-923A-36044ED64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53932-DCB6-40E9-8296-04F4F5F17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45212-031C-4B18-9168-2A860F1B1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96095-7CB3-414E-9494-C2809A180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E608B-780D-4682-BAA4-345D2B744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80A22-9C41-4FD9-ACC5-74D4280AD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65E96-E960-4E57-B42F-9ECDF79AE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8B690-252F-479C-B5B9-661D6AC3B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FD41B-A29D-47B0-9B36-EE133130A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914B9-2589-444C-979F-ADB3FEE94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B1A7A7-1026-46CB-A908-857E31D74B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537A8E-1AC8-4BCF-9D13-E7425F9EC2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E72CF-BD35-4E23-8D7F-FB288B489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4D4C2-8D68-4D15-925B-B3F32746E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81E4D-C10D-45D4-AF12-B30BFF3FA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FD23D-D684-4DBD-AB6A-37BBF3646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4B343-1C5B-4053-A737-A717143CB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E2D76-D21C-4123-BC19-8694D68BD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A200F-1242-4049-980B-E584543D7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ECAE-FF97-4D8C-8C67-DEC4D29573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3CE9-4A88-42F1-A226-814EFFF2B1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13840"/>
            <a:ext cx="7772400" cy="210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lide 8.1 :</a:t>
            </a:r>
            <a:br>
              <a:rPr sz="4400"/>
            </a:br>
            <a:r>
              <a:rPr b="0" lang="en-US" sz="4400" spc="-1" strike="noStrike">
                <a:solidFill>
                  <a:srgbClr val="003366"/>
                </a:solidFill>
                <a:latin typeface="Verdana"/>
              </a:rPr>
              <a:t>Tariff Determination Process - Electricity</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685800" y="1980720"/>
            <a:ext cx="7848720" cy="48769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ven the relevant provisions of Electricity Regulatory Commission Act, 1998 read with the provisions of Electricity Act, 2003, the learner will obtain an overview in regard to the tariff determination process followed by the above Commission to the extent that it will make him aware of the various provisions in this regard and enable him to conduct the audit thereto as evaluated by the instructo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lide 8.2.5 : Section 64</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dure for determining Tariff orde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1" name=""/>
          <p:cNvSpPr txBox="1"/>
          <p:nvPr/>
        </p:nvSpPr>
        <p:spPr>
          <a:xfrm>
            <a:off x="912600" y="1904760"/>
            <a:ext cx="8110440" cy="4190760"/>
          </a:xfrm>
          <a:prstGeom prst="rect">
            <a:avLst/>
          </a:prstGeom>
          <a:noFill/>
          <a:ln w="0">
            <a:noFill/>
          </a:ln>
        </p:spPr>
        <p:txBody>
          <a:bodyPr anchor="t">
            <a:normAutofit fontScale="99000"/>
          </a:bodyPr>
          <a:p>
            <a:pPr marL="339480" indent="-33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ppropriate Commission shall:-</a:t>
            </a:r>
            <a:endParaRPr b="0" lang="en-US" sz="3200" spc="-1" strike="noStrike">
              <a:solidFill>
                <a:srgbClr val="000000"/>
              </a:solidFill>
              <a:latin typeface="Verdana"/>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publish a draft tariff order inviting suggestions and objections.</a:t>
            </a:r>
            <a:endParaRPr b="0" lang="en-US" sz="3200" spc="-1" strike="noStrike">
              <a:solidFill>
                <a:srgbClr val="000000"/>
              </a:solidFill>
              <a:latin typeface="Verdana"/>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 within one hundred and twenty days from the date of receipt of application either issue a tariff order or reject the same for reasons to be recorded in writing.</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lide 8.2.6 : Section 65</a:t>
            </a:r>
            <a:endParaRPr b="0" lang="en-US" sz="4400" spc="-1" strike="noStrike">
              <a:solidFill>
                <a:srgbClr val="003366"/>
              </a:solidFill>
              <a:latin typeface="Verdana"/>
            </a:endParaRPr>
          </a:p>
        </p:txBody>
      </p:sp>
      <p:sp>
        <p:nvSpPr>
          <p:cNvPr id="23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dure for grant of subsidy to any class of consume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5" name=""/>
          <p:cNvSpPr txBox="1"/>
          <p:nvPr/>
        </p:nvSpPr>
        <p:spPr>
          <a:xfrm>
            <a:off x="912600" y="1905120"/>
            <a:ext cx="8110440" cy="4548240"/>
          </a:xfrm>
          <a:prstGeom prst="rect">
            <a:avLst/>
          </a:prstGeom>
          <a:noFill/>
          <a:ln w="0">
            <a:noFill/>
          </a:ln>
        </p:spPr>
        <p:txBody>
          <a:bodyPr anchor="t">
            <a:normAutofit/>
          </a:bodyPr>
          <a:p>
            <a:pPr marL="343080" indent="-343080" algn="just">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IF State Government requires the grant of any subsidy to any consumer or class of consumers, it shall pay in advance and in the manner as may be specified, the amount to compensate the person affected by the grant of subsidy in such manner as the State Commission may direc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7"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rections of the State Government not  to be operative if the payment is not made in the aforesaid manner &amp; the tariff fixed by the State Commission shall be applicable from the date of issue of order by it.</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lide 8.2.7 : Section 66</a:t>
            </a:r>
            <a:endParaRPr b="0" lang="en-US" sz="4400" spc="-1" strike="noStrike">
              <a:solidFill>
                <a:srgbClr val="003366"/>
              </a:solidFill>
              <a:latin typeface="Verdana"/>
            </a:endParaRPr>
          </a:p>
        </p:txBody>
      </p:sp>
      <p:sp>
        <p:nvSpPr>
          <p:cNvPr id="23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ment of market including trading in electri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41"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ppropriate Commission shall endeavor to promote the development of a market including trading in electricity in such manner as may be specifie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62280"/>
            <a:ext cx="7772400" cy="411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lide 8.2.1: </a:t>
            </a:r>
            <a:br>
              <a:rPr sz="4400"/>
            </a:br>
            <a:r>
              <a:rPr b="0" lang="en-US" sz="4400" spc="-1" strike="noStrike">
                <a:solidFill>
                  <a:srgbClr val="003366"/>
                </a:solidFill>
                <a:latin typeface="Verdana"/>
              </a:rPr>
              <a:t>What are the various Sections in the Electricity Act, 2003 which provide for Tariff regulation, determination etc.?</a:t>
            </a:r>
            <a:endParaRPr b="0" lang="en-US" sz="4400" spc="-1" strike="noStrike">
              <a:solidFill>
                <a:srgbClr val="003366"/>
              </a:solidFill>
              <a:latin typeface="Verdana"/>
            </a:endParaRPr>
          </a:p>
        </p:txBody>
      </p:sp>
      <p:sp>
        <p:nvSpPr>
          <p:cNvPr id="213" name="PlaceHolder 2"/>
          <p:cNvSpPr>
            <a:spLocks noGrp="1"/>
          </p:cNvSpPr>
          <p:nvPr>
            <p:ph type="subTitle"/>
          </p:nvPr>
        </p:nvSpPr>
        <p:spPr>
          <a:xfrm>
            <a:off x="1447920" y="4419720"/>
            <a:ext cx="6400800" cy="175248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ections 61 to 66</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lide 8.2.2 : Section 61</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riff for generation, transmission, distribution and supply - sale of powe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3366"/>
              </a:solidFill>
              <a:latin typeface="Verdana"/>
            </a:endParaRPr>
          </a:p>
        </p:txBody>
      </p:sp>
      <p:sp>
        <p:nvSpPr>
          <p:cNvPr id="217"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tion 61</a:t>
            </a:r>
            <a:r>
              <a:rPr b="1" lang="en-US" sz="3200" spc="-1" strike="noStrike">
                <a:solidFill>
                  <a:srgbClr val="000000"/>
                </a:solidFill>
                <a:latin typeface="Verdana"/>
              </a:rPr>
              <a:t> </a:t>
            </a:r>
            <a:r>
              <a:rPr b="0" lang="en-US" sz="3200" spc="-1" strike="noStrike">
                <a:solidFill>
                  <a:srgbClr val="000000"/>
                </a:solidFill>
                <a:latin typeface="Verdana"/>
              </a:rPr>
              <a:t>of the said Act, this clause empowers the Appropriate Commission to specify by regulation the terms and conditions for the determination of the tariff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3366"/>
              </a:solidFill>
              <a:latin typeface="Verdana"/>
            </a:endParaRPr>
          </a:p>
        </p:txBody>
      </p:sp>
      <p:sp>
        <p:nvSpPr>
          <p:cNvPr id="219"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ommission shall be guided by, inter alia, the principles and methodologies specified by the Central Commission for determination of tariff for generation, transmission, distribution and supply of electri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3366"/>
              </a:solidFill>
              <a:latin typeface="Verdana"/>
            </a:endParaRPr>
          </a:p>
        </p:txBody>
      </p:sp>
      <p:sp>
        <p:nvSpPr>
          <p:cNvPr id="221"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also provides that the terms and conditions of tariff for sale of electricity determined under Section 43-A of the Electricity (Supply) Act, 1948, the Electricity Regulatory Commission Ac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lide 8.2.3 : Section 62</a:t>
            </a:r>
            <a:endParaRPr b="0" lang="en-US" sz="4400" spc="-1" strike="noStrike">
              <a:solidFill>
                <a:srgbClr val="003366"/>
              </a:solidFill>
              <a:latin typeface="Verdana"/>
            </a:endParaRPr>
          </a:p>
        </p:txBody>
      </p:sp>
      <p:sp>
        <p:nvSpPr>
          <p:cNvPr id="223" name="PlaceHolder 2"/>
          <p:cNvSpPr>
            <a:spLocks noGrp="1"/>
          </p:cNvSpPr>
          <p:nvPr>
            <p:ph/>
          </p:nvPr>
        </p:nvSpPr>
        <p:spPr>
          <a:xfrm>
            <a:off x="912600" y="1905120"/>
            <a:ext cx="8110440" cy="483696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5880" indent="-3358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pply of Electricity by a generating company to distribution licensee</a:t>
            </a:r>
            <a:endParaRPr b="0" lang="en-US" sz="3200" spc="-1" strike="noStrike">
              <a:solidFill>
                <a:srgbClr val="000000"/>
              </a:solidFill>
              <a:latin typeface="Verdana"/>
            </a:endParaRPr>
          </a:p>
          <a:p>
            <a:pPr marL="335880" indent="-3358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ppropriate Commission </a:t>
            </a:r>
            <a:endParaRPr b="0" lang="en-US" sz="3200" spc="-1" strike="noStrike">
              <a:solidFill>
                <a:srgbClr val="000000"/>
              </a:solidFill>
              <a:latin typeface="Verdana"/>
            </a:endParaRPr>
          </a:p>
          <a:p>
            <a:pPr marL="335880" indent="-335880">
              <a:spcBef>
                <a:spcPts val="799"/>
              </a:spcBef>
              <a:buClr>
                <a:srgbClr val="9a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all not show undue preference to any consumer of electricity while determining the tariff</a:t>
            </a:r>
            <a:endParaRPr b="0" lang="en-US" sz="3200" spc="-1" strike="noStrike">
              <a:solidFill>
                <a:srgbClr val="000000"/>
              </a:solidFill>
              <a:latin typeface="Verdana"/>
            </a:endParaRPr>
          </a:p>
          <a:p>
            <a:pPr marL="335880" indent="-335880">
              <a:spcBef>
                <a:spcPts val="799"/>
              </a:spcBef>
              <a:buClr>
                <a:srgbClr val="9a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y fix only the minimum and maximum ceiling of tariff</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3366"/>
              </a:solidFill>
              <a:latin typeface="Verdana"/>
            </a:endParaRPr>
          </a:p>
        </p:txBody>
      </p:sp>
      <p:sp>
        <p:nvSpPr>
          <p:cNvPr id="225" name=""/>
          <p:cNvSpPr txBox="1"/>
          <p:nvPr/>
        </p:nvSpPr>
        <p:spPr>
          <a:xfrm>
            <a:off x="912600" y="1904760"/>
            <a:ext cx="8110440" cy="419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Verdana"/>
              </a:rPr>
              <a:t>(c) </a:t>
            </a:r>
            <a:r>
              <a:rPr b="0" lang="en-US" sz="3200" spc="-1" strike="noStrike">
                <a:solidFill>
                  <a:srgbClr val="000000"/>
                </a:solidFill>
                <a:latin typeface="Verdana"/>
              </a:rPr>
              <a:t>may require a generating company or a licensee to comply with such procedure as may be specified for calculating the expected revenues </a:t>
            </a:r>
            <a:endParaRPr b="0" lang="en-US" sz="3200" spc="-1" strike="noStrike">
              <a:solidFill>
                <a:srgbClr val="000000"/>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lide 8.2.4 : Section 63</a:t>
            </a: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riff Determination through Bidding</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00:12:33Z</dcterms:created>
  <dc:creator>pa</dc:creator>
  <dc:description/>
  <dc:language>en-US</dc:language>
  <cp:lastModifiedBy>Hewlett-Packard Company</cp:lastModifiedBy>
  <dcterms:modified xsi:type="dcterms:W3CDTF">2017-11-17T06:53:41Z</dcterms:modified>
  <cp:revision>19</cp:revision>
  <dc:subject/>
  <dc:title>Tariff Determination Process - Electricity</dc:title>
</cp:coreProperties>
</file>