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83306-283D-45C3-8448-4FBDFBA48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E505D-A52C-4AC8-BD99-CD3680F62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CA2C9-D83C-4B50-88CE-E9370D7BA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8DEB1-CFFE-469E-ADD6-A58409EBD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9BC4E-BEB9-4730-AA71-1CECA5FC6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F5F5F-D98F-471A-AE22-39036D2BD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1BA9B-50CB-43AF-BA20-EE5752FC2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9823E-3CEA-4B33-A850-B53754052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7D00E-60AE-45E7-8BCA-36DAE7911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1005B-09AF-4DD7-9779-205B4652B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082C6-ECE2-480F-9B3D-A1D35B0A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D469-8498-4021-97F8-3BC38B05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30324-1375-4DB3-93CF-1A62734DD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89A1B-57C8-4680-80C9-77FE5BF2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ED7C3-F707-4832-B736-BF83D7AE1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5F708-DC4E-419F-A28F-E1B755F8C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45DA0-3BF5-4B3A-AAF5-5C35C235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5002B-DBB3-4D15-A6AA-B980A1411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D88A5-6D03-4F76-99D7-9D6419F2E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0767-9BD5-46E5-8156-4D8DE602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D4A9-9C62-4762-B5A6-49721D25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DFD1-BD0F-4A03-B8C7-1C5B9F41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7DC3-81BB-4411-835E-0DB635A2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4D4C-6AAC-4D24-B2F0-67E53131C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52C1-7236-46E5-AF09-E6658F5BE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6F6D-B984-4DEE-8BC8-EA251CA3E1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914400" y="365040"/>
            <a:ext cx="7543800" cy="5579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iven the basic objectives of regulation and the objectives enshrined in various Acts, the  learner will obtain an overview of different objectives to the extent that it will make him aware of objectives of different Regulatory Authorities, as evaluated by the instruct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Times New Roman"/>
              </a:rPr>
              <a:t>Free distribution of piped water and free power to agriculture these are regulatory decisions to levy zero tariffs which stem from policy stan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73200" y="2060640"/>
            <a:ext cx="7772400" cy="4114800"/>
          </a:xfrm>
          <a:prstGeom prst="rect">
            <a:avLst/>
          </a:prstGeom>
          <a:noFill/>
          <a:ln w="0">
            <a:noFill/>
          </a:ln>
        </p:spPr>
        <p:txBody>
          <a:bodyPr anchor="t">
            <a:normAutofit/>
          </a:bodyPr>
          <a:p>
            <a:pPr marL="343080" indent="-343080">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8800" spc="-1" strike="noStrike">
                <a:solidFill>
                  <a:srgbClr val="ffffff"/>
                </a:solidFill>
                <a:latin typeface="Times New Roman"/>
              </a:rPr>
              <a:t>Thank You</a:t>
            </a: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55560" y="69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Basic objectives of Regulation in India</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 interests of service provid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 interests of consum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 transparency, independency and public participatio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vent exploitation, restrictive and unfair practi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sure quality of service to consum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asic objectives of Regulation in India</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 level playing field to new investo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framework for public and private partnershi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 confidence to potential investors and consum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Objectives in different Regulatory Ac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ality of service and consumer satisfactio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in tariff with increase in qualit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e competition, tariff rationalisatio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 back mechanis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nitoring mechanis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ressal of consumer grievanc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Rationale for Economic Regulation </a:t>
            </a:r>
            <a:br>
              <a:rPr sz="4400"/>
            </a:b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96" name=""/>
          <p:cNvSpPr txBox="1"/>
          <p:nvPr/>
        </p:nvSpPr>
        <p:spPr>
          <a:xfrm>
            <a:off x="685800" y="1557360"/>
            <a:ext cx="7772400" cy="4896000"/>
          </a:xfrm>
          <a:prstGeom prst="rect">
            <a:avLst/>
          </a:prstGeom>
          <a:noFill/>
          <a:ln w="0">
            <a:noFill/>
          </a:ln>
        </p:spPr>
        <p:txBody>
          <a:bodyPr anchor="t">
            <a:normAutofit/>
          </a:bodyPr>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prevent market failure</a:t>
            </a:r>
            <a:endParaRPr b="0" lang="en-US" sz="36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failure is a condition in which the market mechanism fails to allocate resources efficiently to maximize social welfare.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ural monopoly occurs when an entire market is more efficiently served by one firm than by two or more firms due to increasing returns to sca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such cases, regulation may be necessary to protect consumer interest.</a:t>
            </a:r>
            <a:endParaRPr b="0" lang="en-US" sz="3200" spc="-1" strike="noStrike">
              <a:solidFill>
                <a:srgbClr val="ffffff"/>
              </a:solidFill>
              <a:latin typeface="Times New Roman"/>
            </a:endParaRPr>
          </a:p>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ater sector is still a natural monopoly and completely controlled by the government</a:t>
            </a:r>
            <a:endParaRPr b="0" lang="en-US" sz="3200" spc="-1" strike="noStrike">
              <a:solidFill>
                <a:srgbClr val="ffffff"/>
              </a:solidFill>
              <a:latin typeface="Times New Roman"/>
            </a:endParaRPr>
          </a:p>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ymmetric information is a situation where one party to a transaction knows more about the product than an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reates a role for regulation of market transactions or provision of information by a third party to remove or minimize information asymmetri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regulated production and consumption externalities are common in India, as in other developing economi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br>
              <a:rPr sz="4400"/>
            </a:br>
            <a:r>
              <a:rPr b="1" lang="en-US" sz="4400" spc="-1" strike="noStrike">
                <a:solidFill>
                  <a:srgbClr val="ffcc66"/>
                </a:solidFill>
                <a:latin typeface="Arial"/>
              </a:rPr>
              <a:t>To check anti-competitive practices</a:t>
            </a:r>
            <a:br>
              <a:rPr sz="4400"/>
            </a:br>
            <a:endParaRPr b="0" lang="en-US" sz="4400" spc="-1" strike="noStrike">
              <a:solidFill>
                <a:srgbClr val="ffcc66"/>
              </a:solidFill>
              <a:latin typeface="Arial"/>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ion through a set of transparent, consistent, and non-discriminatory rules can create a competitive and dynamic environment in which market players can thrive.</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ompetitive practices and regulatory failures may not allow the market process to yield socially optimal outco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o promote the public interest</a:t>
            </a:r>
            <a:br>
              <a:rPr sz="4400"/>
            </a:br>
            <a:endParaRPr b="0" lang="en-US" sz="4400" spc="-1" strike="noStrike">
              <a:solidFill>
                <a:srgbClr val="ffcc66"/>
              </a:solidFill>
              <a:latin typeface="Arial"/>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Times New Roman"/>
              </a:rPr>
              <a:t>Support pricing i.e. government offering to buy wheat or rice from farmers at a price which is higher than the market price</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Times New Roman"/>
              </a:rPr>
              <a:t>Public distribution system: supply of food grains at a price which is lower than the market pric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1:10:55Z</dcterms:created>
  <dc:creator>Regional Training Institute, Chennai</dc:creator>
  <dc:description/>
  <dc:language>en-US</dc:language>
  <cp:lastModifiedBy>HP1</cp:lastModifiedBy>
  <dcterms:modified xsi:type="dcterms:W3CDTF">2016-11-29T06:58:37Z</dcterms:modified>
  <cp:revision>9</cp:revision>
  <dc:subject/>
  <dc:title>PowerPoint Presentation</dc:title>
</cp:coreProperties>
</file>