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E8281-76C7-4A91-A94F-4432CDF2D0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030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Slide 1.3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4ACF7-E3E9-46C2-A452-233B3B51D04A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D3E1-CBC1-4F50-A542-62EFFC7C2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D2EA-48DF-4A5B-A27E-3486F4166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ACBA-182B-4BEA-937C-B965DC0D9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1CF3-D9DD-46E7-A3B7-41A6F96B9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83F9E-ADEC-4DB6-BA46-73674C15F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DC3CE-1E6E-45E9-A6B5-5CE3B38E9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3AAD8-27CB-4F19-AB87-0A4B11AF5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65D0E-E556-447C-859E-329C17560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1233B-9981-404F-AFB7-1645CCFED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68AD7-D867-4D76-8907-1390581F9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91289-6045-41C3-8F43-4CDFC01F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193D-4DEB-4D36-9C6E-37F6061E6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C57A0-67F5-4F92-A90D-A8068A7B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4E121-062F-4B26-97E4-E121C7ED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BDDE8-5B40-47EE-B815-F610E4533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FABB4-9418-4FB1-A132-AAA89E1E7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371DF-32BC-4B34-AAB7-C5CC4E1BD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F8D0-F992-43D5-AE03-605445135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1476-2890-490D-831C-0D992EA54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454A-5219-466D-8E13-E2C3408AF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C7DB-652A-4029-9771-3F5D448DB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5DC1-78F8-4FE1-9204-4874A653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181A-37A7-4A74-A599-224D0CA63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4727-20FE-4CBD-8888-98B79FAF6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RTI, Nagp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ADC94-C4BB-48AB-8099-985C67CFD0BE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RTI, Nagp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E0C2C-B903-4429-85B8-0E5275702145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RTI, Nagpur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6D53B-0170-4AB5-9D17-4C3C214045B2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Day 1- Session III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ategories of fraud and corrup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RTI, Nagpur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C8D41-7D5F-4F22-AF94-09EC9C3B9105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c2b"/>
                </a:solidFill>
                <a:latin typeface="Times New Roman"/>
              </a:rPr>
              <a:t>Session overview</a:t>
            </a:r>
            <a:endParaRPr b="0" lang="en-US" sz="4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253960"/>
            <a:ext cx="7772400" cy="38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Categories of fraud and corruption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RTI, Nagpur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A0DB2-89C5-4219-96B0-E2C4B73015BE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Learning Objective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Course participants will be able to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Recognize different types of fraud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Recognize the nature of corruption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RTI, Nagpur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E9339-9436-4C87-A25D-714EF4F45BDD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ategories of fraud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Internal Fraud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raud by employees, either singly or in collusion,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raud by management or those charged with governanc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External Fraud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ommitted by the individual/group against the public sector with/without collusion with the employees/Management of public sector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RTI, Nagpur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06078-AD7B-42F6-9F27-81AC469C623A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ypes of fraud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Employee fraud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ypically involves misappropriation of cash or assets or embezzlement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alse statements and claims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RTI, Nagpur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5F19D-AFFF-4E73-85C7-EBAD5572E67E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Fraudulent financial reporting fraud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In most cases, management is involved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ypically involves falsification of accounts, suppression of material facts, wrong application of accounting principles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486080" indent="-571680">
              <a:spcBef>
                <a:spcPts val="751"/>
              </a:spcBef>
              <a:buClr>
                <a:srgbClr val="cc0000"/>
              </a:buClr>
              <a:buFont typeface="MS Mincho"/>
              <a:buChar char="☂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Times New Roman"/>
              </a:rPr>
              <a:t>Measurement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lvl="2" marL="1486080" indent="-571680">
              <a:spcBef>
                <a:spcPts val="751"/>
              </a:spcBef>
              <a:buClr>
                <a:srgbClr val="cc0000"/>
              </a:buClr>
              <a:buFont typeface="MS Mincho"/>
              <a:buChar char="☂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Times New Roman"/>
              </a:rPr>
              <a:t>Recognition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lvl="2" marL="1486080" indent="-571680">
              <a:spcBef>
                <a:spcPts val="751"/>
              </a:spcBef>
              <a:buClr>
                <a:srgbClr val="cc0000"/>
              </a:buClr>
              <a:buFont typeface="MS Mincho"/>
              <a:buChar char="☂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Times New Roman"/>
              </a:rPr>
              <a:t>Classification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lvl="2" marL="1486080" indent="-571680">
              <a:spcBef>
                <a:spcPts val="751"/>
              </a:spcBef>
              <a:buClr>
                <a:srgbClr val="cc0000"/>
              </a:buClr>
              <a:buFont typeface="MS Mincho"/>
              <a:buChar char="☂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Times New Roman"/>
              </a:rPr>
              <a:t>Presentation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lvl="2" marL="1486080" indent="-571680">
              <a:spcBef>
                <a:spcPts val="751"/>
              </a:spcBef>
              <a:buClr>
                <a:srgbClr val="cc0000"/>
              </a:buClr>
              <a:buFont typeface="MS Mincho"/>
              <a:buChar char="☂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Times New Roman"/>
              </a:rPr>
              <a:t>Disclosure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RTI, Nagpur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EFEA6-0D76-4F45-9DE8-D38DEDB00353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45960" y="628560"/>
            <a:ext cx="7142040" cy="85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Nature of Corruption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Stencil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Stencil"/>
              </a:rPr>
              <a:t>Exploitativ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578963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Misuse of public office by a public servant for favors from citizens in the discharge of official duti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Stencil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Stencil"/>
              </a:rPr>
              <a:t>Collusiv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 algn="just">
              <a:spcBef>
                <a:spcPts val="349"/>
              </a:spcBef>
              <a:buClr>
                <a:srgbClr val="578963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Involves collusion between decision makers in Govt., politics and busines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just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 algn="just">
              <a:spcBef>
                <a:spcPts val="349"/>
              </a:spcBef>
              <a:buClr>
                <a:srgbClr val="578963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icti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just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 algn="just">
              <a:spcBef>
                <a:spcPts val="349"/>
              </a:spcBef>
              <a:buClr>
                <a:srgbClr val="578963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ublic/taxpaye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3T07:21:09Z</dcterms:created>
  <dc:creator>rti</dc:creator>
  <dc:description/>
  <dc:language>en-US</dc:language>
  <cp:lastModifiedBy>HP</cp:lastModifiedBy>
  <dcterms:modified xsi:type="dcterms:W3CDTF">2015-12-30T06:25:59Z</dcterms:modified>
  <cp:revision>31</cp:revision>
  <dc:subject/>
  <dc:title>Day 1</dc:title>
</cp:coreProperties>
</file>