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3182-02FE-4EAD-81BA-86E3BCDEA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1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6BAB-3111-4C4E-A7B9-630CFF1B0D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F4F-66E8-4956-A97A-79C95041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DC2-7B62-4B24-903A-02277825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41D-C907-4125-87B8-99FA9F98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AE0-8F67-49DD-8D4D-C9C76FDE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0E15-9905-45DD-B5A0-959DC44F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6AD4-2494-458A-A93A-8F3A1CF2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6224-4EDE-45B1-B57C-14E2C1F8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3E17-34B5-452A-992F-E22F9D1B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9B41-585D-4C27-AFB6-8EF6C63B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3F55-AF21-42D0-8CD6-277476EB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5099-6BB0-4764-A46E-BB8B7264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4C0-ED2C-4E3B-BB20-2D85F959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C595-1A5C-4B21-9726-900CB51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888F-FDA0-4DB3-AA4D-CD5482FE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CA8A-8C1F-4737-A5CE-A6281838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0AD6-EC7B-43A4-99EE-AE579A19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737F-5099-48CC-85B6-193BAB10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4D4-AF46-4E84-92DA-6D3CB990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4D8-79F0-428C-AC4E-8985AAB7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B5D-E663-459A-A0E8-C0BF9EE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144-4CC0-4682-A422-2AF5EA66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044-9075-43DE-81BF-48516D7A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6D1-B1DC-43D0-B940-A72EFAAD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115-FB24-437E-87A6-45C987E8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1027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1029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1030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1031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1032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1033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34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035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036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037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038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039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040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AAED-BC67-4D66-9692-BBD128951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06AB-F256-47BA-B5D4-47EA346B1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5DCE-3819-4282-A8CF-D170D4F5D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ssion I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s operandi of fraud and factors influencing fra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528D-26ED-48B9-9C18-982CD1F43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odus Operandi of frauds (Contd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Manipulation of accou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valuation of st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 valuation of st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ctitious purc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ong allocation of revenue and capital ex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ing next year’s revenue as income for current period as income for current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statement of profit or understatement of pro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 or under invo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0E61-4963-4051-9380-646162437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raud &amp; corruption may co-exist in certain way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lict of interest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 existent company whose invoice is presented by an official involved in purchas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ss purchases with a view to divert for personal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 purchases to evade competitive bidding in exchange of fav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or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o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 or duty evasion through false representation involving negligence of Govt. of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0286-BFEA-4F00-9EEE-E86BCA852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6120" y="894960"/>
            <a:ext cx="714204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actors influencing fraud &amp; corru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hy need to examin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o enable auditor to appreciate potential risk of fraud emanating from individual &amp; organizational caus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Motivationa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economic – financial gai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Greed/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Nee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prestige or recognitio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moral superiorit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0B93-4737-4537-B7F4-A150ADA11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06280" y="723600"/>
            <a:ext cx="714204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actors influencing fraud &amp; corruption (Contd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s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ensitive management that judges employees on short term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gue policies, inadequate internal control &amp; accountability, history of ab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compliance of regulatory requirement, high turnover of employees, lack of transparency in reward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ionalization of actions that ends justify the means, either at the individual level or at the level of organization, the external perpetrator/accomplice might argue that corruption is a cost of doing busin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0A3E-9EDE-4C35-B1EE-41CE29607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ssion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modus operandi of financial fra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ahoma"/>
              </a:rPr>
              <a:t>Understand the individual and organizational environments in motivating fraud in work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67F8-C3F9-4626-8407-5AC34A4CB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35120" indent="-735120" algn="just">
              <a:spcBef>
                <a:spcPts val="799"/>
              </a:spcBef>
              <a:buClr>
                <a:srgbClr val="ffffff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nts will develop an insight on modus operandi of frauds and also the motivational and  organisational factors responsible for the cri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Different types of frau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loyee fraud against employers, e.g. payroll fraud; falsifying expense claims; thefts of cash, assets, false accoun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ud by individuals or businesses against government, e.g. grant fraud; social security benefit claim frauds; tax ev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ud by people using computers and technology to commit crimes, e.g. phishing; spamming; copyright crimes; hacking; social engineering frau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C524-99C4-4AAE-982B-82F0B49DB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Different types of frau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ud by businesses against investors, consumers and employees, e.g. financial statement fraud; selling counterfeit goods as genuine ones; not paying over tax or National Insurance contributions paid by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ud by professional criminals against major organizations, e.g. major counterfeiting  rings ; mortgage frauds; ‘advance fee’ frauds; corporate identity fraud; money lau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B8E0-99ED-4600-B963-3A15C2C71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8F68-4E14-4598-B4F0-CB38EA993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1424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Modus Operandi of fraud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Misappropriation of cash or embezzlement of c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eceipts side of cash 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itting to enter cash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-recording of c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ing lower amount on counterfoils than actual rece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143000" y="320040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0" y="2666880"/>
            <a:ext cx="914400" cy="1981440"/>
          </a:xfrm>
          <a:custGeom>
            <a:avLst/>
            <a:gdLst>
              <a:gd name="textAreaLeft" fmla="*/ 122400 w 914400"/>
              <a:gd name="textAreaRight" fmla="*/ 792000 w 91440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68EE-FBB1-4A35-9389-AD1F36C31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odus Operandi of frauds (Contd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"/>
              </a:rPr>
              <a:t>Payments s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 charging of personal exp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payments against single trans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sion of dummy workers in wage b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 credit to various personal accounts for withdrawal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ctitious pa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-recording of actual pa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100F-F841-4E38-A327-782316C03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odus Operandi of frauds (Contd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1080" indent="-451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Other forms of embezz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6160" indent="-504000">
              <a:spcBef>
                <a:spcPts val="6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eming &amp; lad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6160" indent="-504000" algn="just">
              <a:spcBef>
                <a:spcPts val="6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positing funds at one branch by using  inter-branch account settlement process and withdrawing funds from a different branc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6160" indent="-504000" algn="just">
              <a:spcBef>
                <a:spcPts val="6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ing correction entries to embezzle money from accounts, transferring funds from other accounts to make up shorta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6160" indent="-504000" algn="just">
              <a:spcBef>
                <a:spcPts val="6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iting-withdrawals against cheques that have not been collec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6160" indent="-504000" algn="just">
              <a:spcBef>
                <a:spcPts val="649"/>
              </a:spcBef>
              <a:buClr>
                <a:srgbClr val="ffffff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pping-stealing of cash from accounts receiv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6929-3110-460F-96C5-859CABF62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odus Operandi of frauds (Contd.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Mis-appropriation of goods &amp;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itting to enter goods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ing less quantity than recei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ing excess issue than actually issu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urement of low quality g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ring services at high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13:37:40Z</dcterms:created>
  <dc:creator>Mr Nimje</dc:creator>
  <dc:description/>
  <dc:language>en-US</dc:language>
  <cp:lastModifiedBy>Hatawar</cp:lastModifiedBy>
  <dcterms:modified xsi:type="dcterms:W3CDTF">2014-10-21T10:22:32Z</dcterms:modified>
  <cp:revision>33</cp:revision>
  <dc:subject/>
  <dc:title>Session IV</dc:title>
</cp:coreProperties>
</file>