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.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E087-DC19-47CE-99E0-E288EC8E4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1.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BE9A-74DB-4A30-9DCE-1BB901BE34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3A7-DB05-4A1B-A238-BFBECEC1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C8D-7A69-4704-8C56-202EEEB6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7C7E-2D5E-4BCE-9258-08834F02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777-90C0-4341-8646-122316C0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83ACA-AF62-4B41-A4AB-A0E419F6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7DD04-46FF-47B3-855F-FC1993B2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24E9F-A778-4EF0-8158-6FC179F7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79A7E-1550-437A-8D15-9D72D8B9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09E2D-7D98-4108-9A1C-0B69FDFD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C0BD7-4479-4BFB-8068-FE0FC368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93FC3-4B4A-45D0-8415-D13C070A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43C-C370-4B05-810B-33CAF787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E8D25-DFB1-4046-9256-504832F5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9EADD-11F3-4EBC-9E86-D4365B0D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27395-53F7-4656-8F1D-0BBA357A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9BDE2-E82C-4211-9866-7703CA9E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DB44A-BFEC-41E3-8D2B-EB9AAC46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E3B-DDF2-434D-BD20-C2D562E0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E71-3B1A-4786-838C-68A76112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66D-DE81-40CC-8A38-DCD3D8F9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7515-B708-42DF-BAAE-CD541E88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540C-725C-43AD-9E33-59D89C03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6BC-620D-49F8-8A1F-C4C92DE1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9EB-18C4-4E22-BCC5-430D4DB7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I, Nagpu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587E-E8B5-4356-8C5E-EAA076D1A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TI, Nagpu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E318-2EAD-45EA-A714-18C04B972C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E16A-CDE0-4CBE-A4FE-8A2B12684F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y 1-Session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ing fraud and corru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5BDD-D85C-48F2-A52D-B3E718D35D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Session Over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-579600">
              <a:spcBef>
                <a:spcPts val="799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Understanding corrup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9600" indent="-579600">
              <a:spcBef>
                <a:spcPts val="799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Audit mandate and audit mandate within SAI Ind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9600" indent="-579600">
              <a:spcBef>
                <a:spcPts val="799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ASOSAI understanding in fighting fraud and corrup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9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7F33-8BF9-4815-87BE-3582F27CD1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6868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66"/>
                </a:solidFill>
                <a:latin typeface="Tahoma"/>
              </a:rPr>
              <a:t>Definition of ‘Corruption’ – Prevention of Corruption Act, 1988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Act involving illegal gratification by public servant for himself or for any other person  as a reward in discharge of official du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Act involving illegal gratification for inducing another public servant through personal influence to do a favour or any disfavo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Habitual acceptance of gratification by a public servant other than legal remuneration as a motive or obtaining valuable thing without adequate consideration or misappropriation of property entrusted by dishonest means is criminal miscondu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Also involves criminal breach of tru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6EF7-0595-44F6-9C54-ED2FBE0571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541440"/>
            <a:ext cx="8275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66"/>
                </a:solidFill>
                <a:latin typeface="Tahoma"/>
              </a:rPr>
              <a:t>Elements of ‘Corruption’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61960" indent="-561960" algn="just">
              <a:spcBef>
                <a:spcPts val="825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99"/>
                </a:solidFill>
                <a:latin typeface="Tahoma"/>
              </a:rPr>
              <a:t>Two parties – one offering reward/inducement and the other accepting the same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561960" indent="-561960" algn="just">
              <a:spcBef>
                <a:spcPts val="825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99"/>
                </a:solidFill>
                <a:latin typeface="Tahoma"/>
              </a:rPr>
              <a:t>Involves misuse of office for private gain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561960" indent="-561960" algn="just">
              <a:spcBef>
                <a:spcPts val="825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99"/>
                </a:solidFill>
                <a:latin typeface="Tahoma"/>
              </a:rPr>
              <a:t>Involves dishonest use or breach of trust of office or authority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561960" indent="-561960" algn="just">
              <a:spcBef>
                <a:spcPts val="825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99"/>
                </a:solidFill>
                <a:latin typeface="Tahoma"/>
              </a:rPr>
              <a:t>Involves actual or potential risk of loss or misappropriation of public property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E6D7-46D1-4C64-BEC9-8ED614912F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220680"/>
            <a:ext cx="827568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any cases of fraud involve corrup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Most financial reporting fraud involves misstatement th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Manipulation of accounting reco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Misrepresentation or intentional omission of events, transactions or 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other significant inform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Intentional misapplication of accounting policies principles relating to amount, classification and disclosu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41F3-5F9D-4E2F-83A8-D3F12D5182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Audit manda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76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</a:rPr>
              <a:t>Most SAIs have inherent right to audit cases of fraud during discharge of audit functions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876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</a:rPr>
              <a:t>Such duties are derived from the duty to ensure that adequate and effective machinery is in place to obtain accountability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TI, Nagpu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1E4A-65F4-4EBF-84C3-51D6D6B02E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36520"/>
            <a:ext cx="8275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66"/>
                </a:solidFill>
                <a:latin typeface="Tahoma"/>
              </a:rPr>
              <a:t>ASOSAI recommendations for fraud deterrence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Adequate level of financial and operative independence and breadth of audit cover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Vigorous evaluation of adequacy and efficacy of financial and internal control syste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Focused audit strategy for high risk areas through developing effective high risk indica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Exchange of information co-operation among national and international bodies fighting corrup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20000"/>
              <a:buFont typeface="Arial Unicode MS"/>
              <a:buChar char="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Intensify exchange of experiences of fraud and corruption among SA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2T12:18:18Z</dcterms:created>
  <dc:creator>Mr Nimje</dc:creator>
  <dc:description/>
  <dc:language>en-US</dc:language>
  <cp:lastModifiedBy>RTI</cp:lastModifiedBy>
  <dcterms:modified xsi:type="dcterms:W3CDTF">2015-12-28T07:57:13Z</dcterms:modified>
  <cp:revision>8</cp:revision>
  <dc:subject/>
  <dc:title>PowerPoint Presentation</dc:title>
</cp:coreProperties>
</file>