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7232-1B92-43A6-9DC1-FF2949D8E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CE99-EDFE-423B-A548-55E0EBF7D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0BDC-2409-4F4B-B821-5D5B57B0A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7E0A-0A9F-4CD3-ADC5-FA25B0990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2004-239B-4170-B6BD-0B76C2B5A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8ACC-F590-423C-89EC-4EA8E6A20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ED3D-62DB-42BD-A5CE-CFCEE0ECF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B03F-F8EB-415F-BA21-EA15523AF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5B81-8840-42EF-B69D-B84992E55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FCCE-2953-4D8F-904B-07442E430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34C5-8279-4362-AC1F-BCDB4237A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F1F5-3D9E-4D2D-85FB-2765BE04C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18FDC-C85A-4C8B-964B-D0D04ACE17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1752480"/>
            <a:ext cx="80010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yber laws, India’s needs and the Company Secretary’s r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708660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comparis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l world contra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ep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d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aci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wful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 ide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yber space contra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ail v/s we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acts of adhe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yment gatew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o is th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ors, trickster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w vari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dden/obscure terms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yber space and to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ty of care to a neighb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ty to act, duty not to harm [Weller &amp; Co vs Food and Mouth Disease Research Inst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ary v/s secondary damag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rnings, disclaimers, limitation of li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wer human interaction; chain of risk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ing v/s requesting [Caparo V Dickman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yberspace and IP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demarks, service marks and domain na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copyright challenges [more later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tents for business models. The story of Jay Walker and priceline.com. Quid pro quo for patents and the Internet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de secrets and Echel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yber space and new business mod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mazon.com and the corner book st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erse au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opsony on the 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ed driving or surf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lemedic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-chaupa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-du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yber space and the consum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ss of priva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tance selling directives, OFT, SEC, FT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ocation of ris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entrality of tru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yberspace and tax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ey laund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gital ca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AN for every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irect taxes – bits and byt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et tight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yber space and copyrigh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everything on any website free for al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lied licenses, non derogation from gra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warding e ma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n source [manufacturing for masses v/s manufacturing by the masses]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G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unter for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n systems and monoculture ris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v/s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eater connectivity v need for insular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wer intermediaries v more info-media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rbs conventional crime and facilities white collar or economic crim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iracy for long term benefi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yber crim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g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unterfei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ty the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x eva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ctronic vandali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ctronic terrori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pion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TP/UT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les, Investment frau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vertising frau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ception/ tampe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am and 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oofing, shilling, bidding 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mping and dump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w opportun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redit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yber notaries? Sp. Certifying Authorities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ndards, certifications, aud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f-regulation, “soft” infrastructur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 velocity remedial system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uranc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uc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does the law come i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chnology does what technology c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chnology is not concerned about rights, limits, obligations and remedies [from the knife to space exploration]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 the law is about all thes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erils of Paperless oper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gital obsolesc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pendence on power supp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rnal threats like dust, he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ndling risks for digital med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anosecond nature of digital destr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vacy (cont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protection obligations  incl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wful procur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wful purp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wful 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equacy test  - not excess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uracy and upd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ess to persons concer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N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, information and knowledge. Knowing the difference can make a difference to your working lif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al life; virtual lif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these have shifted to Cyberspac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a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each of these has become a busi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 are already in cyber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n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ertain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mai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ectronic sign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nowledge sharing or access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ogle gets you go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low quiet revolution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versely proportional to 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kes history and heritage a burden some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 can the Internet keep the law out – remember the Declaration of Independence of Cybersp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PLICATIONS FOR BUSIN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mand for corporate transparency ri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ility to provide disclosure zoo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ing concern concept dy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threats to old businesses? Why your newspaper looks more like a TV and a websit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ists at the t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2B, B2C, C2B, C2C, P2P ……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16000" indent="0" algn="r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ia’s I T Act…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nctional equivalence, e-governance, offences, digital signatures and remedy frame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laws that apply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racts, policies,  disclaimers and information security fill the gaps. [ Crucial role for CS]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racts in Cyber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b offer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mails like faxes; www like teleph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erils of mail box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mail contracts versus web contra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about cyberspace contra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hallenges o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gr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n repudi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the role of electronic signatures, CA, and the Public Key infrastruct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5T11:01:30Z</dcterms:created>
  <dc:creator>V. Subramaniam</dc:creator>
  <dc:description/>
  <dc:language>en-US</dc:language>
  <cp:lastModifiedBy>AOADMN</cp:lastModifiedBy>
  <cp:lastPrinted>1999-10-05T12:10:35Z</cp:lastPrinted>
  <dcterms:modified xsi:type="dcterms:W3CDTF">2019-09-19T06:14:49Z</dcterms:modified>
  <cp:revision>55</cp:revision>
  <dc:subject/>
  <dc:title>CYBER LAWS - INDIA’S NEED  AND  THE COMPANY SECRETARY’S  ROLE</dc:title>
</cp:coreProperties>
</file>