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6243-A0ED-415F-910B-C03FA57F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9A1-EB9D-4EA7-BBCF-819ABA530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8283-AF6F-4605-ADF2-5C8014650F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D4AD-EF4B-4CF3-AE72-54454A02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B809-1061-4917-8754-8FC615C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F350-0B69-4666-8DDA-933EFA6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3588-14EA-406E-B39A-ED24E823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7E9E-BE5E-4119-9957-205506F3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3DC5-6DCC-434A-B941-42330A6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11B3-3BCC-4261-B3DD-75F14C6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2171-E971-4695-8709-562C0F6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A503-BB7A-4D30-88B5-E2AB17D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944C-B69F-4E2A-8DAF-6190D80C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71C-D3D5-46F2-843F-AB98D58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ECD1-1E46-415A-B0FF-EA57BDA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FD90-B4A1-44AA-AEB9-D04F4FA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020-6FEF-44BC-BF42-42DBCEEB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1A27-6906-4FCA-8199-76C5C46B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C1FA-2B1A-4C87-A504-D5BC335F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DCA7-D656-417E-B7B0-1D1853A3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EF60-14D7-4469-AF63-F15630A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C690-AFBF-414C-9BA2-8740B2D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3D03-F90A-4B60-80F5-9708514D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5CE5-2DA0-4752-B28F-EBCA605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E1D7-8CA6-443C-8CBA-36336CB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FB4C-1EB2-4B55-A2C9-4E3CB3DC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9EB7-D547-42ED-B742-3BDD72AD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987-3349-4805-BFAE-91BC2A02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I, Nagpur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TI, Nagpur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5FD7-15BE-49BD-86C4-F940FB92E8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00D-685A-4168-A77E-0E4A5FF27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48472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`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119240" y="3033720"/>
            <a:ext cx="69055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UDITING OF FRAUD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086A-8F04-4F4F-B494-5A294E6FD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ASOS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 algn="just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ud involves deliberate misrepresentation of facts/significant information to obtain undue or illegal advantag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CDB-8416-4540-953A-34BAF54F3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raud – ISA 240 - Defini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 intentional act by one or more individuals among management, those charged with governance, employees or third parties involving the use of deception to obtain an unjust or illegal advantag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BA0-6EA8-45FD-AC26-3D6F1530C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Elements of frau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arties – the perpetrator and the vict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presentation by deliberate intent through material omission or false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 injury or risk of injury to the victim as a result of the mis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a breach of trust and also amounts to criminal breach of trust in SAI  India jurisdiction. Fraud in most SAIs is a civil and criminal offence attracting both civil and criminal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 by the perpetrator that the false representation be acted upon by the vict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F67-DFE3-42DA-8D34-B2BF0E280E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250920"/>
            <a:ext cx="842796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38963"/>
                </a:solidFill>
                <a:latin typeface="Arial"/>
              </a:rPr>
              <a:t>Distinction between Fraud &amp; Error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ror is un-intentional unlike fraud that is characterised by deliberate i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ror is not accompanied by an attempt to cover up or conceal the mistake whereas fraud involves cover up devices such as collusion, forgery, deliberate omission or mis-represe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295D-2BA0-4D9D-86BA-BA3BC2B36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Why Fraud Audi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ud audit received powerful impetus from increased fraudulent activities both within corporate and Govt. enviro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ud occurrences have raised issues of governance and accoun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 of SAIs-INTOSAI and ASOSAI recognise that fraud and corruption result in disruption of accountability process with enormous leakage in public re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ealisation among SAIs for enhanced standards of auditing of fraud matters through a vigilant and pro-active r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67E6-2034-45DA-B42C-220D6D6BF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498240"/>
            <a:ext cx="739116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Course 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nsitise the participants to fraud recognition and audit standards applicable in audit planning, implementation and reporting processes in audit of fra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4215-A440-4F8F-8B90-4DF1ECB72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88560" y="369360"/>
            <a:ext cx="74250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Session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fraud and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7960" indent="-507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of fraud and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588-AC7C-44A4-97D2-FC024F2AD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Meaning of ‘fraud’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involving intention to dece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use private gain by illegal means or to cause injury or risk of injury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981080" y="274320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56FC-8C80-4032-9E27-D567131720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756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inancial Fraud  conn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2000" indent="-16200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misrepresentation of financial information by one or more individuals among employees, management or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62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ing falsification of rec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uppression of vital 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i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nt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mission of significant information  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o Dece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isappropriation of assets, embezzl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5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isapplication of accounting poli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6629400" y="342900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14300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9C4-08F1-4506-AF51-0718D95C5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INCOSAI Uruguay 199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of deceit or breach of confidence used to gain some unfair or dishonest advantage; an unlawful interaction between two entities where one party intentionally deceives the other through the means of false representation in order to gain unjust advantag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7794-29B8-457E-8E08-324E246CA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Canadian Audit Guid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on where there is a loss of valuable resources resulting from a false representation made knowingly without belief in its truth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1EED-47D4-46E9-83EE-9F236885B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Footer Placeholder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I, Nagpur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8963"/>
                </a:solidFill>
                <a:latin typeface="Arial"/>
              </a:rPr>
              <a:t>Fraud Examiners’ Man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intentional or deliberate act to deprive another of property or money by guile, deception or other unfair mean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12:16:22Z</dcterms:created>
  <dc:creator>Mr Nimje</dc:creator>
  <dc:description/>
  <dc:language>en-US</dc:language>
  <cp:lastModifiedBy>RTI</cp:lastModifiedBy>
  <dcterms:modified xsi:type="dcterms:W3CDTF">2015-12-28T07:54:59Z</dcterms:modified>
  <cp:revision>8</cp:revision>
  <dc:subject/>
  <dc:title>PowerPoint Presentation</dc:title>
</cp:coreProperties>
</file>