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BC86-93A2-406A-AB2D-D9F13DB85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302B-20F6-4C26-9ABB-614B6B5A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087D-9953-439D-A841-9653611B6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2414-9A10-466D-A78E-817B2FE21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B9E5-2CA9-4193-8C88-689133376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57CD-0C95-4C33-8B2A-87C5A34B3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C5147-69D0-4AE3-8D3E-445A8B0E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2C6D-7B77-4143-8C55-9C329A65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D9A9-A98D-4C07-9EE0-901881AA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41F1-13EB-46D9-91B3-DF752456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567D-2584-4D45-BC32-805215BC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66D2-DA12-45A1-A7D5-2F41760E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AC23-DBA5-402E-80AB-4337D993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4DA4-14AB-44FE-909C-B03B958E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7162-4640-4103-85C5-B1ED3957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6C18-CF06-4B7F-BBBB-6B49357F0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F749-45D5-4E0C-A856-DCCF725BC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80E3-7B04-460F-8938-5F900F70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1F3C-44D0-4879-9389-635E64D3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7A42-20B8-424A-BD4D-F6B6413E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7367-9A37-419A-BEEF-FF605233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0AA7-4D8B-45ED-BB36-25CDFDB7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D3F0-C34D-40CB-A4AA-4143F4A9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B1AE-E0D6-46D7-B779-054206D4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F2D5-8056-4D92-83A1-F02EAA4D4A25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B15C-6293-47F7-9751-A192ABDC1592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Multi-Stage Sampling  </a:t>
            </a:r>
            <a:br>
              <a:rPr sz="4400"/>
            </a:b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285640" y="3559320"/>
            <a:ext cx="6705720" cy="29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Multi Stage Sampling</a:t>
            </a:r>
            <a:br>
              <a:rPr sz="4400"/>
            </a:b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selecting a sample of  primary units ,a sample of secondary units is selected from each selected primary units - Two-stage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ern a sample of tertiary units is selected from each selected secondary unit - Three-stage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er order multistage design is also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Application 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W.B Internal audit , multi-stage sampling has been used from planning to execution stages of audit. DG (Training) ,NAAA will address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DT-audit and in CERA we have used multi-stage sampling . PD(DT) will discuss on its appl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ll India performance reviews : PMGSY ,SSA, Consumer Awareness , Educational Development of SC/ST , Industrial Dispute Act etc. we have use multi–stage sampling :We may take up one or two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6633"/>
                </a:solidFill>
                <a:latin typeface="Times New Roman"/>
              </a:rPr>
              <a:t>Will you be able to convince others about the applicability of Statistical sampling in audit ? Pl remember the following points.</a:t>
            </a:r>
            <a:endParaRPr b="0" i="1" lang="en-US" sz="2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ample results are objective and defensible as it is free from any personal b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thod provides a means of advance estimate of sample size in an objective ba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thod provides an estimate of the sampling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the most accurate method of drawing conclusion about a large and complex pop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 is cost effec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stical samples may be combined and evaluated , even though accomplished by different audi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ditors will be able to give a “True and Fair “ view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ness of audit reports will incr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05:37:03Z</dcterms:created>
  <dc:creator>cera1</dc:creator>
  <dc:description/>
  <dc:language>en-US</dc:language>
  <cp:lastModifiedBy>Julie</cp:lastModifiedBy>
  <dcterms:modified xsi:type="dcterms:W3CDTF">2010-09-09T10:56:08Z</dcterms:modified>
  <cp:revision>64</cp:revision>
  <dc:subject/>
  <dc:title>Risk Analysis &amp; Sample Survey             In Audit </dc:title>
</cp:coreProperties>
</file>