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D6F57-E551-4276-8A2C-13347B955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B3518-AB06-41F6-B0EF-0373ECA16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2677-F5EB-418C-88DF-29B1C107F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19D4B-126A-4D17-BC38-3AB4A4918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B1D6F-E314-4A13-B4AF-A1273D05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83B68-B0A6-4E52-8DD9-E0134B95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51944-8081-411F-AABA-D92D9856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88BEF-F165-4293-89EC-3F9C505E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B7779-FA3D-4C94-8CD9-3DD98ECB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2EFA7-216F-410C-8BA7-017D8BDE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102DD-D35D-46A3-95E8-B813B51C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F1DE2-83C4-4359-8003-6FF4811B4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B4718-1D86-4244-9162-229D9852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2DA0E-7950-4527-B477-2810A4AE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3E7E8-6F61-4686-8B75-0B70CEDA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D7E94-72A0-48C8-B15D-61F8250B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883C0-1129-455E-9ACC-B74A912A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EB2FC-AD4B-49CF-8FA8-944DFD771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31239-3616-424B-8121-B92B69E4D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A7897-084E-4D40-88D9-DB4B79078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D5C75-BDE9-405F-BBE0-CD918409B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B6C9B-9891-4A19-B2DF-99566C27E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2AC75-7428-4F64-9C30-C4118E98E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D1E84-3667-47CD-AAD7-5991E0A5B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ftr" idx="1"/>
          </p:nvPr>
        </p:nvSpPr>
        <p:spPr>
          <a:xfrm>
            <a:off x="304776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66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993366"/>
                </a:solidFill>
                <a:latin typeface="Times New Roman"/>
              </a:rPr>
              <a:t>Comptroller and Auditor General of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ldNum" idx="2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AEAD-04F0-452E-B56E-7FF5E9AF7A5E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439640" y="228600"/>
            <a:ext cx="287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66"/>
                </a:solidFill>
                <a:latin typeface="Times New Roman"/>
              </a:rPr>
              <a:t>Statistical Sampling In audit for N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dt" idx="3"/>
          </p:nvPr>
        </p:nvSpPr>
        <p:spPr>
          <a:xfrm>
            <a:off x="7086240" y="228600"/>
            <a:ext cx="17240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4"/>
          </p:nvPr>
        </p:nvSpPr>
        <p:spPr>
          <a:xfrm>
            <a:off x="3276360" y="6350040"/>
            <a:ext cx="3816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66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993366"/>
                </a:solidFill>
                <a:latin typeface="Times New Roman"/>
              </a:rPr>
              <a:t>Comptroller and Auditor General of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5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D436-10EF-49A6-B9D6-2C625DD39478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0000" y="457200"/>
            <a:ext cx="29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66"/>
                </a:solidFill>
                <a:latin typeface="Times New Roman"/>
              </a:rPr>
              <a:t>Statistical Sampling in Audit for N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752480" y="3809520"/>
            <a:ext cx="6019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qual Probability Sampl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5CDC3-5997-44DC-9B43-D343EE4B748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3AB783-4DFA-47A2-9BED-020386634A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666880" y="83772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S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between 1 to N.Let it be 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lect r,r+I,r+2I,r+3I …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when n samples are selected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t any stage r+kI &gt; N .Then subtract N from it as N-(r+kI) and select that number and proceed fur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select exactly n number of s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BFF96-B141-48C1-A911-80042998C1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761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6633"/>
                </a:solidFill>
                <a:latin typeface="Times New Roman"/>
              </a:rPr>
              <a:t>Advantages of Sys. Ran. Sampling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sampling units are arranged in a manner unrelated to the character under interest this method will yield quite similar result to S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ordering of the elements is related to the characteristics  of interest this method increases the representative ness of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less costly and easier to i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1B2D9-FB32-4403-8EB0-407D4796D0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1337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imple Random Sampling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240" y="3352680"/>
            <a:ext cx="6629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cedure of sampling will be called SRS if, in sample of size n,all the possible combinations of n elementary units that may be formed from the population of N elementary units have the same probability of being inclu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5F93B-D5E7-47B1-ACC6-8C2B49DCA9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1E176B-45A9-48B8-A906-E488CCFDF3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2133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imple Random Sampling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905120" y="3885840"/>
            <a:ext cx="5943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imple Random Sampling With Replacement (SRSW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imple Random Sampling With Out Replacement (SRSW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7937C-3168-4DDA-BD0E-E29130E4182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EAF800-A1BA-4AE6-A94E-FE2A193015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RSW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480" y="205704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ample is said to be selected by SRSW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n draws if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 At each draw each unit in the population has the same chance of being sel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 A unit selected at a draw is returned to the population in the next dra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DF11A-9432-4BB4-BFF4-A8DC454824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17400" y="1828440"/>
            <a:ext cx="7016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ample mean is the unbiased estimate of popul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ean. 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mbolically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RSW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752480" y="2590920"/>
                <a:ext cx="6820200" cy="38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observation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stimate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rPr>
                            <m:lit/>
                            <m:nor/>
                          </m:rPr>
                          <m:t xml:space="preserve">population</m:t>
                        </m:r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,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N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stimate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stimate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stimate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5B48F-E91E-49B2-87E1-AB4933D9C9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42840" y="914040"/>
            <a:ext cx="4267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RSWO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ample is said to be selected by SRSW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 At each draw each unit in the population has the same chance of being sel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 A unit selected at a draw is removed from the population in the next dra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76B9-A01C-4DD6-B048-55104BF14B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52120" y="1905120"/>
            <a:ext cx="71247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ample mean is the unbiased estimate of population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mbolically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590560" y="914040"/>
            <a:ext cx="3352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RSWO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530360" y="2550960"/>
                <a:ext cx="6851520" cy="387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observation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stimate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rPr>
                            <m:lit/>
                            <m:nor/>
                          </m:rPr>
                          <m:t xml:space="preserve">population</m:t>
                        </m:r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,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N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stimate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stimate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stimate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FEC1E-2B32-48D5-BD2B-6033BD4621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ystematic Random Sampling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ample is chosen by selecting a random start and then picking every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 in succession from the sampling frame (list of sample units). Where I=N/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 of Sys. Random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Systematic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lar Systematic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1910F-6B1C-4AB0-A74B-CC49822D22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1080" y="8377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LS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70106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between 1 to I .Let it be 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lect r,r+I,r+2I,r+3I …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when n samples are selected or the sample list is exhaus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may not select exactly n number of s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27D66-21CA-4355-8DFF-DD42747D13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1T09:25:17Z</dcterms:created>
  <dc:creator>Debasish</dc:creator>
  <dc:description/>
  <dc:language>en-US</dc:language>
  <cp:lastModifiedBy>Julie</cp:lastModifiedBy>
  <dcterms:modified xsi:type="dcterms:W3CDTF">2010-09-09T10:56:49Z</dcterms:modified>
  <cp:revision>101</cp:revision>
  <dc:subject/>
  <dc:title>Advantges of Sampling</dc:title>
</cp:coreProperties>
</file>