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A62-307D-4968-977B-C55302E62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D22-ECCF-4CA3-9643-C0FBC5856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38B-2087-4515-AC6D-1FE58D4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84D-E54C-48F0-AAD1-87C1EAB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2D7-EF37-457E-AD1D-DE39E3B1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D87-A53A-400D-BDE0-9103FD67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F6B8-E444-4EAF-A739-C91F0AC4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8238-3458-4939-B9E6-4CE05D6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7CEB-A007-402A-9387-07B9B48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FCD-AB00-46F2-9DC6-900EE68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84B-21EE-4089-BFD8-072957F0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973-F4A9-472C-AF96-FBF47DE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0EE-C85C-4F89-BC19-86E131E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77A-B8E9-4E50-ACD1-221137D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AF8-8128-4ADA-8752-B174077A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DE5-8BD9-48AA-AC23-BF2C0AD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11C-25D5-460B-B7E6-8D45295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833C-D5E2-4C34-9B47-C97DA679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DE76-A5C7-446B-91A2-E1E453A9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E7E-3C9A-4934-8FF5-1ED30121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69A-03A4-4494-B457-DDC2031E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DB4-1169-4946-AF29-58A5233F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037-5EB8-48D5-BC9D-5760D03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57A-D467-47C0-B494-2929912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B6D-49B4-45A2-B0F6-AD0CE0B4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E40-19E4-4FCF-8AED-C81E300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ADAC-311F-4824-B63D-094A8400317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16E-A715-4A0F-AFC9-4D0EB2BECFE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C8E-BB88-4F22-B85C-A93CE5EA025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y 1- Sessions I - IV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isk assessment and Samp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CA26-B3C8-4C77-8416-33BB37FB3A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isk measure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Risk measurement is a guide to audit plan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Areas/items for examination are rated ‘high risk’, ‘medium risk’ and ‘low risk’ depending 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nsitiv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eria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1970-5A0A-44CE-BD43-D692A274132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isk measurement (Contd.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High-risk areas in Govt. environ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racts of  procurement of service or goo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ventory and asset mana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ants-in-a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as with public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07C-D82C-4207-AF56-7F0147A99A1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equirement of auditing standar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vidence collected should be sufficient to support audit conclus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vidence collected is based on sample selected for audit scrutin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Sampling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broadly two types, statistical and judgment sampl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Statistical sampling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random sampling and stratified sampl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3787-1B14-43B9-9C29-423C9D41E3D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cedure in designing of samp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201"/>
              </a:spcAft>
              <a:buSzPct val="1135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Defining target population and error/exception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SzPct val="1135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Tolerable error or materiality levels acceptable to the entity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SzPct val="1135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Level of assurance that audit needs to provide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SzPct val="1135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Occurrence rate – proportion of items population having error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SzPct val="1135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Determining appropriate sampling method as per the type of population 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99"/>
              </a:spcAft>
              <a:buSzPct val="1135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Projection of results with reference to the population</a:t>
            </a: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04CF-7E6C-43D8-A2D6-C16B319FBE6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ssions over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sk assessment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mpling metho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8E3-3397-4F9A-98C8-F8F1F33B626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earning objectiv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icipants will be able to undertake a risk-based approach in planning and performance of audit procedur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D2A0-CF5C-4F2B-93AA-A099C68F6F8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audit risk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sk of expressing an incorrect opinion on financial statements that contain material mis-statements or err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sk of  expressing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udit conclusions on a universe that contains material irregularities but not detected by audi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E78-B703-4629-90EC-68AA5048393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ponents of Audit Risk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herent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sceptibility of a class of transactions to mis-stat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so determined by entity’s business and its enviro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trol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ssibility of errors not being rectified by control mechanis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tection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sibility of material errors not being detected through audit procedur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8CA-FF94-4D2A-B323-BC803F10562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dit Risk = IR*CR*DR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tent of testing- compliance and substantive- depends 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ditor’s assessment of inherent and control r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ditor’s satisfaction that the product of the risks will be less than or equal to Audit r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us, detection risk is derived after assessment of inherent and control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ction risk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has two compon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alytical procedure risk- failure of detection by analytical procedu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B8F-C562-4EE2-8158-B3AE611DCC1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dit Risk = IR*CR*DR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(Contd.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 of detail risk- failure of detection by detail tes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 = AP*T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 =IR*CR*AP*T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ction risk is modifiable per discretion of auditor given his assessment on inherent and control r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igher the control and inherent risk, lower will be detection r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ditor will have to perform extensive testing procedures to keep detection risk l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419720" y="426708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419720" y="502920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5CE5-A5E7-42AC-B606-B7629DB9954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terialit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efers to the extent to which error can be tolerated and is determined b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ext in which the matter ari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As per SAI India, a matter may be judged material if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ledge of the same is likely to influence the user of the audit repor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TI, Kolk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0562-A2AE-4182-A544-15BC226EE47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teriality (Contd.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Materiality bears an inverse relationship with audit risk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gher the materiality, lower will be audit risk and vice ver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Auditor to consider materiality in fixing audit risk, to ensur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 algn="just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That aggregate misstatements through detection and non-detection does not exceed materiality level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Key factor in determining audit procedures to be performed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2:00:06Z</dcterms:created>
  <dc:creator>rti</dc:creator>
  <dc:description/>
  <dc:language>en-US</dc:language>
  <cp:lastModifiedBy>RTI</cp:lastModifiedBy>
  <dcterms:modified xsi:type="dcterms:W3CDTF">2019-09-10T16:27:49Z</dcterms:modified>
  <cp:revision>40</cp:revision>
  <dc:subject/>
  <dc:title>Chapter IV</dc:title>
</cp:coreProperties>
</file>