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E1996-A600-4F1E-B59F-81FDA5A6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2B07-B276-4F33-9336-22D1D8D4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D959F-0709-4FE1-AD93-DC4B910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FEC20-3983-451C-822B-1FCA31E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4F11B-40ED-4907-8A2D-E9A17F3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91314-A5A0-4242-BEA0-DB08645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9A530-F9CA-4935-8E77-8D0DE4F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210EE-589C-47CB-8AEB-39161D6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34750-F74D-450B-A135-D7CBE9E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C7C14-6453-44FA-85D8-89972CBE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B41E1-0444-48C9-B41F-66444391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6FD45-E745-4C55-A1A4-23BCAC89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B2660-28CC-4DD3-830B-EBB74A86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AFD89-2D46-492B-95D6-A4BBA382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7268A-D584-4CD3-BCFD-0D7ED46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B2B4A-CE10-44A5-ABA4-70C4217D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A6C95-669D-499B-9472-01CC1DB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8A1EC-FF20-4D3A-A188-BE75C33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AA05A-CE15-4266-97C1-56FF46F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6786C-85A0-4A8B-8E17-FAF500E6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B4DCD-EA32-4896-95A6-3298243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EE206-4CC5-45C8-A905-1139A069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2762E-1B0D-41CA-AD44-0FCC1A6C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FF382-EDD3-4F99-99E9-F67B2743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219320" y="22860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4200" indent="-394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5000" indent="-3474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120" indent="-28116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3560" indent="-34704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48120" indent="-28116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4812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4812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37160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 Black"/>
              </a:rPr>
              <a:t>PERI, Boston, MA, September 20-22,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22DE-D8B8-41B0-9775-014A3DB11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1992-0864-4672-9F53-51EA365FE3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Introduction to Statistics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tosh Ku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(iCI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366-6E45-4180-AF5A-DF05FFABA5B2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variance (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ay be calculated from the data.  It is the average of the square deviations of the observations from the mea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pulation variance is often denoted by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is usually un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2971800" y="32004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8F2-885B-4F4A-AFD4-3EDC671554EA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iations are squared because we are only interested in the size of the deviation rather than the direction (larger or smaller than the me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024"/>
              <p:cNvSpPr txBox="1"/>
              <p:nvPr/>
            </p:nvSpPr>
            <p:spPr>
              <a:xfrm>
                <a:off x="1828800" y="4495680"/>
                <a:ext cx="17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BFF-8C32-4B58-B643-1CB4014CCACA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son that we divid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o do with the number of “information units” in the variance.  After estimating the sample mean, there are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observations that 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known (degrees of freed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lso makes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i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tor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F4FE-D375-4FFA-B8E3-29EC7002B991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ndard Devi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root of th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sqrt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sample 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from the data (see formula for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sqrt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population 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ed in the same units as the mean (instead of squared units like the vari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s is not an unbiased estimator of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27B1-4154-4E82-B948-359F96094B4D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ng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  -  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ensitive to extreme observations (outli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4A5-6E92-4AB2-8A0E-B3EB5E080656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erquartile Rang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3-Q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obust than the range to extreme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FA9-FECA-49B3-A6FB-42041DC88EB0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ther Descriptive Measur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and 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ensitive to extreme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ize 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n =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cen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, 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700B-A4E2-4F87-B35F-509BC2B5BC60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mall S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very small samples (e.g., &lt;5 observations), summary statistics are not meaningful.  Simply list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B61-840E-4867-ADE0-63744529C3CB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bability(P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easures the likelihood that an event will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706320" y="2971800"/>
                <a:ext cx="773280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avourabl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s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ses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lies</m:t>
                        </m:r>
                        <m:r>
                          <m:rPr>
                            <m:lit/>
                            <m:nor/>
                          </m:rPr>
                          <m:t xml:space="preserve">between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ility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rPr>
                            <m:lit/>
                            <m:nor/>
                          </m:rPr>
                          <m:t xml:space="preserve">impossible</m:t>
                        </m:r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abilit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rPr>
                            <m:lit/>
                            <m:nor/>
                          </m:rPr>
                          <m:t xml:space="preserve">certain</m:t>
                        </m:r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38A4-7C84-4904-B3EA-7F25C8804682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bability Distribution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ability distribution describes the behavior of the character of interest (called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dentifies possible values of the variable and provides information about the probability that these values (or ranges of values) will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probability distributions  to be considered here are Binomial , Poisson 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738-E485-43EA-95B9-6A3A190E12DD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escribe the Samp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of Central T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of Var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escriptiv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ware that poor samples may provide a distorted view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larger samples a more representative of the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D4F4-4990-4733-B3EB-4779AA97DC7E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asures of Central Tendenc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“center”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of which to use, depend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kay to report more than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C36-DACA-481D-A7BF-DAD51E2A6B95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“average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ata are made up of n observation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an is given by the sum of the observations divided by the number of observations.  For example, if the data ar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, then the mean is (1+2+3)/3=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can calculate the sample mean from the data.  It is often denoted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3352680" y="5257800"/>
                <a:ext cx="2210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908-96B7-4469-BBA5-27B04AC58026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mean is usually unknown (although we try to make inferences about thi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ample mean is an unbiased estimator of the population m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4FF-03B4-4F80-A5F2-408AF6984BEC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di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middle observation” according to its rank in the dat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tion with rank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/2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of observations with ran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)/2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491-D847-4FAD-BFCD-475855C11F8B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di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If a very senior officer is present in the room and we desire assess the income level of all the officers pres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an is more robust than the mean to extreme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are skewed to the right, then the mean &gt; median (in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are skewed to the left, then mean &lt; median (in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are symmetric, then mean=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3506-FD28-4906-BCF4-D0E0E4A513EC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that occurs m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ordinal or nominal data in which there are a limited number of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very useful for contin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measure of central tendency for qualita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8001000" y="640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F7F-E215-4C44-A2C2-3AFFB6283760}" type="slidenum">
              <a:rPr b="0" lang="en-US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asures of Variabil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he “spread” i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mportant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4:20:57Z</dcterms:created>
  <dc:creator>evans</dc:creator>
  <dc:description/>
  <dc:language>en-US</dc:language>
  <cp:lastModifiedBy>Julie</cp:lastModifiedBy>
  <dcterms:modified xsi:type="dcterms:W3CDTF">2010-09-09T10:56:31Z</dcterms:modified>
  <cp:revision>69</cp:revision>
  <dc:subject/>
  <dc:title>PowerPoint Presentation</dc:title>
</cp:coreProperties>
</file>