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BC3-2D76-40A7-8A98-BD9F33AE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E7C-8F26-419A-AB68-12BF1858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082-12FC-4438-AF05-7DE1A75B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445-44D2-4479-8FFF-1FE1F5D9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22D-6496-4331-8D76-450F86AB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571E-2321-4C11-9541-D0C24682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966-4455-4BA9-A547-4EBFEABE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B93D-40BE-4060-AA0D-37B25400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7B81-29D7-4908-9027-F598171F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BF4A-F3F3-4568-89D2-23E8CC7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6D8E-1F0C-45C2-B01B-ADB4A832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D45-6D92-4881-88BF-46EAB407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C53-51B1-4A6F-AF63-279C8D7D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F67A-B876-45C2-AFB0-3F12FBD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EA7-3A15-4569-8E5A-6A544AC1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4C9-BD36-4206-8801-82BB424C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084E-5C1C-4F5C-988B-DAC354CF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FFE-4716-4006-9B9F-0B01501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A67-F1CA-4F57-AE4F-BB944B6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937-092F-419A-8905-760B5595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77B-EEB1-4E5F-8EFD-40086400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46B-4415-46DF-9121-0F39CA7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C02-8D60-4667-AD47-00730E2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EDD-BFC4-4DBA-AE2B-B63B2FA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1961-2BE2-4BD0-84D6-4BD504D62B7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9B2C-B6FC-4F8B-9EFE-41D353DBA1D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RSONAL EFFECT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ORING KE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nter your responses, below after reversing (*) marked on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riginal Responses     0   1   2   3   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evised Responses      4   3   2   1   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elf- Disclosure : *1, *4, *7, *10, 13 =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enness to Feedback:  2, *5, 8, *11, 14 =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Perceptiveness : *3, *6, 9, *12, *15 =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Write L or H in the parenthesis against each of the three total scores; if the total score is 10 or below, write L; if the score is above 10, write 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523880" y="1397160"/>
          <a:ext cx="6705720" cy="4889520"/>
        </p:xfrm>
        <a:graphic>
          <a:graphicData uri="http://schemas.openxmlformats.org/drawingml/2006/table">
            <a:tbl>
              <a:tblPr/>
              <a:tblGrid>
                <a:gridCol w="1752840"/>
                <a:gridCol w="1676160"/>
                <a:gridCol w="1600200"/>
                <a:gridCol w="16765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ELF-DISCLOSUR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OPENNES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O FEEDBACK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ERCEPTIVENESS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SENSI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GOCENTR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OGMAT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SECRE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ASK-OBSESSE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NELY EMPATHI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IGH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INEFFECTIVE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LOW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981080" y="182880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NOWN TO OTH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NKNOWN TO OTH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KNOWN TO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RENA OR PUBLIC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LOSED ARE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UNKNOWN TO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BLIND SELF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ARK AREA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505320" y="365760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5105520"/>
            <a:ext cx="3808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6080" y="95580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JOHARI WINDO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rena or Public Self: This part of an Individual’s behaviour known both to himself and to those with whom he interac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lind Area: Contains those aspects of the person’s behaviour and style that others know but the person himself does not know about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JOHARI WINDO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osed Area: That which known to the person but not revealed to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rk Area: Inaccessible to both self and oth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Arena or Open Space is critical for personal effectiven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rena increases in proportion to the decrease in the blind and the closed are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PEN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lf- disclosure: Sharing with others what others do not seem to know about one’s sel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eedback: Being open to what others say on aspects which one may not be aware o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penness without accompanying sensitivity to others in a situ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 result from insensitivity to the recipients of the communicatio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rceptiven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nsitivity to others’ feelings and non-verbal cues</a:t>
            </a:r>
            <a:br>
              <a:rPr sz="3200"/>
            </a:b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    Leads 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rategic Openness: Determining how much open data flow the system can sta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eceiving Feedbac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egative Feedback creates dissonance with self-image, and may be threatening to the ego, leads to the defensive behavio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fensive Behaviour does not serve the behaviour, may reduce anxiety, the conflict in the self is not resolv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0:10:45Z</dcterms:created>
  <dc:creator>S ROY</dc:creator>
  <dc:description/>
  <dc:language>en-US</dc:language>
  <cp:lastModifiedBy>Kaushik R Ray</cp:lastModifiedBy>
  <dcterms:modified xsi:type="dcterms:W3CDTF">2008-03-18T17:30:03Z</dcterms:modified>
  <cp:revision>8</cp:revision>
  <dc:subject/>
  <dc:title> PERSONAL EFFECTIVENESS</dc:title>
</cp:coreProperties>
</file>