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3C6-D5B2-4417-9AC1-2FC0F955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0D7-DF87-4555-8880-949506BD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AE1-8A56-4619-AE1A-4FFB9971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2E9-FEE2-4FEA-93C4-DA0BBDD8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4444-116A-4476-B716-A84F8427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204-361E-4BEB-8F7A-D8D2B0EF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62D3-8924-4756-BCE5-BC4702C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6D11-7680-4B8F-98B8-9963F521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6013-08F5-4094-A54D-1F0F8B20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D7C-CC65-44F8-96D4-EF41722E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49EE-0D94-4E9C-B337-2F659375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CB8-BAD2-467F-9E47-187129C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D15C-4D56-4121-962B-77636F45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E0BA-4868-4677-9FB9-2884B7E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BAC3-3E78-4D47-B9D8-6EFE106A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B18-9E8C-45F6-A66B-93F010F1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298-7C00-49B5-B075-37DC2A0C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F21-2C91-4081-A1FA-E727ED40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BF0-C6D4-40AD-B457-ADD09EB5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5BF-CC03-4328-B43D-9EE73C8F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45D-E997-4B08-96A0-097ADFEE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57F-A7B1-414B-8E64-A448AB2D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58C-D63A-489F-9491-4E23F55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5BE-D833-4CC8-A2F3-67F052B9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498B-CFF9-4685-95A4-83132B5CEC4B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084-34B7-4619-A0D0-89430694BE6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92340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ents Sensitizatio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osure to people friendly nee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r. Archana Shar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ective ways to connect with your client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use one size fits all approa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pond to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eep it personal, not transact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cus on face-to-face interac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ow with your current clients in mi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w your appreci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3581280" y="5791320"/>
            <a:ext cx="457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Line 4"/>
          <p:cNvSpPr/>
          <p:nvPr/>
        </p:nvSpPr>
        <p:spPr>
          <a:xfrm flipH="1">
            <a:off x="3580920" y="1295280"/>
            <a:ext cx="213372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5715000" y="1295280"/>
            <a:ext cx="243828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267080" y="44956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4724280" y="3429000"/>
            <a:ext cx="2133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257800" y="228600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533520" y="7010280"/>
            <a:ext cx="75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1295280" y="1523520"/>
            <a:ext cx="0" cy="4038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40640" y="3459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ood relationsh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87640" y="552780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or relationsh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5013720" y="48420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5242680" y="36226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5319360" y="2479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o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5926680" y="14130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ti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2047680" y="628956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 CUSTOMER  PYRAM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stomer Relationship Manage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M is referred to a set of strategies, programmes and systems which focuses on identifying and building loyalty with the bank’s most valued customer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ree Goals of CR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uilding Relationshi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ntaining relationshi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hancement of relationshi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eps involved in the CRM proc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thering client data and constructing a client data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alysing client data and identifying target custom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 CRM programmes for the different client seg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implementation of CRM programm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client database must contain the following information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cord of client’s interactions with the Compan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ent preferen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scriptive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do clients complaint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compensati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ent their ange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lp to improve the service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andling Customer Complaints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t quick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mit mistak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w that you understand the problem from the client’s point of 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rgu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knowledge the client’s feeling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ive clients the benefit of doub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rify the steps needed to solve the probl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eep them informed of progr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severe to regain customer goodwi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2960280" y="2784600"/>
            <a:ext cx="225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 of the “Service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angi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epar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ri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rish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3"/>
          <p:cNvSpPr/>
          <p:nvPr/>
        </p:nvSpPr>
        <p:spPr>
          <a:xfrm>
            <a:off x="1981080" y="5029200"/>
            <a:ext cx="4724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Line 4"/>
          <p:cNvSpPr/>
          <p:nvPr/>
        </p:nvSpPr>
        <p:spPr>
          <a:xfrm flipH="1">
            <a:off x="1980720" y="1371600"/>
            <a:ext cx="221004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4191120" y="1371600"/>
            <a:ext cx="251460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497040" y="7272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sul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22240" y="5070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ploye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856120" y="50706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i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583280" y="232740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164560" y="2174760"/>
            <a:ext cx="14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3259080" y="4994280"/>
            <a:ext cx="14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819160" y="1371600"/>
            <a:ext cx="990360" cy="1371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 flipH="1">
            <a:off x="1600200" y="3124080"/>
            <a:ext cx="990720" cy="15242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4648320" y="1447920"/>
            <a:ext cx="609480" cy="838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5715000" y="2971800"/>
            <a:ext cx="1143000" cy="1600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362320" y="533412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4800600" y="533412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132480" y="606096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s Marketing Triang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H="1">
            <a:off x="2209680" y="914400"/>
            <a:ext cx="190512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209680" y="457200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914400"/>
            <a:ext cx="2514600" cy="3657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95120" y="1184400"/>
            <a:ext cx="76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g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336120" y="25560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ddle mg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259080" y="38512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nt line sta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425960" y="560376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aditional Organisational Pyram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1828800" y="4876920"/>
            <a:ext cx="4952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1828800" y="1828800"/>
            <a:ext cx="2209680" cy="3048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038480" y="1828800"/>
            <a:ext cx="2743200" cy="3048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000" y="537516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nverted Pyramid with a Client and Frontline Foc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800440" y="3774960"/>
            <a:ext cx="32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ddle mgt.and top mg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ort the front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641400" y="20988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nt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565440" y="1936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 flipV="1">
            <a:off x="4114800" y="609480"/>
            <a:ext cx="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4114800" y="1066680"/>
            <a:ext cx="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249440" y="80316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 Moments of truth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2"/>
          <p:cNvSpPr/>
          <p:nvPr/>
        </p:nvSpPr>
        <p:spPr>
          <a:xfrm flipV="1">
            <a:off x="3581280" y="28951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 flipV="1">
            <a:off x="4191120" y="297144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 flipV="1">
            <a:off x="4876920" y="29714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ints of Customer Interaction: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setting of the office–exterior, interi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angibles –tools, equipment, furni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ystems –the queue system, process sys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-custom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act employe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ther employees on the line of visi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gnage and other communication material –sign boards, directions, displayed rules and regul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ther facilities –drinking water, toilets, ventil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ments of Tru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moted by Jan Carlson, the CEO of Scandinavian Airli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ied 50,000 daily moments of truth with the custom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26"/>
          <p:cNvSpPr/>
          <p:nvPr/>
        </p:nvSpPr>
        <p:spPr>
          <a:xfrm>
            <a:off x="762120" y="1523880"/>
            <a:ext cx="2057400" cy="4953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1027"/>
          <p:cNvSpPr/>
          <p:nvPr/>
        </p:nvSpPr>
        <p:spPr>
          <a:xfrm>
            <a:off x="6324480" y="1600200"/>
            <a:ext cx="2362320" cy="48769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028"/>
          <p:cNvSpPr/>
          <p:nvPr/>
        </p:nvSpPr>
        <p:spPr>
          <a:xfrm>
            <a:off x="898560" y="8794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1029"/>
          <p:cNvSpPr/>
          <p:nvPr/>
        </p:nvSpPr>
        <p:spPr>
          <a:xfrm>
            <a:off x="6689880" y="8794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stom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1031"/>
          <p:cNvSpPr/>
          <p:nvPr/>
        </p:nvSpPr>
        <p:spPr>
          <a:xfrm>
            <a:off x="822240" y="1565280"/>
            <a:ext cx="207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onal need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lf image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festy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ility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llingness 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tuatio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al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6384600" y="1641600"/>
            <a:ext cx="206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onal nee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lf im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festy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ility 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ticip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llingness 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ticip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ituatio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s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ri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ord of 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Line 1034"/>
          <p:cNvSpPr/>
          <p:nvPr/>
        </p:nvSpPr>
        <p:spPr>
          <a:xfrm>
            <a:off x="2895480" y="1523880"/>
            <a:ext cx="1219320" cy="198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Line 1035"/>
          <p:cNvSpPr/>
          <p:nvPr/>
        </p:nvSpPr>
        <p:spPr>
          <a:xfrm flipV="1">
            <a:off x="2895480" y="3504960"/>
            <a:ext cx="1219320" cy="2971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Line 1036"/>
          <p:cNvSpPr/>
          <p:nvPr/>
        </p:nvSpPr>
        <p:spPr>
          <a:xfrm flipH="1">
            <a:off x="5105520" y="1600200"/>
            <a:ext cx="1218960" cy="19051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1037"/>
          <p:cNvSpPr/>
          <p:nvPr/>
        </p:nvSpPr>
        <p:spPr>
          <a:xfrm flipH="1" flipV="1">
            <a:off x="5105520" y="3504960"/>
            <a:ext cx="1218960" cy="2971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1038"/>
          <p:cNvSpPr/>
          <p:nvPr/>
        </p:nvSpPr>
        <p:spPr>
          <a:xfrm>
            <a:off x="3641760" y="2174760"/>
            <a:ext cx="17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coun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1039"/>
          <p:cNvSpPr/>
          <p:nvPr/>
        </p:nvSpPr>
        <p:spPr>
          <a:xfrm>
            <a:off x="3945960" y="3927600"/>
            <a:ext cx="163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ments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1040"/>
          <p:cNvSpPr/>
          <p:nvPr/>
        </p:nvSpPr>
        <p:spPr>
          <a:xfrm>
            <a:off x="298440" y="-34920"/>
            <a:ext cx="68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NAGEMENT OF MOMENTS OF TR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1042"/>
          <p:cNvSpPr/>
          <p:nvPr/>
        </p:nvSpPr>
        <p:spPr>
          <a:xfrm>
            <a:off x="1219320" y="380880"/>
            <a:ext cx="5790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9:36:21Z</dcterms:created>
  <dc:creator>Archana Sharma</dc:creator>
  <dc:description/>
  <dc:language>en-US</dc:language>
  <cp:lastModifiedBy>archana</cp:lastModifiedBy>
  <dcterms:modified xsi:type="dcterms:W3CDTF">2019-07-09T10:52:30Z</dcterms:modified>
  <cp:revision>42</cp:revision>
  <dc:subject/>
  <dc:title>Marketing in the “Banking Sector”</dc:title>
</cp:coreProperties>
</file>