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BFD7-CFA9-4A2D-9651-DA99CF27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8AAF-283B-475C-B57E-A0DA25D3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9CB-50D5-4776-9F51-8CB63B49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DE6-F753-4882-AC4F-2E6C0147F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8062-06E8-4DD9-B3B9-8E46BC67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A4BC9-DCC9-4AB3-88FB-980D58A5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41E4-6197-4D30-B4FC-765F15DB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A2426-BF08-44B3-A162-29534960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264A-3EB8-44F0-AFD2-B018241E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26FF-7ACB-46C9-BFC0-DBBA806D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93BA-60D0-4185-9700-83546E45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3DF-311F-47C3-80F2-CB8B10EF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E2FF-F8B5-4928-8A2F-DA53DB7B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CAEE-6B94-45BA-97A5-8BA01543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263D-CAB3-483F-8122-9AAEDE37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898D-DCEB-4DDE-A5A5-DAA8ACEA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1ADD-763E-4829-945D-1C53C4F4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A243B-2E38-447C-A78E-83F5A4A04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2C6C6-C325-46D4-B289-0CF1478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FFD1A-1BB1-40AD-9A2E-D40F83024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A5C3-C783-4877-AF33-841E8683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2BB8-B0F7-43DF-A3C7-4F9CF957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CB8-EA41-4803-A864-A85586F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FC7D9-6719-42DD-AD4E-8CA9BB27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D739-2B4C-429F-9D13-FD5D3FD1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E6435-8DA1-42B4-9F79-81D64C34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FD8F-878E-4877-BB46-7828B400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CF9A-DBA5-4782-BFBE-FD86E78C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1077D-C930-4B1B-BC42-6E0268C2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E3DE7-B335-4232-88AC-91048F6E8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D725A-E2DD-41B2-81FD-298BD475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AC3FC-6BBB-4A90-8390-1BE92AED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B0B13-E975-4481-9B01-D4A5CD3CE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C3D-4932-4B17-9B74-47FAA9F5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B38E2-BCE5-4309-B181-6E83D8C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8CF31-AB1B-4CA0-87BC-C3A4A3B6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CA070-3756-4EF6-AF2B-C1A6D2F2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BF886-E0F6-4027-BDAD-24C44143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0BA25-B6CD-4EBD-9537-9C0EA20A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11A7E-5ED4-4C41-A259-23D4D60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47E7C-A195-4A0A-A110-D889A8C2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B5BFB-FB94-4E9F-9F4E-197BCC75F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7E5A-5932-4667-8220-E8CA127C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8212-64D9-4339-90DE-2862FDD7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5F26-8826-4AA7-8073-A2228FCF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59AC3-2647-44A5-84E4-11583675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AE14D-47AE-40BB-B889-669E156C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049A3-2490-4574-BD8D-1E9CB711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5113-A062-4DC7-88DA-CFF93C91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B6E48-CD26-45AC-B507-236B270F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801A0-6D68-41E7-AB4A-A957446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7DD0-0F76-4986-8139-05D8BC90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ADDF9-E748-446C-A907-A031B8D7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14CC8-0B5F-41EB-BA4E-DAD33D81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60DAC-BD63-4A96-A0F9-D4FF4D0E7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821-C882-4A92-B726-0BFFD0E0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19FEA-9F33-4B12-A55F-9602AC695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BFCA2-2B7B-4511-BD79-0F5236A3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C746A-4E84-41AE-8BF4-E1FDA6F7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798C-A315-4CED-9175-570B1B10F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FF68-4E59-4873-B961-AE18AB6C6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D0CA8-2867-45A4-9273-E755261A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EC233-CAA7-45F8-A3CF-07E3B707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C8BDF-501F-4380-AB87-D9CD2F7F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2AA5-B1CC-42DA-A335-F73FB4A8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DC1F-DBEA-46C7-ADDD-8F7049E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28B5-F441-4AA4-A718-75465CB6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0E6B3-8B5B-4D5E-BD77-A2968481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84E1E-1BB6-4893-9C95-BAAFCF62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10C30-32BA-4AA6-9137-80AFFF5F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FD64E-F1F7-4D5B-958C-98AE55C7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F08FC-7BA3-4735-A033-6DD639E8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CB91C-31A8-4180-AC6F-E8D4D769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2EA90-D14F-469D-9D1E-DC8F16BC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F0EAE-EA77-4C98-BD93-231745EE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8BE32-AFF5-4D5B-90C1-B28E8B887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CE560-F883-422F-8949-1882C765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9CCD-72BF-43E0-9538-AFF09F18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A3F80-611A-4B18-B75A-F3FD29DD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1AB9E-B803-4360-BF58-2651B714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F85C1-D644-4672-A6F7-E638F051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7223B-4CDD-42F9-933F-05F3E1CE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F4B7A-67EF-474A-99D0-8DBE5C1C1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A6994-8967-47F4-8C78-01FE8731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0805A-BE56-44E6-AC7F-7BE1D07B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84767-E716-4675-B127-4A3F30C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1047A-31FA-41A6-A691-5B44158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737455-070B-4719-911B-88AC6BAA0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2207-AF5C-480B-9AB4-6FFF0AA7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E9360E-3723-435B-A4E4-78DCFBF3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417D8-8573-4857-AD90-EB7CAE1B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125FE-AAF6-4AC9-BC3B-7D6DCBE6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A3FB2-8782-4643-B853-9BFABD8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DBD498-85F3-4CC0-8C12-F29EBDCB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419E6-9B52-4EF3-A660-E776C5D5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520FC-F089-48E2-982D-737A71A7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B8CF-D920-4060-AA05-CA8FA4F763CA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9DC0-239F-44A8-848E-10D036F5933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05DB-2F5D-438B-8864-C9E7DD27243F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E007D-8D63-4BFC-BCE1-C0AA1A87369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A4A2-F8E9-4B10-9AA2-CA1EAF4B1B9B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dde9ec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EF5-6D22-41C8-888E-2FEA4B472BA0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95F6-8DE9-4055-95A9-25DAA4E58DE4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18E-C16D-4AF5-8064-D5C54664F7A1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9123-4AD4-4CE8-BB23-EBA98E74AC6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0366-AED9-426E-9913-166736BCC8E6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79A0-52DD-4214-825F-B3C67AFA181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6700-6569-44E4-BE08-C0381BD5438C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3CC7-8AA8-4A36-9DAA-CE5088EDAAE1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dde9ec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1D23-E0E0-4605-9FFE-77C3D7B15FAB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191C-CC35-47E6-BF15-7C0C7DAB8FC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Times New Roman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79D6-9365-44C4-995A-7333D2E5B1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240" y="388620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tyle Guid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142640" y="5181480"/>
            <a:ext cx="70102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Special Course on Report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5D459-44A5-47DD-BD44-9D3E7CFF622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1887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the use of abbreviations to a minimum, particularly where they are likely to be unfamiliar to the reader, observe the following rule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bbreviations are potentially an affront to the readers since they are used for your benefits and not h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use abbreviations for bodies which are referred to only a handful of times in a report-the reader will have forgotten what they mean and will have to look back to check u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you must use an abbreviation write the words in full on their first appearance followed by the initials in bracke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ng the changes by referring to ‘the Ministry',' the department', the commission’ et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avoid the using abbreviations in the ‘overview’ and ‘highlights’, particularly if the words in full are explained only in the tex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breviations that can be pronounced do not need the definite article(UNESCO) all other abbreviations do (CAG,GOI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35100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409C2-0018-466C-9089-654E41F560B4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3316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and passive:-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ever possible write actively. Overuse of passive verb is one of the common causes of unclear writi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-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dit examined this account’ and not ‘an examination of this account has been carried out by audit’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ostrophes :-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normal possessive endings after singular words or names that end in “s” like boss’s, Jones'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t after plurals that do not end in “s” like media’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endings on plurals that end in “s” like companies’-including plural names that take a singular verb (e.g.-Reuters’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3564-170C-47F0-B9CE-52D1BDF1D25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itals-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balance needs to be struck between using too many and too few capital letters. Hare there can be no general rule, but two pieces of advice may be give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cular and the general: use a capital for the particular and a small letter for the general. for eg. it is a road leading out of ‘Barakhamba Road’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stency: whatever practice you adopt, be consistent throughout any document you are writing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number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roman numerals (I, II, III…) for chapter number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5393-C42F-476A-9D99-80CD67CE473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s –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put commas in dates. Use any of the following format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M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day 26 M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May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-30 May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May – 5 June  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2-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/5/2003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4A277-74BB-467D-95CB-FAF2805A233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228600" y="91404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start a sentence with a figure; write the number in words instead. use figures for numerals greater than nine and for all numerals that include a decimal point or fracti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words for whole numbers from one to nine. Fractions should be hyphenated (two-third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ll out lakh and crore. Do not use abbreviations for lakh and crore except in tab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mix decimals and fractions : thus use either 3 ½ lakh or 3.5 lakh but not bot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533520" y="533520"/>
            <a:ext cx="7010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FB90-E5A6-44BB-80CB-4CF8C2235826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371240"/>
            <a:ext cx="74674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ber greater than 100 lakh should be expressed in crore and numbers less than 100 lakh in lak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comparison same units to be used eg. Lakh or cro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2000-3000, 2 lakh – 3lakh. But ‘costs rose from Rs.2lakh to Rs.3 lakh’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gures in table and narration should be in same un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commas appropriately while writing figures( 12,34,56,789.99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of figures or words should be uniform for comparison e.g. 2 and 12 or two and twelv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CE9-E8F3-44FE-AB64-1F6161AB2E3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on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font size of 12 in text of report .Even in tables and charts do not use font size of less than 8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age nu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Roman numbers (i , ii , iii,….) for the part of the report containing contents preface and overview of the rep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Use Arabic numbers for the main text and appendices of the report 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ever use alpha-numbers (12A,12B) for page number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79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41F1-E51E-485C-8EDE-CE17509856F2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2193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aragraph numb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ver use alpha-numeric coding (3.2A.1) for paragraph numbers. Also avoid a mix of Roman-Arabic numbers (3.4.iv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Use Arabic numbers for for paragraph numbers. The first digit of the paragraph in Chapter III should be 3.The paragraph and sub-paragraphs should be numbered as (3.1,3.1.1 etc.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 not use 4levels in paragraph numbering (e.g.3.1.2.1,3.1.2.2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ercent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rite  per cent rather than % and percentage rather than % age. A range of values should be expressed as 10-12 per cent ,not 10%-12 or 10 per cent-12 per cent 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4600" indent="-26460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 not use a percentage , a proportion, or a fraction when you mean some, as in ,substantive testing proved worthwhile in a percentage of case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334440"/>
            <a:ext cx="746748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E7A4-81A9-441F-BAC3-EC876338D6E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Prefac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troduction to the report should be titled ‘Preface’ and not ‘Prefatory remarks’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Singular/plura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ere is no rule about whether a verb that agrees with a single collective noun should be singular or plural . However , use ‘a number are’ and ‘the number is’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 using collective nouns , using plural is more suitable when the emphasis is on the individual members and a singular verb when it is on the body as a whole. For e.g. the committee were unable to agree and committee was appointed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o not use a singular verb where two singular nouns are linked by ‘and’ unless the linked words are so closely associated that they might also be hyphenat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conventions (cont.)</a:t>
            </a:r>
            <a:endParaRPr b="0" lang="en-US" sz="2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6B1A4-6793-495B-8027-EA488A50C798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r words linked by ‘with’ use singular verb if the subject is singular. The Minister together with the Secretary is coming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en each is the subject of sentence, the verb is singular and so is any pronoun. For e.g.. Each has a room to himself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ertain nouns are often misused . Remember agenda is singular and  data is plural. Thus it is wrong to write ‘data that is four to twelve years old is of limited us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e IA&amp;AD and Government Departments should always be treated as plural noun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53440" indent="-25344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Purpose of style guide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EACAC-A83A-4383-95E5-425D957AC27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4475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in the style guide is aimed at securing corporate consistency in the reports and at obviating the need for repeated RE-DRAFTING quite often guided by the individual styl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it is issued as means to securing clear simple and easily understable language of our repor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57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intended to supersede the writing flair of the officers of the departmen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980720" y="38098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okman Old Style"/>
              </a:rPr>
              <a:t>Thanks</a:t>
            </a:r>
            <a:endParaRPr b="0" lang="en-US" sz="48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General advice on good writing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FFE8-1E0B-4B6A-A944-B6E27A7B5490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iter should ask himself:-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m I trying to s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ords will express it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mage or ideas would make it clearer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this image fresh enough to have an effect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writing depends on clear thinking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ld I put it more shortl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I said anything that is avoidably ugl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General advice on good writing (contnd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C8A1-6B8B-431F-8150-0A1FE19DF9C3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295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 elementary rules will help us to solve these difficulty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-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clichés and sla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use a long word when a short word will do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t is possible to cut out a word, always cut it ou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ver use a fore in phrase, a scientific word or a jargon word if you can think of a straightforward English equivalent. Use of the language of everyday speech, not that of accountants, computer experts, bureaucrats and lawy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General advice on good writing (contnd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0D8EF-BCBA-40D5-9FBC-6E18E59DB6E9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a desire to impress. Your job is to help readers understand you readily and precisely and not to show them how clever you ar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r best to be lucid. Simple sentences and short paragraphs help to break down slabs of text into manageable chunks. Avoid complicated constructions and gimmick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42660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General advice on good writing (contnd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A66F6-8838-4CB9-9A64-4BD5F1BE2A97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long is long……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 sentences are difficult to constru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nger they get the more risk is of ideas becoming confuse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aders, long sentences are hard wor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ers seem to be comfortable with an average sentence length of 15-20 words in most circumstanc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very short sentence can be useful to punch home an ide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tches the reader’s attention and stops him skimming over important f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hort paragraphs – none should be longer than  a third of a typed pa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ore use of side-headings and give paragraphs minor sub-heading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rafting reports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F23-0522-440B-B67E-BCFC823E855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are the principal means by which the IA &amp; AD meets its primary objective of providing parliament and state legislatures with independent information and assur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yond that for the wider publi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report, meeting these objectives means putting a premium 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 strong, clear report struc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a temptation to include as much as possible of the information and analysis gathered during the investigation to support IA &amp; AD findings and conclu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ng less on narrative descriptions of how things are done and more on why they are done, how well they are controlled and the results achieved 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hard evidence and telling examples to reinforce the messages in the re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ust pay close regard to reporting objectives summarized abov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Drafting reports (contnd.)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12EC-0B10-4276-822A-B9695E98DDA5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orts are the principal means by which the IA &amp; AD meets its primary objective of providing parliament and state legislatures with independent information and assuran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yond that for the wider public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very report, meeting these objectives means putting a premium on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a strong, clear report structur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ing a temptation to include as much as possible of the information and analysis gathered during the investigation to support IA &amp; AD findings and conclusio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ing less on narrative descriptions of how things are done and more on why they are done, how well they are controlled and the results achieved an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hard evidence and telling examples to reinforce the messages in the repo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drafts must pay close regard to reporting objectives summarized abov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A&amp;AD style of reporting</a:t>
            </a:r>
            <a:endParaRPr b="0" lang="en-US" sz="28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7B35-88F4-49D4-A518-7036013C8C8E}" type="slidenum">
              <a:rPr b="0" lang="en-US" sz="1400" spc="-1" strike="noStrike">
                <a:solidFill>
                  <a:srgbClr val="46465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intend to give our readers a comfortable ride, use verbs actively, write short sentences and keep to the essentials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complex the subject, the simpler the style should be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m should be the reports which set out the facts and series of short, crisp paragraphs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ways look critically, your finished work to see if you can answer yes to the following questions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262080" indent="-2620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tructure – Does it have a strong clear framework which presents the material logically and to best effect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262080" indent="-2620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Is it clear – Does it get its main message across on the first reading, will the language be clearly understood by the reader, is it free from jargons.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lvl="1" marL="262080" indent="-262080">
              <a:lnSpc>
                <a:spcPct val="10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Times New Roman"/>
                <a:ea typeface="Times New Roman"/>
              </a:rPr>
              <a:t>Simple and brief - </a:t>
            </a:r>
            <a:endParaRPr b="0" lang="en-US" sz="2000" spc="-1" strike="noStrike">
              <a:solidFill>
                <a:srgbClr val="464653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Footer Placeholder 1"/>
          <p:cNvSpPr/>
          <p:nvPr/>
        </p:nvSpPr>
        <p:spPr>
          <a:xfrm>
            <a:off x="289872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400" spc="-1" strike="noStrike">
                <a:solidFill>
                  <a:srgbClr val="464653"/>
                </a:solidFill>
                <a:latin typeface="Arial"/>
              </a:rPr>
              <a:t>Session 7 : Complying Style Gu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06:58:19Z</dcterms:created>
  <dc:creator>ppg</dc:creator>
  <dc:description/>
  <dc:language>en-US</dc:language>
  <cp:lastModifiedBy>Admin</cp:lastModifiedBy>
  <dcterms:modified xsi:type="dcterms:W3CDTF">2013-12-03T08:56:03Z</dcterms:modified>
  <cp:revision>81</cp:revision>
  <dc:subject/>
  <dc:title>Stylw Guide</dc:title>
</cp:coreProperties>
</file>